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F8E-5BCC-47F6-896D-A11A8705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11F-AAD1-4704-9BEC-8692585B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113-366E-4591-81EE-841C35CA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E18-CA2A-41B9-BA21-EB856207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F95-9485-498C-8A8B-43CADEB2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FF7-BC76-41FA-903D-DEFF494F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F1A-CB3C-4913-9E0C-9D7D8183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7B6-19A8-4418-B722-FEA33259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6FF-1910-46B2-A271-BDC334D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A7B-86F9-44B7-8813-887D721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89B-5F48-4613-9F50-53134A0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6AB-2760-4664-9298-6721FBF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1189-7035-4DCB-9719-5D160DA3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86280" cy="335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DNAPL emplaced @ Sn =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520" y="561960"/>
            <a:ext cx="2962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5972040"/>
            <a:ext cx="43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DNAPL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NAPL distribution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2000" y="957240"/>
            <a:ext cx="6676920" cy="336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6160" y="3790800"/>
            <a:ext cx="1133640" cy="21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05920" y="3800520"/>
            <a:ext cx="61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204480" y="2795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7212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37339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10-07-23T12:56:50Z</dcterms:modified>
  <cp:revision>3</cp:revision>
  <dc:subject/>
  <dc:title>No Slide Title</dc:title>
</cp:coreProperties>
</file>