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FCE-0901-4510-941C-F26BB161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714-52CB-4C42-851A-9380E7C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365-07E7-43A9-A3F9-18600268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C8D-AE78-423C-9426-A0C5DEE1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D49-1B41-4E2F-8D14-208B4E30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A59-D2FA-4A18-A67A-784C0462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320-2FFF-4395-A5EC-0C151F8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003-0578-4DB0-95F1-561599B8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87A-8118-474C-A99A-525078CD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AAD-9B23-4A63-89B3-2981C210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751-8BC3-4DDD-BAF4-C8F9872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8BB-414F-498D-8245-B2C7A29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3F34-05FE-433B-8250-39FB95CE6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969840"/>
            <a:ext cx="6677280" cy="33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772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22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180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70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6716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3960" y="211608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228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852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81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5040" y="5162400"/>
            <a:ext cx="6505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 DEFINITION - DNAPL flood, redistribution, and dis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stress periods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=0 to 100s - inject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&gt; 100s - remove source, allow DNAPL to redistribute/dis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DNAPL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57320" y="976320"/>
            <a:ext cx="6691320" cy="3352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70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23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15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640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68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3680" y="2125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82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960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096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8240" y="5572080"/>
            <a:ext cx="35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225000" y="2606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05440" y="4443480"/>
            <a:ext cx="1000440" cy="216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05840" y="4429080"/>
            <a:ext cx="5047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7480" y="527688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4440" y="4438800"/>
            <a:ext cx="475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57320" y="985680"/>
            <a:ext cx="6696000" cy="335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5591160"/>
            <a:ext cx="31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NAPL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0" y="9907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05880" y="3824280"/>
            <a:ext cx="1000080" cy="216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05920" y="3800520"/>
            <a:ext cx="476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85400" y="2490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94368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40:30Z</dcterms:created>
  <dc:creator>guarnjo1</dc:creator>
  <dc:description/>
  <dc:language>en-US</dc:language>
  <cp:lastModifiedBy>guarnjo1</cp:lastModifiedBy>
  <dcterms:modified xsi:type="dcterms:W3CDTF">2010-07-23T12:56:07Z</dcterms:modified>
  <cp:revision>7</cp:revision>
  <dc:subject/>
  <dc:title>No Slide Title</dc:title>
</cp:coreProperties>
</file>