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161-6224-4DF7-94BB-E85687F0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0EE-1241-47DD-9614-5D9E6715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7CC-F2B9-47A3-B5B9-74D68606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3F7-1BDA-4BE3-912C-5CEF7505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4A7-04A2-43E2-96DC-71A2644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A35-CBAA-4549-AAE4-21CBF507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B1E-BD82-4EEB-9854-9119DFAA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18E-122D-430E-B9B5-4E334E87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95D-6F51-4CB0-8E5D-97F05AF4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4DD-3708-4F09-BA75-5C556968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E79-3DBE-432D-A8BF-8A879617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3FA-5E29-4297-AA3A-C37DA84B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F61C-C628-490B-8156-FE16F190C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33560" y="1224000"/>
            <a:ext cx="6696000" cy="33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459108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7600" y="46004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38240" y="123840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3360" y="97164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to atmospheric pressure + rainfall infiltration = 40 in/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1247760"/>
            <a:ext cx="0" cy="33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63040" y="2409840"/>
            <a:ext cx="0" cy="21715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179640" y="2485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 bou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6905520" y="31712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-1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2080" y="5067360"/>
            <a:ext cx="6496200" cy="15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38400" y="5200560"/>
            <a:ext cx="650556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6 DEFINITION - Air-water extraction with air-water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tress periods 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0 to 50000s - set up flow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50000s  to 200000s - water and gas phase transport with flow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&gt; 200000s - increase well rate and turn off dissolved concentr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0520" y="6219720"/>
            <a:ext cx="4200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shows the S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and V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solution @ 50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3000240"/>
            <a:ext cx="152640" cy="69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038240" y="923760"/>
            <a:ext cx="0" cy="2772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53320" y="1257480"/>
            <a:ext cx="9720" cy="105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2880" y="1257480"/>
            <a:ext cx="0" cy="329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104040" y="2886120"/>
            <a:ext cx="83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28880" y="4915080"/>
            <a:ext cx="667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2200" y="4743360"/>
            <a:ext cx="107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752400"/>
            <a:ext cx="194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 = 1.2 gpm (T = 0 to 200000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 1.67 gpm (T &gt; 200000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7247160" y="16761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62080" y="276120"/>
            <a:ext cx="63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OW BOUNDARY CONDITIONS AND SOLUTION AT T = 50000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067600" y="1047600"/>
            <a:ext cx="495360" cy="181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915320" y="819000"/>
            <a:ext cx="8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ter s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2000" y="1233360"/>
            <a:ext cx="6667560" cy="3367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38240" y="123840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4640" y="885960"/>
            <a:ext cx="45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rd-type for the gas species (boundary layer = 0.5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38240" y="1247760"/>
            <a:ext cx="0" cy="33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63040" y="2409840"/>
            <a:ext cx="0" cy="21715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7086600" y="2985480"/>
            <a:ext cx="20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bility limit for water species = 1100 ppm until 200000s when set to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5320" y="4962600"/>
            <a:ext cx="6848640" cy="14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760" y="4981680"/>
            <a:ext cx="70678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6 Transport parameter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tress periods 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0 to 50000s - no contaminant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50000s  to 200000s - constant water concentration (1100 ppm) enters right bou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&gt; 200000s - turn off dissolved concentr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61920" y="3000240"/>
            <a:ext cx="152640" cy="69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038240" y="1028880"/>
            <a:ext cx="0" cy="2666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53320" y="1257480"/>
            <a:ext cx="9720" cy="105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3440" y="457200"/>
            <a:ext cx="63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 BOUNDARY CONDITIONS AND SOLUTION AT T = 125000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81760" y="571680"/>
            <a:ext cx="10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 [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19160" y="4581360"/>
            <a:ext cx="6781680" cy="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934400" y="824040"/>
            <a:ext cx="857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90600" y="1690560"/>
            <a:ext cx="4762800" cy="3552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10440" y="2000160"/>
            <a:ext cx="495360" cy="1809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58160" y="1771560"/>
            <a:ext cx="8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ter s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4000" y="120960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imation of the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olution (double-click on fig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0600" y="1652760"/>
            <a:ext cx="4762800" cy="35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62920" y="2185920"/>
            <a:ext cx="857160" cy="1514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58160" y="1895400"/>
            <a:ext cx="107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 [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20960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imation of the dissolved water concentration solution (double-click on fig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90600" y="1652760"/>
            <a:ext cx="4762800" cy="3552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05760" y="2038320"/>
            <a:ext cx="904680" cy="1657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115040" y="1752480"/>
            <a:ext cx="10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 [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20960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imation of the vapor concentration solution (double-click on fig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1:40:30Z</dcterms:created>
  <dc:creator>guarnjo1</dc:creator>
  <dc:description/>
  <dc:language>en-US</dc:language>
  <cp:lastModifiedBy>guarnjo1</cp:lastModifiedBy>
  <dcterms:modified xsi:type="dcterms:W3CDTF">2000-09-27T12:47:57Z</dcterms:modified>
  <cp:revision>12</cp:revision>
  <dc:subject/>
  <dc:title>No Slide Title</dc:title>
</cp:coreProperties>
</file>