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CA2-3741-4A69-8E80-E0D7E4BF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F63-A085-4DFF-9A85-8076CF5B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DCA-9282-456B-9837-9CFC26CD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768-EC58-47C9-8544-0F06318F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75F-2404-441A-BB6B-F415AD3F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857-E2DF-4248-A42F-D528FB02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AD9-D82F-49D7-89A8-9790EE71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181-ED6E-4073-9BEC-B4181A25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C85-11C3-4349-AE45-B5D437BD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22B-6A5F-4C18-B7DD-2FF43B3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ACA-3D35-4910-9BD9-BB3A922D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482-916A-44D3-B0EF-F4F7E0EA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10B1-569E-4B07-AD0A-D82D039E3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33560" y="1224000"/>
            <a:ext cx="6696000" cy="33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459108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7600" y="46004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38240" y="123840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3360" y="97164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to atmospheric pressure + rainfall infiltration = 40 in/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1247760"/>
            <a:ext cx="0" cy="33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63040" y="2409840"/>
            <a:ext cx="0" cy="21715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179640" y="2485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 bou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6905520" y="31712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-1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2080" y="5067360"/>
            <a:ext cx="6496200" cy="15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38400" y="5200560"/>
            <a:ext cx="650556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6 DEFINITION - Air-water extraction with air-water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tress periods 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0 to 50000s - set up flow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50000s  to 200000s - water and gas phase transport with flow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&gt; 200000s - increase well rate and turn off dissolved concentr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0520" y="6219720"/>
            <a:ext cx="4200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shows the S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and V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solution @ 50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3000240"/>
            <a:ext cx="152640" cy="69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038240" y="923760"/>
            <a:ext cx="0" cy="2772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53320" y="1257480"/>
            <a:ext cx="9720" cy="105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2880" y="1257480"/>
            <a:ext cx="0" cy="329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104040" y="2886120"/>
            <a:ext cx="83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28880" y="4915080"/>
            <a:ext cx="667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2200" y="4743360"/>
            <a:ext cx="107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752400"/>
            <a:ext cx="194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 = 1.2 gpm (T = 0 to 200000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 1.67 gpm (T &gt; 200000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7247160" y="16761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62080" y="276120"/>
            <a:ext cx="63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OW BOUNDARY CONDITIONS AND SOLUTION AT T = 50000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067600" y="1047600"/>
            <a:ext cx="495360" cy="181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915320" y="819000"/>
            <a:ext cx="8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ter s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2000" y="1233360"/>
            <a:ext cx="6667560" cy="3367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38240" y="123840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4640" y="885960"/>
            <a:ext cx="45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rd-type for the gas species (boundary layer = 0.5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38240" y="1247760"/>
            <a:ext cx="0" cy="33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63040" y="2409840"/>
            <a:ext cx="0" cy="21715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7086600" y="2985480"/>
            <a:ext cx="20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bility limit for water species = 1100 ppm until 200000s when set to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5320" y="4962600"/>
            <a:ext cx="6848640" cy="14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760" y="4981680"/>
            <a:ext cx="70678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6 Transport parameter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tress periods 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0 to 50000s - no contaminant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50000s  to 200000s - constant water concentration (1100 ppm) enters right bou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&gt; 200000s - turn off dissolved concentr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61920" y="3000240"/>
            <a:ext cx="152640" cy="69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038240" y="1028880"/>
            <a:ext cx="0" cy="2666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53320" y="1257480"/>
            <a:ext cx="9720" cy="105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3440" y="457200"/>
            <a:ext cx="63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 BOUNDARY CONDITIONS AND SOLUTION AT T = 125000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81760" y="571680"/>
            <a:ext cx="10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 [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19160" y="4581360"/>
            <a:ext cx="6781680" cy="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934400" y="824040"/>
            <a:ext cx="857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90600" y="1690560"/>
            <a:ext cx="4762800" cy="3552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10440" y="2000160"/>
            <a:ext cx="495360" cy="1809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58160" y="1771560"/>
            <a:ext cx="8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ter s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4000" y="120960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imation of the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olution (double-click on fig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0600" y="1652760"/>
            <a:ext cx="4762800" cy="35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62920" y="2185920"/>
            <a:ext cx="857160" cy="1514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58160" y="1895400"/>
            <a:ext cx="107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 [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20960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imation of the dissolved water concentration solution (double-click on fig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90600" y="1652760"/>
            <a:ext cx="4762800" cy="3552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05760" y="2038320"/>
            <a:ext cx="904680" cy="1657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115040" y="1752480"/>
            <a:ext cx="10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 [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20960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imation of the vapor concentration solution (double-click on fig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1:40:30Z</dcterms:created>
  <dc:creator>guarnjo1</dc:creator>
  <dc:description/>
  <dc:language>en-US</dc:language>
  <cp:lastModifiedBy>guarnjo1</cp:lastModifiedBy>
  <dcterms:modified xsi:type="dcterms:W3CDTF">2000-09-27T12:47:57Z</dcterms:modified>
  <cp:revision>12</cp:revision>
  <dc:subject/>
  <dc:title>No Slide Title</dc:title>
</cp:coreProperties>
</file>