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EB9-E752-40FA-A489-2904D5ED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244-6375-475D-9C41-6E1FC06A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6AC-BE15-4E7A-A071-B07FFB81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A36-04EC-45A7-83D0-0B643C69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4B5-5CDD-4AE5-AD81-B0DF11A6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C10-9EED-4498-8225-B03EB58B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FF2-F5EE-48E4-93DF-053D2E3C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C93-2834-40AF-B48C-D6CAF33F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BD1-2500-42E8-83F2-5AACF000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7C7-B778-441C-B0FC-4173245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E5D-E404-47C9-9021-F519172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BB5-6B5B-4B9C-A41C-A0DCD0CC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AB2A-629A-486F-9672-2C2C5FCD4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5904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ntration = 1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71680"/>
            <a:ext cx="296244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– Transport of a dense miscible liquid [density = 2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1920" y="5972040"/>
            <a:ext cx="51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Initial Condition for miscible compound (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24680" y="3276720"/>
            <a:ext cx="648000" cy="2162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6629400" cy="334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4314960" y="856800"/>
            <a:ext cx="64764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4360" y="3200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– density-driven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ncentration distribution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3328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924680" y="3276720"/>
            <a:ext cx="648000" cy="216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514360" y="3200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3:38:36Z</dcterms:created>
  <dc:creator>guarnjo1</dc:creator>
  <dc:description/>
  <dc:language>en-US</dc:language>
  <cp:lastModifiedBy>guarnjo1</cp:lastModifiedBy>
  <dcterms:modified xsi:type="dcterms:W3CDTF">2010-07-23T13:03:22Z</dcterms:modified>
  <cp:revision>4</cp:revision>
  <dc:subject/>
  <dc:title>No Slide Title</dc:title>
</cp:coreProperties>
</file>