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CBC-76B8-4EE8-BE2E-31F1B28A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B6C-1948-492F-A38E-4FE551B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C29-EBB1-4E5C-8EB6-7248BA33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86D-4CAB-4AEB-88C9-7BB6A4A3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C75-581B-4F24-AF80-06889DA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E12-9008-4782-B056-0B5AB8BC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032-475D-4D14-99E1-289FBD7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392-2A9F-4015-87A5-DE16B164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FC0-F8BC-4589-A534-4A192B5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8CA-EEB8-4B33-B166-8709394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422-4B9E-4E05-ADC0-4E5AD0D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682-1572-489A-AA2D-821D79C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383-0FD7-410A-BE64-4E40695B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ntration = 1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71680"/>
            <a:ext cx="296244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Transport of a dense miscible liquid [density = 2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1920" y="5972040"/>
            <a:ext cx="51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miscible compound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629400" cy="334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– density-driven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ncentration distribution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332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24680" y="3276720"/>
            <a:ext cx="648000" cy="216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14360" y="3200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3:03:22Z</dcterms:modified>
  <cp:revision>4</cp:revision>
  <dc:subject/>
  <dc:title>No Slide Title</dc:title>
</cp:coreProperties>
</file>