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821-3B39-44D9-BF7E-10E0C8A7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A4B-E021-4590-B88B-7E808E1C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A4A-72D1-40C4-A5CA-BCB40D92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F2E-4965-4665-B777-E0087C95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19F-B91D-4075-A76D-0284272A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53C-4658-466E-B63A-5F245754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297-306C-44DE-8490-F40FE04D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E2A-1617-48E0-A5A2-37536A59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E7A-B2EA-4B5E-89DC-AE3910D2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810-F103-4433-9F64-BD4E7AF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B66-284A-46D6-BBB2-10079FDB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480-D05B-4A3C-85F8-9729867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885E-7791-4B59-9C89-CB96E20FA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86280" cy="335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al DNAPL emplaced @ Sn =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520" y="561960"/>
            <a:ext cx="29620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1920" y="5972040"/>
            <a:ext cx="43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DNAPL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DNAPL distribution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2000" y="957240"/>
            <a:ext cx="6676920" cy="336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96160" y="3790800"/>
            <a:ext cx="1133640" cy="21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05920" y="3800520"/>
            <a:ext cx="61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204480" y="2795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7212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00-08-02T13:40:00Z</dcterms:modified>
  <cp:revision>2</cp:revision>
  <dc:subject/>
  <dc:title>No Slide Title</dc:title>
</cp:coreProperties>
</file>