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9BB-973E-44AE-912A-0E5388BB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B99-FC23-403A-B7C1-4F7231C8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3F3-E460-4D61-97B5-A59F735B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C45-C1B9-42F1-81DC-17E3685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643-F1E4-4D14-B016-4CAA181B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9572-9EE8-4C94-860E-E9F506E3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73F7-807D-4D6E-A1D3-7F06D17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68B-94C9-4F6F-8572-395F13EC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19C-D941-45A4-9533-5186759E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9BC-C4B0-4969-A824-63A3D2A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EC0C-04C0-4B17-8241-296EA05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A24-A611-4E26-B1B7-EC212D1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5FB-AE09-4890-9305-DF71234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39C-2F47-4473-A3BA-C46ACD8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EF50-3A74-40E7-8956-9F66C08C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31DA-4347-4768-AB58-F9817436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884E-812A-4C0C-A93E-0AA41C0A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D8B-C7C4-486E-BAD1-ABDC40DE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2BE-6632-42F4-A6F4-F3FDE5A4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29E-B1AD-4A53-9D0D-D0762B2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C5B-68DF-4BEA-A22A-44468277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C57-EA68-4DFF-82B1-3A79C6D8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27E-5BC8-403B-B49A-06D9299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A10-07B6-47DA-B8D5-7BDD6C0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9322-5408-4365-B15C-893E2F24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3F3B-CD42-4DBA-837F-7A3C405D2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and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960" y="1371600"/>
            <a:ext cx="67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Later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20040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Depth (hydraulic radius),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u*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Shear Velocity, [m/se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23 (long, wide lab flume)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Elder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17 (straight lab flu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Sayre (1973), Sayre and Chang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22 – 0.65, most 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Yotsukura and Cobb(1972), Yotsukura and Sayre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41200" y="23144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der, 195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2096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d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6520" y="1447920"/>
            <a:ext cx="68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ertic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von Karman coefficient, ~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Depth (hydraulic radius),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u*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Shear Velocity, [m/se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5960" y="251460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Jobson and Sayre, 197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28800" y="2243160"/>
                <a:ext cx="335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Lak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6520" y="2286000"/>
            <a:ext cx="7660080" cy="2212200"/>
            <a:chOff x="686520" y="2286000"/>
            <a:chExt cx="7660080" cy="2212200"/>
          </a:xfrm>
        </p:grpSpPr>
        <p:sp>
          <p:nvSpPr>
            <p:cNvPr id="190" name=""/>
            <p:cNvSpPr/>
            <p:nvPr/>
          </p:nvSpPr>
          <p:spPr>
            <a:xfrm>
              <a:off x="686520" y="2286000"/>
              <a:ext cx="668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</a:rPr>
                <a:t>Vertical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Dispersion Coefficient in Lakes, </a:t>
              </a: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bbe0e3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[m</a:t>
              </a:r>
              <a:r>
                <a:rPr b="0" lang="en-US" sz="2400" spc="-1" strike="noStrike" baseline="30000">
                  <a:solidFill>
                    <a:srgbClr val="bbe0e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8280" y="4038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bbe0e3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 =  Depth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5960" y="329076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Jobson and Sayre, 1970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392200" y="3186000"/>
                  <a:ext cx="26067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4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Measure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3520" y="1219320"/>
          <a:ext cx="8229600" cy="4746600"/>
        </p:xfrm>
        <a:graphic>
          <a:graphicData uri="http://schemas.openxmlformats.org/drawingml/2006/table">
            <a:tbl>
              <a:tblPr/>
              <a:tblGrid>
                <a:gridCol w="3276360"/>
                <a:gridCol w="49532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ttahoochee River, 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32.5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quehanna River, 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2.9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ouri River, NB-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465 – 1487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etam Creek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.3 - 25.6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 River, T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.5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ondaga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05 – 0.09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Zurich, 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2 – 0.7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2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63 – 0.0125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5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Hu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.16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yug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2.3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3.47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mplementing Dispersion in WASP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chang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495680" y="3962160"/>
            <a:ext cx="1676160" cy="2133720"/>
          </a:xfrm>
          <a:prstGeom prst="cube">
            <a:avLst>
              <a:gd name="adj" fmla="val 2529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2838600" y="4019400"/>
            <a:ext cx="1676160" cy="2019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5257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60920" y="5257800"/>
            <a:ext cx="4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Dispersion in WAS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981080"/>
            <a:ext cx="121896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5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6668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6668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9760" y="3429000"/>
            <a:ext cx="89935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x identical segments. Each 10m x 10m x 10m in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urely Dispers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eed to set up exchange between each seg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5880" y="1422360"/>
            <a:ext cx="172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0.6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17520" y="1401840"/>
            <a:ext cx="430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0.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gment Structure Set U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ple Toxicant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1/2000 00:00 to 7/1/2000 00: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Step of 0.1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 Interval of 1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segments of 10m x 10m x 1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Conservative Tox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pass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Concentration of 0.6 mg/L in Segme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gment Tab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8400" cy="4133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048120" y="17524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895480"/>
            <a:ext cx="83808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971800"/>
            <a:ext cx="6858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2895480"/>
            <a:ext cx="6858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4343400"/>
            <a:ext cx="304920" cy="1905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419720"/>
            <a:ext cx="685800" cy="1676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4343400"/>
            <a:ext cx="68580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4280" y="624852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et up 6 Wat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6240" y="6095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1000 m</a:t>
            </a:r>
            <a:r>
              <a:rPr b="0" lang="en-US" sz="1800" spc="-1" strike="noStrike" baseline="30000">
                <a:solidFill>
                  <a:srgbClr val="bbe0e3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3840" y="6019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10 m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609480" cy="590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113600" cy="4724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6831000" cy="5114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82760" y="22860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28600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657600"/>
            <a:ext cx="175284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962520"/>
            <a:ext cx="2590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914400"/>
            <a:ext cx="222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urn on “Surface Wa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“Exchange Function” as “Lateral Disper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Exchanges from Segment one to Segm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value as 0.0001 m</a:t>
            </a:r>
            <a:r>
              <a:rPr b="0" lang="en-US" sz="1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752480" y="1143000"/>
            <a:ext cx="518184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00240" y="1981080"/>
            <a:ext cx="21337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76160" y="3581280"/>
            <a:ext cx="5257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943240" y="434304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6960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6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57400" y="1523880"/>
                <a:ext cx="4419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chang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856440" y="2438280"/>
            <a:ext cx="79056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P Structure of Exchanges requ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Dispersion Exchange Coefficient [m2/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oss-section Dispersion Area [m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haracteristic Dispersion Length 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fined as 0.5*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+ 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length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s 1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Area = 100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Distance = 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019160"/>
            <a:ext cx="6799320" cy="51530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733920"/>
            <a:ext cx="76176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733920"/>
            <a:ext cx="76212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81680" cy="5351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79440" y="613260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631800"/>
                <a:tab algn="ctr" pos="2003400"/>
                <a:tab algn="ctr" pos="3375000"/>
                <a:tab algn="ctr" pos="4746600"/>
                <a:tab algn="ctr" pos="6060960"/>
                <a:tab algn="ctr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4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4640" y="2362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4640" y="3352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464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464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180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464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364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-628200" y="33746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ntration [u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: process where a constituent moves from a higher concentration to a lower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: mixing caused by physical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3276720"/>
            <a:ext cx="6172200" cy="1066680"/>
            <a:chOff x="1676520" y="3276720"/>
            <a:chExt cx="6172200" cy="1066680"/>
          </a:xfrm>
        </p:grpSpPr>
        <p:sp>
          <p:nvSpPr>
            <p:cNvPr id="90" name=""/>
            <p:cNvSpPr/>
            <p:nvPr/>
          </p:nvSpPr>
          <p:spPr>
            <a:xfrm>
              <a:off x="1676520" y="3276720"/>
              <a:ext cx="8380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830240" y="3429000"/>
              <a:ext cx="7488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444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134440" y="37335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830240" y="4114800"/>
              <a:ext cx="7488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828080" y="3732120"/>
              <a:ext cx="7452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134440" y="41148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276720"/>
              <a:ext cx="16002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19184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79988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647600" y="38862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267080" y="3962160"/>
              <a:ext cx="748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572000" y="3657600"/>
              <a:ext cx="7776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10480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276720"/>
              <a:ext cx="8380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3276720"/>
              <a:ext cx="16002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77840" y="35049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543080" y="35049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010280" y="4038480"/>
              <a:ext cx="748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47640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010280" y="3504960"/>
              <a:ext cx="7776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54308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2480" y="45720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8880" y="4572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Diffusion: Random motion of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dy Diffusion: Turbulent mixing of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Dispersion: mixing caused by variations in velo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2632" t="6701" r="48843" b="67848"/>
          <a:stretch/>
        </p:blipFill>
        <p:spPr>
          <a:xfrm>
            <a:off x="6705720" y="1752480"/>
            <a:ext cx="1898640" cy="126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0948" t="37692" r="45474" b="33504"/>
          <a:stretch/>
        </p:blipFill>
        <p:spPr>
          <a:xfrm>
            <a:off x="6629400" y="3200400"/>
            <a:ext cx="21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74549" r="37895" b="0"/>
          <a:stretch/>
        </p:blipFill>
        <p:spPr>
          <a:xfrm>
            <a:off x="6083280" y="4987800"/>
            <a:ext cx="30607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6200000">
            <a:off x="4190760" y="1142640"/>
            <a:ext cx="1676520" cy="2133360"/>
          </a:xfrm>
          <a:prstGeom prst="cube">
            <a:avLst>
              <a:gd name="adj" fmla="val 2529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thematical Represen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ck’s First Law of Diff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ous to Fick’s First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533680" y="1199880"/>
            <a:ext cx="1676520" cy="2019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362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4960" y="2362320"/>
            <a:ext cx="4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0"/>
                <a:ext cx="942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4125960"/>
                <a:ext cx="2057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81280" y="5649840"/>
                <a:ext cx="2743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02360" y="586728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ange of Values for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0" y="762120"/>
            <a:ext cx="410688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380880" y="1523880"/>
          <a:ext cx="8550360" cy="4797720"/>
        </p:xfrm>
        <a:graphic>
          <a:graphicData uri="http://schemas.openxmlformats.org/drawingml/2006/table">
            <a:tbl>
              <a:tblPr/>
              <a:tblGrid>
                <a:gridCol w="2779920"/>
                <a:gridCol w="2779560"/>
                <a:gridCol w="299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ical Range [m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ular Dif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bulent Dif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er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Coeffici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295280"/>
          <a:ext cx="7696080" cy="4991400"/>
        </p:xfrm>
        <a:graphic>
          <a:graphicData uri="http://schemas.openxmlformats.org/drawingml/2006/table">
            <a:tbl>
              <a:tblPr/>
              <a:tblGrid>
                <a:gridCol w="4524120"/>
                <a:gridCol w="31719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er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efficient [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ular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cted Sed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1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turbated Sed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s – Vertic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Rivers – 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Rivers – Longitud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aries – Longitud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960840" y="6477120"/>
            <a:ext cx="83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From Schnoor, Environmental Modeling: Fate and Transport of Pollutants in Water, Air, and Soil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termining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ms &amp; 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Neglect Disp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by Calibration or Dy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Salinity data using observed downstream boundary concentration as the forcing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Temperatur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Chlorid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" y="1486080"/>
            <a:ext cx="74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Longitudin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2209680"/>
                <a:ext cx="3581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t xml:space="preserve">⋅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∗</m:t>
                        </m:r>
                      </m:den>
                    </m:f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77120" y="3581280"/>
            <a:ext cx="4940280" cy="2654280"/>
            <a:chOff x="1977120" y="3581280"/>
            <a:chExt cx="4940280" cy="265428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981080" y="358452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u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1977120" y="3581280"/>
              <a:ext cx="4940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Mean Velocity [m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Width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d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Depth (hydraulic radius)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u*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Shear Velocity, [m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Channel Slope [m/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200040" y="5032440"/>
                  <a:ext cx="11430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g</m:t>
                          </m:r>
                          <m:r>
                            <m:t xml:space="preserve">⋅</m:t>
                          </m:r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"/>
          <p:cNvSpPr/>
          <p:nvPr/>
        </p:nvSpPr>
        <p:spPr>
          <a:xfrm>
            <a:off x="5640480" y="25146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Fischer, et al., 197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41:10Z</dcterms:created>
  <dc:creator>CKNIGHTES</dc:creator>
  <dc:description/>
  <dc:language>en-US</dc:language>
  <cp:lastModifiedBy>RAMBROSE</cp:lastModifiedBy>
  <dcterms:modified xsi:type="dcterms:W3CDTF">2005-11-15T18:07:17Z</dcterms:modified>
  <cp:revision>17</cp:revision>
  <dc:subject/>
  <dc:title>Dispersion</dc:title>
</cp:coreProperties>
</file>