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F63-0678-466C-9B67-AFF48355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736-22FA-4BFC-8AD6-1C735426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BDBD-F2E3-43BF-9E4B-B90B6728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A62-0F4F-49E0-A3AC-A2D0523C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812-CBAE-46DB-AB65-DEB56C97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810-3D2C-4D54-9FD2-95097659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ADA-270C-4A02-A61C-D9C60D3A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724-7855-4E60-8B0E-9BEE2F46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9FA-6F8F-4DD6-8B0E-8760BBF6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EEF-2035-423C-8531-412D8620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809-6D3D-48F7-A553-F394C48B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68D-B2B6-41FE-8AA7-65A50204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7EB7-627F-4266-B212-DF8A842E9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184560" y="1676520"/>
          <a:ext cx="30146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4560" y="1676520"/>
                    <a:ext cx="30146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51040" y="392040"/>
          <a:ext cx="564336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1040" y="392040"/>
                    <a:ext cx="564336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3:51:41Z</dcterms:created>
  <dc:creator>mhusk</dc:creator>
  <dc:description/>
  <dc:language>en-US</dc:language>
  <cp:lastModifiedBy>mhusk</cp:lastModifiedBy>
  <dcterms:modified xsi:type="dcterms:W3CDTF">2009-07-09T13:52:12Z</dcterms:modified>
  <cp:revision>1</cp:revision>
  <dc:subject/>
  <dc:title>Slide 1</dc:title>
</cp:coreProperties>
</file>