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5"/>
          </p:nvPr>
        </p:nvSpPr>
        <p:spPr>
          <a:xfrm>
            <a:off x="365760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388880" y="914400"/>
            <a:ext cx="4545000" cy="34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26"/>
          </p:nvPr>
        </p:nvSpPr>
        <p:spPr>
          <a:xfrm>
            <a:off x="488520" y="8735760"/>
            <a:ext cx="34736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27"/>
          </p:nvPr>
        </p:nvSpPr>
        <p:spPr>
          <a:xfrm>
            <a:off x="4114800" y="8735760"/>
            <a:ext cx="271152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1DC95B11-62FA-49D4-9F7B-BC369997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FA78B619-58D8-445A-B6A9-C7B0D5143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will outline the steps a lead dust sampling technician must take from start to finish when conducting an examination. This chapter includes five activities to help practice implementing the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chapter, students will be able to demonstrate that they c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ppropriate sampling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lead dust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284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0092563E-BA03-4331-813E-B2001CBFF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7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89240" y="914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74880" y="4562280"/>
            <a:ext cx="5365440" cy="2981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ctivity 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Now that the sampling locations have been determined, you will take samples on a variety of surfaces – windowsills, troughs, and floo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Header Placeholder 3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ooter Placeholder 4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EA8F942D-46E8-4710-B93F-AF029D93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384200" y="914400"/>
            <a:ext cx="4543560" cy="34084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90360" y="4572000"/>
            <a:ext cx="5365800" cy="4317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ults and Report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alyzing the data, follow the guidelines provided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EPA/HUD lead dust clearance standards when evaluating sample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4114800" y="8736120"/>
            <a:ext cx="27115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4693C792-0C15-41E5-9325-445A8512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7"/>
          <p:cNvSpPr/>
          <p:nvPr/>
        </p:nvSpPr>
        <p:spPr>
          <a:xfrm>
            <a:off x="488880" y="8736120"/>
            <a:ext cx="3473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Header Placeholder 8"/>
          <p:cNvSpPr/>
          <p:nvPr/>
        </p:nvSpPr>
        <p:spPr>
          <a:xfrm>
            <a:off x="488880" y="5428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:  Putting the Skill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6ECE6878-8AA0-4B60-917C-C482C4FF5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DF3751D9-245A-43A8-8C4A-CF9BD2DA4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71544F82-3350-4E96-B882-76B9AA836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D5D212C4-6AB0-4FDF-9496-ACC362389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881A6B19-15D3-4B20-81FF-6C6EEF28D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8BCB992E-268A-4BEF-BADB-DC7678DEF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92571820-6505-4BB5-ADD9-7BFB59747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E191956E-CD5B-42A2-B57F-0F79534C4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F2BC6256-4834-449D-9BCE-1226C3E9C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9E5758B7-B8C0-4A9D-B596-F14862CDA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AF97FC25-BC04-497B-BD10-55FB9F4A7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</a:t>
            </a:r>
            <a:fld id="{E19236C0-2E07-44C4-9710-F7B3949BD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apter 6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tting the Skills Togeth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the skills taught in the class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appropriate sampling lo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lead dust sample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ing Resul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jectives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 1: Where To Take Sample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1600200" y="22096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Content Placeholder 2"/>
          <p:cNvSpPr/>
          <p:nvPr/>
        </p:nvSpPr>
        <p:spPr>
          <a:xfrm>
            <a:off x="1295280" y="1905120"/>
            <a:ext cx="708660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now going to practice sampling area strateg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instructor will provide you with a hypothetical renovation scenario and di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cenario and mark the location(s) of where you think dust wipe samples should be tak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Remember…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trategic about laying out sampling area to capture areas were the highest dust generating tasks occurred during the job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eld Gu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Chapter 3 to determine the appropriate places to take your samples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 2: Dust Wipe Sampling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295280" y="1905120"/>
            <a:ext cx="731520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now going to practice taking dust wipe samples agai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must demonstrate proficiency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your instructor’s directions for taking sampl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 3: Interpreting the Result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instructor will provide you with laboratory results to interpret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PA lead dust clearance standards for guidanc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s: &lt; 10 µg/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window sills: &lt; 100 µg/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troughs: &lt; 400 µg/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Brisse, Claire</cp:lastModifiedBy>
  <cp:lastPrinted>2000-06-30T16:23:00Z</cp:lastPrinted>
  <dcterms:modified xsi:type="dcterms:W3CDTF">2021-02-24T13:52:15Z</dcterms:modified>
  <cp:revision>254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Description">
    <vt:lpwstr/>
  </property>
  <property fmtid="{D5CDD505-2E9C-101B-9397-08002B2CF9AE}" pid="3" name="Creator">
    <vt:lpwstr/>
  </property>
  <property fmtid="{D5CDD505-2E9C-101B-9397-08002B2CF9AE}" pid="4" name="Document Creation Date">
    <vt:lpwstr>2021-02-24T08:51:23Z</vt:lpwstr>
  </property>
  <property fmtid="{D5CDD505-2E9C-101B-9397-08002B2CF9AE}" pid="5" name="Document Type">
    <vt:lpwstr/>
  </property>
  <property fmtid="{D5CDD505-2E9C-101B-9397-08002B2CF9AE}" pid="6" name="EPA Contributor">
    <vt:lpwstr/>
  </property>
  <property fmtid="{D5CDD505-2E9C-101B-9397-08002B2CF9AE}" pid="7" name="EPA Office">
    <vt:lpwstr/>
  </property>
  <property fmtid="{D5CDD505-2E9C-101B-9397-08002B2CF9AE}" pid="8" name="EPA Related Documents">
    <vt:lpwstr/>
  </property>
  <property fmtid="{D5CDD505-2E9C-101B-9397-08002B2CF9AE}" pid="9" name="EPA Subject">
    <vt:lpwstr/>
  </property>
  <property fmtid="{D5CDD505-2E9C-101B-9397-08002B2CF9AE}" pid="10" name="External Contributor">
    <vt:lpwstr/>
  </property>
  <property fmtid="{D5CDD505-2E9C-101B-9397-08002B2CF9AE}" pid="11" name="Identifier">
    <vt:lpwstr/>
  </property>
  <property fmtid="{D5CDD505-2E9C-101B-9397-08002B2CF9AE}" pid="12" name="Language">
    <vt:lpwstr>English</vt:lpwstr>
  </property>
  <property fmtid="{D5CDD505-2E9C-101B-9397-08002B2CF9AE}" pid="13" name="Record">
    <vt:lpwstr>Shared</vt:lpwstr>
  </property>
  <property fmtid="{D5CDD505-2E9C-101B-9397-08002B2CF9AE}" pid="14" name="Rights">
    <vt:lpwstr/>
  </property>
  <property fmtid="{D5CDD505-2E9C-101B-9397-08002B2CF9AE}" pid="15" name="TaxCatchAll">
    <vt:lpwstr/>
  </property>
  <property fmtid="{D5CDD505-2E9C-101B-9397-08002B2CF9AE}" pid="16" name="TaxKeyword">
    <vt:lpwstr/>
  </property>
  <property fmtid="{D5CDD505-2E9C-101B-9397-08002B2CF9AE}" pid="17" name="TaxKeywordTaxHTField">
    <vt:lpwstr/>
  </property>
  <property fmtid="{D5CDD505-2E9C-101B-9397-08002B2CF9AE}" pid="18" name="_Coverage">
    <vt:lpwstr/>
  </property>
  <property fmtid="{D5CDD505-2E9C-101B-9397-08002B2CF9AE}" pid="19" name="_Source">
    <vt:lpwstr/>
  </property>
  <property fmtid="{D5CDD505-2E9C-101B-9397-08002B2CF9AE}" pid="20" name="_ip_UnifiedCompliancePolicyProperties">
    <vt:lpwstr/>
  </property>
  <property fmtid="{D5CDD505-2E9C-101B-9397-08002B2CF9AE}" pid="21" name="_ip_UnifiedCompliancePolicyUIAction">
    <vt:lpwstr/>
  </property>
  <property fmtid="{D5CDD505-2E9C-101B-9397-08002B2CF9AE}" pid="22" name="e3f09c3df709400db2417a7161762d62">
    <vt:lpwstr/>
  </property>
  <property fmtid="{D5CDD505-2E9C-101B-9397-08002B2CF9AE}" pid="23" name="j747ac98061d40f0aa7bd47e1db5675d">
    <vt:lpwstr/>
  </property>
</Properties>
</file>