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hdr"/>
          </p:nvPr>
        </p:nvSpPr>
        <p:spPr>
          <a:xfrm>
            <a:off x="46800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9"/>
          </p:nvPr>
        </p:nvSpPr>
        <p:spPr>
          <a:xfrm>
            <a:off x="3498840" y="372960"/>
            <a:ext cx="303048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Img"/>
          </p:nvPr>
        </p:nvSpPr>
        <p:spPr>
          <a:xfrm>
            <a:off x="1144440" y="734760"/>
            <a:ext cx="4710240" cy="35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ftr" idx="20"/>
          </p:nvPr>
        </p:nvSpPr>
        <p:spPr>
          <a:xfrm>
            <a:off x="46800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 type="sldNum" idx="21"/>
          </p:nvPr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E3D37839-B743-4383-9965-1AD8A4524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6836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46836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57F2FDEB-8874-4E37-A794-44AE51366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4440" y="735120"/>
            <a:ext cx="4710240" cy="35319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46836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6836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0AAD4746-D1F2-47D6-B5C1-D88465DF0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8080" y="735120"/>
            <a:ext cx="4784760" cy="3587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e chapter, students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key contents of a complete lead dust clearance test rep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ays to make the report easy to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 appropriately to questions that clients may ask upon receiving their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46836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46836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B5E2413B-1DD3-419D-8047-04D86DCFB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1560" y="735120"/>
            <a:ext cx="4709880" cy="3531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six elements of the Lead Dust Clearance Test Re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nk forms that can be used for the Cover Page, Summary of Sampling Results, and Visual Inspection Results are provided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endix 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is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py of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novate Right: Important Lead Hazard Information for Families, Child Care Providers and Scho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mphlet is also included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endix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4440" y="735120"/>
            <a:ext cx="4710240" cy="35319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UD has more extensive visual inspections requirements, than does the EPA rule, HUD requires more information regarding the details of a lead dust clearance test repor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4440" y="735120"/>
            <a:ext cx="4710240" cy="35319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UD has more extensive visual inspections requirements, than does the EPA rule, HUD requires more information regarding the details of a lead dust clearance test repor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6836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46836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28762DC0-FA0D-4BE4-8FA9-8B854A95A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1560" y="735120"/>
            <a:ext cx="4709880" cy="3531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68360" y="379440"/>
            <a:ext cx="4343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: Writing and Delivering the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468360" y="8427960"/>
            <a:ext cx="3322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Dust Sampling Technician Training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63880" y="8427960"/>
            <a:ext cx="266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DF21DFD5-7389-402B-B7D3-92CEC86BE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1560" y="735120"/>
            <a:ext cx="4709880" cy="35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339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505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5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84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4674A445-D67C-4974-BAEB-A36EB8150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A1FB8E15-7C51-4C8D-89B2-1125A9B95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EC10C85A-C3FE-4B04-9133-47D879AFE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75468307-A03C-4839-9534-44FE32BEA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88681D24-5C0F-40F0-9103-1728CB5EF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FE2F7633-A6AF-4F7D-96E6-5856B9A92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3DF81BA3-83EA-4EC0-8A0F-906EF284A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4341377E-C906-42FA-BF88-75E125EEC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1905120" y="601992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447920" y="5791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Lead Dust Samplin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1" descr="HUD 2.JPG"/>
          <p:cNvPicPr/>
          <p:nvPr/>
        </p:nvPicPr>
        <p:blipFill>
          <a:blip r:embed="rId2"/>
          <a:stretch/>
        </p:blipFill>
        <p:spPr>
          <a:xfrm>
            <a:off x="76201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2" descr="EPA.JPG"/>
          <p:cNvPicPr/>
          <p:nvPr/>
        </p:nvPicPr>
        <p:blipFill>
          <a:blip r:embed="rId3"/>
          <a:stretch/>
        </p:blipFill>
        <p:spPr>
          <a:xfrm>
            <a:off x="685800" y="5943600"/>
            <a:ext cx="1270080" cy="3808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6"/>
          <p:cNvSpPr/>
          <p:nvPr/>
        </p:nvSpPr>
        <p:spPr>
          <a:xfrm>
            <a:off x="693432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fld id="{D2CE6FFE-90DF-414F-AFEC-6E175ED5F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hapter 5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riting the Repor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items that make up a complete lead dust clearance test repor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report easy for the client to understan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tents of Report – EPA RRP 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Pag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Sampling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Inspection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ry Analytical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ovate Right Pamphle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85716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tents of Report – HUD LSHR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of property and if multifamily, specific units and common areas affecte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of clearance exa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, address and signature of person performing clearance including certification numb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inspection resul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tents of Report – HUD LSHR (Cont.) </a:t>
            </a:r>
            <a:endParaRPr b="1" lang="en-US" sz="32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 sampling resul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nd address of each laboratory that analyzed sampl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nd completion dates of work perform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written description of methods used during work and specific, detailed locations where work occurr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il hazards are corrected, description of locatio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ctivity: Writing the Report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hment 5-A and 5-B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blank and completed Lead Dust Clearance repor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33cc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ems that make up a complete lead dust clearance test repor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ke a report easy for a client to understan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6:08:14Z</dcterms:created>
  <dc:creator>Amy Mortimer</dc:creator>
  <dc:description/>
  <dc:language>en-US</dc:language>
  <cp:lastModifiedBy>mhenshal</cp:lastModifiedBy>
  <cp:lastPrinted>2000-06-30T16:30:52Z</cp:lastPrinted>
  <dcterms:modified xsi:type="dcterms:W3CDTF">2009-04-13T14:59:43Z</dcterms:modified>
  <cp:revision>152</cp:revision>
  <dc:subject/>
  <dc:title>Module 2:  Planning Your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x0020_Type">
    <vt:lpwstr/>
  </property>
  <property fmtid="{D5CDD505-2E9C-101B-9397-08002B2CF9AE}" pid="3" name="EPA_x0020_Subject">
    <vt:lpwstr/>
  </property>
  <property fmtid="{D5CDD505-2E9C-101B-9397-08002B2CF9AE}" pid="4" name="TaxCatchAll">
    <vt:lpwstr/>
  </property>
  <property fmtid="{D5CDD505-2E9C-101B-9397-08002B2CF9AE}" pid="5" name="TaxKeyword">
    <vt:lpwstr/>
  </property>
  <property fmtid="{D5CDD505-2E9C-101B-9397-08002B2CF9AE}" pid="6" name="TaxKeywordTaxHTField">
    <vt:lpwstr/>
  </property>
  <property fmtid="{D5CDD505-2E9C-101B-9397-08002B2CF9AE}" pid="7" name="e3f09c3df709400db2417a7161762d62">
    <vt:lpwstr/>
  </property>
  <property fmtid="{D5CDD505-2E9C-101B-9397-08002B2CF9AE}" pid="8" name="j747ac98061d40f0aa7bd47e1db5675d">
    <vt:lpwstr/>
  </property>
</Properties>
</file>