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488880" y="393480"/>
            <a:ext cx="454176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9"/>
          </p:nvPr>
        </p:nvSpPr>
        <p:spPr>
          <a:xfrm>
            <a:off x="3657600" y="385560"/>
            <a:ext cx="31687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218960" y="759960"/>
            <a:ext cx="4878360" cy="365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0"/>
          </p:nvPr>
        </p:nvSpPr>
        <p:spPr>
          <a:xfrm>
            <a:off x="488520" y="872784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1"/>
          </p:nvPr>
        </p:nvSpPr>
        <p:spPr>
          <a:xfrm>
            <a:off x="4038480" y="8727840"/>
            <a:ext cx="27878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5E41E876-2B2D-4259-90FE-3CD1119F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88880" y="8728200"/>
            <a:ext cx="4997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88880" y="8728200"/>
            <a:ext cx="4616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76032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final del capítulo, los alumnos podrán hacer lo sigui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cer una lista de los contenidos clave de un report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de prueba de aprobación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bir las formas en que se puede facilitar la lectur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234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sponder debidamente a las preguntas que hacen los clientes después de recibir su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stos son los seis elementos del Reporte de pruebas de aprobación de polvo con plo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 formularios en blanco que se pueden usar para la Portada, Resumen de los resultados de muestreo y Resultados de inspección visual se proporcionan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 este cur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mbién se incluye una copia del follet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r correctamente: Información importante para familias, proveedores de cuidado infantil y escuelas acerca del peligro del plom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 e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éndic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xhaustivo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1932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bido a que el HUD incluye unos requisitos de inspección visual más extensivos que la regla de la EPA, el HUD requiere información adicional referente a los detalles del reporte de prueba de aprobación de polvo con plom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88880" y="8728200"/>
            <a:ext cx="5607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88880" y="8728200"/>
            <a:ext cx="5454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88880" y="393840"/>
            <a:ext cx="4541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ítulo 5: Redacción y entrega del re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488880" y="8728200"/>
            <a:ext cx="5454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so de capacitación para técnicos de muestreo de polvo con plo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4038480" y="8728200"/>
            <a:ext cx="27878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16080" y="760320"/>
            <a:ext cx="4878360" cy="3659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9616-51D6-42D5-B282-5AF5B3B9269C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BDDDBA26-5D05-4F72-B4B5-AB59D069D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765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écnico de muestreo de polvo con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ctubre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F250C83F-388D-4DA3-8A61-17E26824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2C25-0444-41ED-B1D8-7EF79FBAB982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042CB247-AE98-462F-885D-AF23A7470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01F3-2A88-4E74-AAC5-F5DC417103A1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FDA57455-2F7C-432A-97EC-FCEB9E23C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2C35-58F6-4D1D-B1FF-27865A166590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54E02DF4-DBB5-4153-BA0D-4ED78AAA6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45C3-3489-4A08-9E08-61162B79D928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72E195D0-B6E3-49BB-9CAD-0515B63EF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572E-7D63-4988-B5BC-67DFC4D374E2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9E224D71-B567-4FE6-9411-483859D9C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16F7-77DA-4310-B3DA-B9DC45606C25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80DD4CD5-AC03-467B-B383-0E93FB7D7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8179-65CD-4F67-B04F-479E3AC0C5F9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9D719913-B2F0-430C-B158-727A48329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A39-F9CA-41A1-AEA5-ECFF1E3D1314}" type="datetime">
              <a:rPr b="0" lang="en-US" sz="1200" spc="-1" strike="noStrike">
                <a:solidFill>
                  <a:srgbClr val="898989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Capítulo 5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Redacción del reporte</a:t>
            </a:r>
            <a:endParaRPr b="1" lang="en-US" sz="40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7162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Preparado por la Agencia de Protección Ambiental de EE.UU. y el Departamento de Vivienda y Urbanismo de EE.UU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3352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una lista de 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que el reporte sea fácil de entender para el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RRP de la EPA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28520" y="1599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tad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men de los resultados de muestre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s analíticos del laboratori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lleto Renovar correctamente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éndice 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Contenido del reporte - LSHR del HUD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rección de la propiedad y si es multifamiliar, unidades específicas y áreas comunes afectadas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echa del examen de aprobació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mbre, dirección y firma de la persona que efectúa la aprobación incluido el número de certificación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sultados de la inspección visu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Contenido del reporte - LSHR del HUD (cont.) </a:t>
            </a:r>
            <a:endParaRPr b="1" lang="en-US" sz="28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del muestreo de polv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y dirección de cada laboratorio que analizó los result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echas de inicio y terminación del trabajo efectua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escrita detallada de los métodos usados durante el trabajo y ubicaciones específicas detalladas donde se produjo el trabaj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han corregido peligros del suelo, descripción de la ubicación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Actividad: Redacción del report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285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ulte lo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nexos 5-A y 5-B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pase los reportes de aprobación de polvo con plomo en blanco y completad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28520" y="198108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rtículos que componen un reporte completo de pruebas de aprobación de polvo con plo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hacer que el reporte sea fácil de entender para un client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Pivetz, Timothy</cp:lastModifiedBy>
  <cp:lastPrinted>2000-06-30T16:30:52Z</cp:lastPrinted>
  <dcterms:modified xsi:type="dcterms:W3CDTF">2011-11-29T14:26:32Z</dcterms:modified>
  <cp:revision>166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