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488880" y="5428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:  Putting the Skill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25"/>
          </p:nvPr>
        </p:nvSpPr>
        <p:spPr>
          <a:xfrm>
            <a:off x="3657600" y="5428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388880" y="914400"/>
            <a:ext cx="4545000" cy="34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move the slide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7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26"/>
          </p:nvPr>
        </p:nvSpPr>
        <p:spPr>
          <a:xfrm>
            <a:off x="488520" y="8735760"/>
            <a:ext cx="3473640" cy="479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Dust Sampling Technician Training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27"/>
          </p:nvPr>
        </p:nvSpPr>
        <p:spPr>
          <a:xfrm>
            <a:off x="4114800" y="8735760"/>
            <a:ext cx="2711520" cy="479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</a:t>
            </a:r>
            <a:fld id="{BDCD0313-682C-439D-BCE0-1DE35E6A2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389240" y="91440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Header Placeholder 3"/>
          <p:cNvSpPr/>
          <p:nvPr/>
        </p:nvSpPr>
        <p:spPr>
          <a:xfrm>
            <a:off x="488880" y="5428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ítulo 6:  Reunión de destre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Footer Placeholder 4"/>
          <p:cNvSpPr/>
          <p:nvPr/>
        </p:nvSpPr>
        <p:spPr>
          <a:xfrm>
            <a:off x="488880" y="8736120"/>
            <a:ext cx="492120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so de capacitación para técnicos de muestreo de polvo con plo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Slide Number Placeholder 5"/>
          <p:cNvSpPr/>
          <p:nvPr/>
        </p:nvSpPr>
        <p:spPr>
          <a:xfrm>
            <a:off x="4114800" y="8736120"/>
            <a:ext cx="2711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389240" y="91440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7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te capítulo describirá los pasos que debe efectuar un técnico de muestreo de polvo con plomo de principio a fin cuando se lleva a cabo un examen. Este capítulo incluye cinco actividades para ayudar a practicar la implementación de los protocol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l final de este capítulo, los alumnos podrán demostrar que pueden hacer lo siguien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284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coger una ubicación de muestreo apropi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284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omar muestras de polvo con plo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284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erpretar resul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Slide Number Placeholder 6"/>
          <p:cNvSpPr/>
          <p:nvPr/>
        </p:nvSpPr>
        <p:spPr>
          <a:xfrm>
            <a:off x="4114800" y="8736120"/>
            <a:ext cx="2711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Footer Placeholder 7"/>
          <p:cNvSpPr/>
          <p:nvPr/>
        </p:nvSpPr>
        <p:spPr>
          <a:xfrm>
            <a:off x="488880" y="8736120"/>
            <a:ext cx="48452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so de capacitación para técnicos de muestreo de polvo con plo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Header Placeholder 8"/>
          <p:cNvSpPr/>
          <p:nvPr/>
        </p:nvSpPr>
        <p:spPr>
          <a:xfrm>
            <a:off x="488880" y="5428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ítulo 6:  Reunión de destre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389240" y="91440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Slide Number Placeholder 6"/>
          <p:cNvSpPr/>
          <p:nvPr/>
        </p:nvSpPr>
        <p:spPr>
          <a:xfrm>
            <a:off x="4114800" y="8736120"/>
            <a:ext cx="2711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Footer Placeholder 7"/>
          <p:cNvSpPr/>
          <p:nvPr/>
        </p:nvSpPr>
        <p:spPr>
          <a:xfrm>
            <a:off x="488880" y="8736120"/>
            <a:ext cx="48452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so de capacitación para técnicos de muestreo de polvo con plo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Header Placeholder 8"/>
          <p:cNvSpPr/>
          <p:nvPr/>
        </p:nvSpPr>
        <p:spPr>
          <a:xfrm>
            <a:off x="488880" y="5428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ítulo 6:  Reunión de destre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389240" y="91440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Slide Number Placeholder 6"/>
          <p:cNvSpPr/>
          <p:nvPr/>
        </p:nvSpPr>
        <p:spPr>
          <a:xfrm>
            <a:off x="4114800" y="8736120"/>
            <a:ext cx="2711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Footer Placeholder 7"/>
          <p:cNvSpPr/>
          <p:nvPr/>
        </p:nvSpPr>
        <p:spPr>
          <a:xfrm>
            <a:off x="488880" y="8736120"/>
            <a:ext cx="48452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so de capacitación para técnicos de muestreo de polvo con plo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Header Placeholder 8"/>
          <p:cNvSpPr/>
          <p:nvPr/>
        </p:nvSpPr>
        <p:spPr>
          <a:xfrm>
            <a:off x="488880" y="5428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ítulo 6:  Reunión de destre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389240" y="91440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74880" y="4562280"/>
            <a:ext cx="5365440" cy="2981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Actividad 2: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Ahora que se han determinado las ubicaciones de muestreo, se tomarán muestras en una variedad de superficies – antepechos y canales de ventanas, y piso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Header Placeholder 3"/>
          <p:cNvSpPr/>
          <p:nvPr/>
        </p:nvSpPr>
        <p:spPr>
          <a:xfrm>
            <a:off x="488880" y="5428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ítulo 6:  Reunión de destre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Footer Placeholder 4"/>
          <p:cNvSpPr/>
          <p:nvPr/>
        </p:nvSpPr>
        <p:spPr>
          <a:xfrm>
            <a:off x="488880" y="8736120"/>
            <a:ext cx="46166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so de capacitación para técnicos de muestreo de polvo con plo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Slide Number Placeholder 5"/>
          <p:cNvSpPr/>
          <p:nvPr/>
        </p:nvSpPr>
        <p:spPr>
          <a:xfrm>
            <a:off x="4114800" y="8736120"/>
            <a:ext cx="2711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384200" y="914400"/>
            <a:ext cx="4543560" cy="340848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90360" y="4572000"/>
            <a:ext cx="5365800" cy="4317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Resultados y redacción del re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l analizar los datos, siga las guías proporcionadas en el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Capítulo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e los estándares de aprobación de polvo con plomo de la EPA y del HUD al evaluar los resultados de las muestr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Slide Number Placeholder 6"/>
          <p:cNvSpPr/>
          <p:nvPr/>
        </p:nvSpPr>
        <p:spPr>
          <a:xfrm>
            <a:off x="4114800" y="8736120"/>
            <a:ext cx="2711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Footer Placeholder 7"/>
          <p:cNvSpPr/>
          <p:nvPr/>
        </p:nvSpPr>
        <p:spPr>
          <a:xfrm>
            <a:off x="488880" y="8736120"/>
            <a:ext cx="48452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so de capacitación para técnicos de muestreo de polvo con plo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Header Placeholder 8"/>
          <p:cNvSpPr/>
          <p:nvPr/>
        </p:nvSpPr>
        <p:spPr>
          <a:xfrm>
            <a:off x="488880" y="5428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ítulo 6:  Reunión de destre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389240" y="91440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7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Redacción del repor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a información del Capítul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(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Redacción de un repor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mo guía para traducir los resultado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n un reporte fácil de entend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Slide Number Placeholder 5"/>
          <p:cNvSpPr/>
          <p:nvPr/>
        </p:nvSpPr>
        <p:spPr>
          <a:xfrm>
            <a:off x="4114800" y="8736120"/>
            <a:ext cx="2711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</a:t>
            </a:r>
            <a:fld id="{907BCF72-DADD-4DFD-ADFB-0786A5F2F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Footer Placeholder 7"/>
          <p:cNvSpPr/>
          <p:nvPr/>
        </p:nvSpPr>
        <p:spPr>
          <a:xfrm>
            <a:off x="488880" y="8736120"/>
            <a:ext cx="48452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so de capacitación para técnicos de muestreo de polvo con plo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Header Placeholder 8"/>
          <p:cNvSpPr/>
          <p:nvPr/>
        </p:nvSpPr>
        <p:spPr>
          <a:xfrm>
            <a:off x="488880" y="5428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ítulo 6:  Reunión de destre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"/>
          <p:cNvSpPr/>
          <p:nvPr/>
        </p:nvSpPr>
        <p:spPr>
          <a:xfrm>
            <a:off x="16765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Técnico de muestreo de polvo con pl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Octubre de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8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‹#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</a:t>
            </a:r>
            <a:fld id="{AB4F985D-E71C-4C7B-9B27-EBFF8169A4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454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</a:t>
            </a:r>
            <a:fld id="{3D1E2D24-E767-4CD5-939E-3ED0907450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</a:t>
            </a:r>
            <a:fld id="{C3E89D64-4E09-49B6-B62A-C5C673103C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16765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Técnico de muestreo de polvo con pl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Octubre de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</a:t>
            </a:r>
            <a:fld id="{97E0F516-2192-4D47-9A66-1F299EF34D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16765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Técnico de muestreo de polvo con pl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Octubre de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</a:t>
            </a:r>
            <a:fld id="{7E7828BF-0CBD-4C0B-8EDC-E8E7982580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</a:t>
            </a:r>
            <a:fld id="{0EC2EBFC-1C0C-4EE3-81F3-5EBF37D773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</a:t>
            </a:r>
            <a:fld id="{2E4674FE-5D2C-4080-8D24-013E2A157E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</a:t>
            </a:r>
            <a:fld id="{7F76B912-27C0-4D65-8682-49BF9B8D0F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</a:t>
            </a:r>
            <a:fld id="{6FFDD94B-0348-40CC-928A-003B976C77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</a:t>
            </a:r>
            <a:fld id="{139D473F-F79E-4D40-8280-73D3E813A0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</a:t>
            </a:r>
            <a:fld id="{3A6B6672-7BDF-40F6-8C8A-8C2B4A32EF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Arial"/>
              </a:rPr>
              <a:t>Capítulo 6</a:t>
            </a:r>
            <a:br>
              <a:rPr sz="4000"/>
            </a:br>
            <a:r>
              <a:rPr b="1" lang="es-ES" sz="4000" spc="-1" strike="noStrike">
                <a:solidFill>
                  <a:srgbClr val="3333cc"/>
                </a:solidFill>
                <a:latin typeface="Arial"/>
              </a:rPr>
              <a:t>Reunión de destrezas</a:t>
            </a:r>
            <a:br>
              <a:rPr sz="4000"/>
            </a:br>
            <a:endParaRPr b="1" lang="en-US" sz="40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1181160" y="2552760"/>
            <a:ext cx="678168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Arial"/>
              </a:rPr>
              <a:t>Preparado por la Agencia de Protección Ambiental de EE.UU. y el Departamento de Vivienda y Urbanismo de EE.UU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819000" y="1790640"/>
            <a:ext cx="7506000" cy="23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actique las destrezas enseñadas en la clase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coger ubicaciones de muestreo apropiadas,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mar muestras de polvo con plomo,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rpretar resultados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Arial"/>
              </a:rPr>
              <a:t>Objetivos </a:t>
            </a:r>
            <a:r>
              <a:rPr b="1" lang="es-ES" sz="3600" spc="-1" strike="noStrike">
                <a:solidFill>
                  <a:srgbClr val="3333cc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Arial"/>
              </a:rPr>
              <a:t>Actividad 1: Dónde tomar muestras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52" name="Text Box 6"/>
          <p:cNvSpPr/>
          <p:nvPr/>
        </p:nvSpPr>
        <p:spPr>
          <a:xfrm>
            <a:off x="1600200" y="220968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Content Placeholder 2"/>
          <p:cNvSpPr/>
          <p:nvPr/>
        </p:nvSpPr>
        <p:spPr>
          <a:xfrm>
            <a:off x="609480" y="1638360"/>
            <a:ext cx="7848720" cy="358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 a practicar las estrategias del área de muestre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 instructor le proporcionará una situación y un diagrama de renovación hipotét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 la situación y marque las ubicaciones de dónde cree que se deben tomar muestras de polvo usando un paño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Arial"/>
              </a:rPr>
              <a:t>Recuerde...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se una estrategia para establecer el área de muestreo para incluir las áreas donde se produjeron las máximas tareas de generación de polvo durante el trabajo. 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sulte la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Guía de camp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o el Capítulo 3 para determinar los lugares apropiados para tomar sus muestras.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Arial"/>
              </a:rPr>
              <a:t>Actividad 2: Muestreo de polvo usando un paño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571320" y="1905120"/>
            <a:ext cx="8001000" cy="350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hora vamos a practicar nuevamente cómo tomar muestras de polvo usando un paño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da individuo debe demostrar pericia en esta tarea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ga las instrucciones de su instructor para tomar muestras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Arial"/>
              </a:rPr>
              <a:t>Actividad 3: Interpretación de los resultados.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028520" y="1752120"/>
            <a:ext cx="7086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alice los resultados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 instructor le proporcionará los resultados del laboratorio para su interpretación.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e los estándares de aprobación de polvo con plomo de la EPA como guía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isos: &lt; 10 µg/pie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tepecho interior de ventana: &lt; 100 µg/pie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nal de ventana: &lt; 400 µg/pie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ctivi</a:t>
            </a:r>
            <a:r>
              <a:rPr b="1" lang="es-ES_tradnl" sz="3600" spc="-1" strike="noStrike">
                <a:solidFill>
                  <a:srgbClr val="3333cc"/>
                </a:solidFill>
                <a:latin typeface="Arial"/>
              </a:rPr>
              <a:t>dad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 4: Tra</a:t>
            </a:r>
            <a:r>
              <a:rPr b="1" lang="es-ES_tradnl" sz="3600" spc="-1" strike="noStrike">
                <a:solidFill>
                  <a:srgbClr val="3333cc"/>
                </a:solidFill>
                <a:latin typeface="Arial"/>
              </a:rPr>
              <a:t>ducción de los resultados en un reporte escrito 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61" name="Rectangle 4"/>
          <p:cNvSpPr/>
          <p:nvPr/>
        </p:nvSpPr>
        <p:spPr>
          <a:xfrm>
            <a:off x="457200" y="1447920"/>
            <a:ext cx="838188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uzca los resultados analizados en un reporte escri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criba un reporte que pueda entender fácilmente el cliente haciendo uso del resultado de la actividad anterio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erpret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ación de los resultado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at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troduc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ido 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p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ítul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5 (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Redacción del report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mo guí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0T16:08:14Z</dcterms:created>
  <dc:creator>Amy Mortimer</dc:creator>
  <dc:description/>
  <dc:language>en-US</dc:language>
  <cp:lastModifiedBy>Brisse, Claire</cp:lastModifiedBy>
  <cp:lastPrinted>2000-06-30T16:23:00Z</cp:lastPrinted>
  <dcterms:modified xsi:type="dcterms:W3CDTF">2021-02-25T03:38:36Z</dcterms:modified>
  <cp:revision>266</cp:revision>
  <dc:subject/>
  <dc:title>Module 2:  Planning Your Wor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ategoryDescription">
    <vt:lpwstr/>
  </property>
  <property fmtid="{D5CDD505-2E9C-101B-9397-08002B2CF9AE}" pid="3" name="Creator">
    <vt:lpwstr/>
  </property>
  <property fmtid="{D5CDD505-2E9C-101B-9397-08002B2CF9AE}" pid="4" name="Document Creation Date">
    <vt:lpwstr>2021-02-24T22:37:21Z</vt:lpwstr>
  </property>
  <property fmtid="{D5CDD505-2E9C-101B-9397-08002B2CF9AE}" pid="5" name="Document Type">
    <vt:lpwstr/>
  </property>
  <property fmtid="{D5CDD505-2E9C-101B-9397-08002B2CF9AE}" pid="6" name="EPA Contributor">
    <vt:lpwstr/>
  </property>
  <property fmtid="{D5CDD505-2E9C-101B-9397-08002B2CF9AE}" pid="7" name="EPA Office">
    <vt:lpwstr/>
  </property>
  <property fmtid="{D5CDD505-2E9C-101B-9397-08002B2CF9AE}" pid="8" name="EPA Related Documents">
    <vt:lpwstr/>
  </property>
  <property fmtid="{D5CDD505-2E9C-101B-9397-08002B2CF9AE}" pid="9" name="EPA Subject">
    <vt:lpwstr/>
  </property>
  <property fmtid="{D5CDD505-2E9C-101B-9397-08002B2CF9AE}" pid="10" name="External Contributor">
    <vt:lpwstr/>
  </property>
  <property fmtid="{D5CDD505-2E9C-101B-9397-08002B2CF9AE}" pid="11" name="Identifier">
    <vt:lpwstr/>
  </property>
  <property fmtid="{D5CDD505-2E9C-101B-9397-08002B2CF9AE}" pid="12" name="Language">
    <vt:lpwstr>English</vt:lpwstr>
  </property>
  <property fmtid="{D5CDD505-2E9C-101B-9397-08002B2CF9AE}" pid="13" name="Record">
    <vt:lpwstr>Shared</vt:lpwstr>
  </property>
  <property fmtid="{D5CDD505-2E9C-101B-9397-08002B2CF9AE}" pid="14" name="Rights">
    <vt:lpwstr/>
  </property>
  <property fmtid="{D5CDD505-2E9C-101B-9397-08002B2CF9AE}" pid="15" name="TaxCatchAll">
    <vt:lpwstr/>
  </property>
  <property fmtid="{D5CDD505-2E9C-101B-9397-08002B2CF9AE}" pid="16" name="TaxKeyword">
    <vt:lpwstr/>
  </property>
  <property fmtid="{D5CDD505-2E9C-101B-9397-08002B2CF9AE}" pid="17" name="TaxKeywordTaxHTField">
    <vt:lpwstr/>
  </property>
  <property fmtid="{D5CDD505-2E9C-101B-9397-08002B2CF9AE}" pid="18" name="_Coverage">
    <vt:lpwstr/>
  </property>
  <property fmtid="{D5CDD505-2E9C-101B-9397-08002B2CF9AE}" pid="19" name="_Source">
    <vt:lpwstr/>
  </property>
  <property fmtid="{D5CDD505-2E9C-101B-9397-08002B2CF9AE}" pid="20" name="_ip_UnifiedCompliancePolicyProperties">
    <vt:lpwstr/>
  </property>
  <property fmtid="{D5CDD505-2E9C-101B-9397-08002B2CF9AE}" pid="21" name="_ip_UnifiedCompliancePolicyUIAction">
    <vt:lpwstr/>
  </property>
  <property fmtid="{D5CDD505-2E9C-101B-9397-08002B2CF9AE}" pid="22" name="e3f09c3df709400db2417a7161762d62">
    <vt:lpwstr/>
  </property>
  <property fmtid="{D5CDD505-2E9C-101B-9397-08002B2CF9AE}" pid="23" name="j747ac98061d40f0aa7bd47e1db5675d">
    <vt:lpwstr/>
  </property>
</Properties>
</file>