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218960" y="759960"/>
            <a:ext cx="4878360" cy="365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move the slide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7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sldNum" idx="19"/>
          </p:nvPr>
        </p:nvSpPr>
        <p:spPr>
          <a:xfrm>
            <a:off x="4038480" y="8727840"/>
            <a:ext cx="2787840" cy="479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77F51E97-15AE-459A-B710-8A1BC8280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496800" y="415800"/>
            <a:ext cx="4541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ítulo 5: Redacción y entrega del re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6"/>
          <p:cNvSpPr/>
          <p:nvPr/>
        </p:nvSpPr>
        <p:spPr>
          <a:xfrm>
            <a:off x="522360" y="8918640"/>
            <a:ext cx="4997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so de capacitación para técnicos de muestreo de polvo con plo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4038480" y="8728200"/>
            <a:ext cx="27878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219320" y="760320"/>
            <a:ext cx="4878360" cy="36594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4038480" y="8728200"/>
            <a:ext cx="27878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81160" y="760320"/>
            <a:ext cx="4956120" cy="37162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7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l final del capítulo, los alumnos podrán hacer lo siguien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3880" indent="-234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Hacer una lista de los contenidos clave de un reporte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de prueba de aprobación de polvo con plo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3880" indent="-234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scribir las formas en que se puede facilitar la lectura del re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3880" indent="-234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sponder debidamente a las preguntas que hacen los clientes después de recibir su re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4038480" y="8728200"/>
            <a:ext cx="27878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216080" y="760320"/>
            <a:ext cx="4878360" cy="36594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7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Éstos son los seis elementos del Reporte de pruebas de aprobación de polvo con plo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 formularios en blanco que se pueden usar para la Portada, Resumen de los resultados de muestreo y Resultados de inspección visual se proporcionan en el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péndice 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e este curs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mbién se incluye una copia del folleto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novar correctamente: Información importante para familias, proveedores de cuidado infantil y escuelas acerca del peligro del plom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n el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péndice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219320" y="760320"/>
            <a:ext cx="4878360" cy="36594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7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bido a que el HUD incluye unos requisitos de inspección visual más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xhaustivos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que la regla de la EPA, el HUD requiere información adicional referente a los detalles del reporte de prueba de aprobación de polvo con plomo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4038480" y="8728200"/>
            <a:ext cx="27878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219320" y="760320"/>
            <a:ext cx="4878360" cy="3659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7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bido a que el HUD incluye unos requisitos de inspección visual más extensivos que la regla de la EPA, el HUD requiere información adicional referente a los detalles del reporte de prueba de aprobación de polvo con plomo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4038480" y="8728200"/>
            <a:ext cx="27878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038480" y="8728200"/>
            <a:ext cx="27878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16080" y="760320"/>
            <a:ext cx="4878360" cy="3659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038480" y="8728200"/>
            <a:ext cx="27878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16080" y="760320"/>
            <a:ext cx="4878360" cy="36594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3E69-B968-4E20-8451-D3C22676AF3A}" type="datetime">
              <a:rPr b="0" lang="en-US" sz="1200" spc="-1" strike="noStrike">
                <a:solidFill>
                  <a:srgbClr val="898989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8"/>
          <p:cNvSpPr/>
          <p:nvPr/>
        </p:nvSpPr>
        <p:spPr>
          <a:xfrm>
            <a:off x="1905120" y="6019920"/>
            <a:ext cx="272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"/>
          <p:cNvSpPr/>
          <p:nvPr/>
        </p:nvSpPr>
        <p:spPr>
          <a:xfrm>
            <a:off x="16765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écnico de muestreo de polvo con pl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Enero de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CDF224AF-558E-4087-97F7-2354DED993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16765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écnico de muestreo de polvo con pl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Enero de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84A6137E-AB03-4049-89D0-50FF985B08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C764-C719-4C84-8421-722BF8588A13}" type="datetime">
              <a:rPr b="0" lang="en-US" sz="1200" spc="-1" strike="noStrike">
                <a:solidFill>
                  <a:srgbClr val="898989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8"/>
          <p:cNvSpPr/>
          <p:nvPr/>
        </p:nvSpPr>
        <p:spPr>
          <a:xfrm>
            <a:off x="1905120" y="6019920"/>
            <a:ext cx="272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649D937E-254A-4EEF-9781-514B4EEC98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2D9F-2421-4C49-BC8C-2FC39A82FE9C}" type="datetime">
              <a:rPr b="0" lang="en-US" sz="1200" spc="-1" strike="noStrike">
                <a:solidFill>
                  <a:srgbClr val="898989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8"/>
          <p:cNvSpPr/>
          <p:nvPr/>
        </p:nvSpPr>
        <p:spPr>
          <a:xfrm>
            <a:off x="1905120" y="6019920"/>
            <a:ext cx="272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3579E35B-B491-4096-A2BF-FD5986BDB7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7336-4D92-48AB-9A1C-F43BC721A62B}" type="datetime">
              <a:rPr b="0" lang="en-US" sz="1200" spc="-1" strike="noStrike">
                <a:solidFill>
                  <a:srgbClr val="898989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8"/>
          <p:cNvSpPr/>
          <p:nvPr/>
        </p:nvSpPr>
        <p:spPr>
          <a:xfrm>
            <a:off x="1905120" y="6019920"/>
            <a:ext cx="272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238D5203-B7A1-490E-B224-D1F846EF93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3F86-61C6-4C27-A3E2-73CB6D28C539}" type="datetime">
              <a:rPr b="0" lang="en-US" sz="1200" spc="-1" strike="noStrike">
                <a:solidFill>
                  <a:srgbClr val="898989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8"/>
          <p:cNvSpPr/>
          <p:nvPr/>
        </p:nvSpPr>
        <p:spPr>
          <a:xfrm>
            <a:off x="1905120" y="6019920"/>
            <a:ext cx="272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242DE303-426F-4E2E-807B-D0DBD7A7E7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B8F3-9E31-45A7-95F4-16559FC467F9}" type="datetime">
              <a:rPr b="0" lang="en-US" sz="1200" spc="-1" strike="noStrike">
                <a:solidFill>
                  <a:srgbClr val="898989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8"/>
          <p:cNvSpPr/>
          <p:nvPr/>
        </p:nvSpPr>
        <p:spPr>
          <a:xfrm>
            <a:off x="1905120" y="6019920"/>
            <a:ext cx="272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7A54D990-DE06-48AB-A325-5A68579F7F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8343-1848-4342-B896-261FDA3ECF98}" type="datetime">
              <a:rPr b="0" lang="en-US" sz="1200" spc="-1" strike="noStrike">
                <a:solidFill>
                  <a:srgbClr val="898989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8"/>
          <p:cNvSpPr/>
          <p:nvPr/>
        </p:nvSpPr>
        <p:spPr>
          <a:xfrm>
            <a:off x="1905120" y="6019920"/>
            <a:ext cx="272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CBC3FD6B-9A07-48C2-AB50-B0BC76612A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8DFD-E040-4EEA-94CA-0483D4B24AFE}" type="datetime">
              <a:rPr b="0" lang="en-US" sz="1200" spc="-1" strike="noStrike">
                <a:solidFill>
                  <a:srgbClr val="898989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8"/>
          <p:cNvSpPr/>
          <p:nvPr/>
        </p:nvSpPr>
        <p:spPr>
          <a:xfrm>
            <a:off x="1905120" y="6019920"/>
            <a:ext cx="272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24B7CA6D-E7E4-491E-8BE5-691CE25F0E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F84F-AF9C-4817-BF37-C6634CF380C5}" type="datetime">
              <a:rPr b="0" lang="en-US" sz="1200" spc="-1" strike="noStrike">
                <a:solidFill>
                  <a:srgbClr val="898989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726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Arial"/>
              </a:rPr>
              <a:t>Capítulo 5</a:t>
            </a:r>
            <a:br>
              <a:rPr sz="3600"/>
            </a:br>
            <a:r>
              <a:rPr b="1" lang="es-ES" sz="3600" spc="-1" strike="noStrike">
                <a:solidFill>
                  <a:srgbClr val="3333cc"/>
                </a:solidFill>
                <a:latin typeface="Arial"/>
              </a:rPr>
              <a:t>Redacción del reporte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990720" y="3430080"/>
            <a:ext cx="71625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Preparado por la Agencia de Protección Ambiental de EE.UU. y el Departamento de Vivienda y Urbanismo de EE.UU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979560" y="1676520"/>
            <a:ext cx="7159680" cy="33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cer una lista de los artículos que componen un reporte completo de pruebas de aprobación de polvo con plom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cer que el reporte sea fácil de entender para el cliente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39960" y="5569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Arial"/>
              </a:rPr>
              <a:t>Objetivos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41480" y="623880"/>
            <a:ext cx="705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Arial"/>
              </a:rPr>
              <a:t>Contenido del reporte - RRP de la EPA 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004760" y="1973160"/>
            <a:ext cx="71215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ortada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sumen de los resultados de muestreo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sultados de la inspección visual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sultados analíticos del laboratorio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Folleto Renovar correctamente (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Apéndice B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28480" y="518760"/>
            <a:ext cx="808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"/>
              </a:rPr>
              <a:t>Contenido del reporte - LSHR del HUD</a:t>
            </a:r>
            <a:endParaRPr b="1" lang="en-US" sz="32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66640" y="1924200"/>
            <a:ext cx="8010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rección de la propiedad y si es multifamiliar, unidades específicas y áreas comunes afectadas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echa del examen de aprobación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mbre, dirección y firma de la persona que efectúa la aprobación incluido el número de certificación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ultados de la inspección visual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28680" y="563040"/>
            <a:ext cx="831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Arial"/>
              </a:rPr>
              <a:t>Contenido del reporte - LSHR del HUD (cont.) </a:t>
            </a:r>
            <a:endParaRPr b="1" lang="en-US" sz="28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520" y="1670040"/>
            <a:ext cx="8229600" cy="39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ultados del muestreo de polvo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mbre y dirección de cada laboratorio que analizó los resultado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echas de inicio y terminación del trabajo efectuado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cripción escrita detallada de los métodos usados durante el trabajo y ubicaciones específicas detalladas donde se produjo el trabajo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 se han corregido peligros del suelo, descripción de la ubicación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66680" y="57420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Arial"/>
              </a:rPr>
              <a:t>Actividad: Redacción del reporte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028520" y="2368080"/>
            <a:ext cx="7086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sulte los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nexos 5-A y 5-B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pase los reportes de aprobación de polvo con plomo en blanco y completado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66680" y="587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Arial"/>
              </a:rPr>
              <a:t>Resumen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028520" y="1981080"/>
            <a:ext cx="70866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artículos que componen un reporte completo de pruebas de aprobación de polvo con plom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ómo hacer que el reporte sea fácil de entender para un cliente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0T16:08:14Z</dcterms:created>
  <dc:creator>Amy Mortimer</dc:creator>
  <dc:description/>
  <dc:language>en-US</dc:language>
  <cp:lastModifiedBy>hughesl</cp:lastModifiedBy>
  <cp:lastPrinted>2000-06-30T16:30:52Z</cp:lastPrinted>
  <dcterms:modified xsi:type="dcterms:W3CDTF">2014-01-14T14:22:50Z</dcterms:modified>
  <cp:revision>175</cp:revision>
  <dc:subject/>
  <dc:title>Module 2:  Planning Your Wor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_x0020_Type">
    <vt:lpwstr/>
  </property>
  <property fmtid="{D5CDD505-2E9C-101B-9397-08002B2CF9AE}" pid="3" name="EPA_x0020_Subject">
    <vt:lpwstr/>
  </property>
  <property fmtid="{D5CDD505-2E9C-101B-9397-08002B2CF9AE}" pid="4" name="TaxCatchAll">
    <vt:lpwstr/>
  </property>
  <property fmtid="{D5CDD505-2E9C-101B-9397-08002B2CF9AE}" pid="5" name="TaxKeyword">
    <vt:lpwstr/>
  </property>
  <property fmtid="{D5CDD505-2E9C-101B-9397-08002B2CF9AE}" pid="6" name="TaxKeywordTaxHTField">
    <vt:lpwstr/>
  </property>
  <property fmtid="{D5CDD505-2E9C-101B-9397-08002B2CF9AE}" pid="7" name="e3f09c3df709400db2417a7161762d62">
    <vt:lpwstr/>
  </property>
  <property fmtid="{D5CDD505-2E9C-101B-9397-08002B2CF9AE}" pid="8" name="j747ac98061d40f0aa7bd47e1db5675d">
    <vt:lpwstr/>
  </property>
</Properties>
</file>