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11200" y="295200"/>
            <a:ext cx="606096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47"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439880" y="8780040"/>
            <a:ext cx="2570040" cy="36828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438120" y="8705880"/>
            <a:ext cx="1479600" cy="4428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A1322F9E-1500-43E9-A95B-020655A480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29080" y="8705880"/>
            <a:ext cx="1676160" cy="4428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70227A9-9076-4E97-9B68-CF49362FFE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2" name="PlaceHolder 1"/>
          <p:cNvSpPr>
            <a:spLocks noGrp="1"/>
          </p:cNvSpPr>
          <p:nvPr>
            <p:ph type="sldImg"/>
          </p:nvPr>
        </p:nvSpPr>
        <p:spPr>
          <a:xfrm>
            <a:off x="1144440" y="738360"/>
            <a:ext cx="4648320" cy="3485880"/>
          </a:xfrm>
          <a:prstGeom prst="rect">
            <a:avLst/>
          </a:prstGeom>
          <a:ln w="0">
            <a:noFill/>
          </a:ln>
        </p:spPr>
      </p:sp>
      <p:sp>
        <p:nvSpPr>
          <p:cNvPr id="93" name="PlaceHolder 2"/>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marL="220680" indent="0">
              <a:spcBef>
                <a:spcPts val="75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Upon completion of this module, you will be able to explain: </a:t>
            </a:r>
            <a:endParaRPr b="0" lang="en-US" sz="12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at lead-based paint is and why it is a problem for renovators.</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e health risks of lead to children and adults. </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y we are concerned with lead-contaminated du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19675A9-2216-40CC-8B4E-EDA2B7482E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7" name="PlaceHolder 1"/>
          <p:cNvSpPr>
            <a:spLocks noGrp="1"/>
          </p:cNvSpPr>
          <p:nvPr>
            <p:ph type="sldImg"/>
          </p:nvPr>
        </p:nvSpPr>
        <p:spPr>
          <a:xfrm>
            <a:off x="1219320" y="609480"/>
            <a:ext cx="4647960" cy="3486240"/>
          </a:xfrm>
          <a:prstGeom prst="rect">
            <a:avLst/>
          </a:prstGeom>
          <a:ln w="0">
            <a:noFill/>
          </a:ln>
        </p:spPr>
      </p:sp>
      <p:sp>
        <p:nvSpPr>
          <p:cNvPr id="98" name="PlaceHolder 2"/>
          <p:cNvSpPr>
            <a:spLocks noGrp="1"/>
          </p:cNvSpPr>
          <p:nvPr>
            <p:ph type="body"/>
          </p:nvPr>
        </p:nvSpPr>
        <p:spPr>
          <a:xfrm>
            <a:off x="803160" y="4205160"/>
            <a:ext cx="5292720" cy="4795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ndards define lead-based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Lead-based paint</a:t>
            </a:r>
            <a:r>
              <a:rPr b="0" lang="en-US" sz="900" spc="-1" strike="noStrike">
                <a:solidFill>
                  <a:srgbClr val="000000"/>
                </a:solidFill>
                <a:latin typeface="Arial"/>
              </a:rPr>
              <a:t> is any paint or surface coatings that contain lead equal to or in excess of 1.0 milligram per square centimeter or more than 0.5 percent by weight. </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with concentrations of lead lower than the definition above can still cause health problems. Even paint with a small amount of lead can account for a lot of lead in airborne or settled dust.</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on how to determine if a property contains lead-based paint is provided in Module 3.</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states and localities regulate paint with lower concentrations of lead.</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should check with your state and local health departments to see if they have requirements that are more stringent than the Federal requirement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was lead added to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dded for color and durability.</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lso added to some other surface coatings, such as varnishes and stain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based paint was banned from residential use in 1978</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78, the Consumer Products Safety Commission banned the sale of lead-based paint for residential use. In practice, this means that homes built in 1978 could still have used lead-based paint, because existing supplies of paint containing lead would still have been available.</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why the year of construction is such an important consideration.</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0796014-0439-46FA-A178-F19930D707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2" name="PlaceHolder 1"/>
          <p:cNvSpPr>
            <a:spLocks noGrp="1"/>
          </p:cNvSpPr>
          <p:nvPr>
            <p:ph type="sldImg"/>
          </p:nvPr>
        </p:nvSpPr>
        <p:spPr>
          <a:xfrm>
            <a:off x="1217520" y="663480"/>
            <a:ext cx="4648320" cy="3486240"/>
          </a:xfrm>
          <a:prstGeom prst="rect">
            <a:avLst/>
          </a:prstGeom>
          <a:ln w="0">
            <a:noFill/>
          </a:ln>
        </p:spPr>
      </p:sp>
      <p:sp>
        <p:nvSpPr>
          <p:cNvPr id="103" name="PlaceHolder 2"/>
          <p:cNvSpPr>
            <a:spLocks noGrp="1"/>
          </p:cNvSpPr>
          <p:nvPr>
            <p:ph type="body"/>
          </p:nvPr>
        </p:nvSpPr>
        <p:spPr>
          <a:xfrm>
            <a:off x="876240" y="4279680"/>
            <a:ext cx="5330880" cy="435276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six are most at risk from small amounts of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t a greater risk than adults because their bodies are developing. During normal and frequent playing or hand-to-mouth activity, children may swallow or inhale dust from their hands, toys, food or other objects.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ildren, lea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 system and kidney damage. </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intelligence, attention deficit disorder, and learning disabiliti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language, and behavior problems.</a:t>
            </a:r>
            <a:endParaRPr b="0" lang="en-US" sz="1200" spc="-1" strike="noStrike">
              <a:solidFill>
                <a:srgbClr val="000000"/>
              </a:solidFill>
              <a:latin typeface="Arial"/>
            </a:endParaRPr>
          </a:p>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adults, pregnant women are especially at risk from exposure to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s passed from the mother to the fetus an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arriag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birth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damag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a:t>
            </a:r>
            <a:endParaRPr b="0" lang="en-US" sz="1200" spc="-1" strike="noStrike">
              <a:solidFill>
                <a:srgbClr val="000000"/>
              </a:solidFill>
              <a:latin typeface="Arial"/>
            </a:endParaRPr>
          </a:p>
          <a:p>
            <a:pPr lvl="2" marL="4572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effects of lead in adults includ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problems in men and women.</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e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oncentration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or joint p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2EE4C6D-BF0D-4AAB-882F-EC6027EB6B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217520" y="663480"/>
            <a:ext cx="4648320" cy="3486240"/>
          </a:xfrm>
          <a:prstGeom prst="rect">
            <a:avLst/>
          </a:prstGeom>
          <a:ln w="0">
            <a:noFill/>
          </a:ln>
        </p:spPr>
      </p:sp>
      <p:sp>
        <p:nvSpPr>
          <p:cNvPr id="108" name="PlaceHolder 2"/>
          <p:cNvSpPr>
            <a:spLocks noGrp="1"/>
          </p:cNvSpPr>
          <p:nvPr>
            <p:ph type="body"/>
          </p:nvPr>
        </p:nvSpPr>
        <p:spPr>
          <a:xfrm>
            <a:off x="802800" y="4280040"/>
            <a:ext cx="5403960" cy="431928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poisoning does not always have obvious symptom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lead poisoning are often non-specific, and are frequently attributed to other cau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symptoms that people with lead exposure sometimes complain of include:</a:t>
            </a:r>
            <a:endParaRPr b="0" lang="en-US" sz="10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mach 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y</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igu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ss of appetit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int and/or muscle pain</a:t>
            </a:r>
            <a:endParaRPr b="0" lang="en-US" sz="9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any symptoms are non-specific or similar to flu symptoms, parents may not be alerted to get immediate medical attention for their children. This is critical for young children. The longer a young child stays untreated, the higher the risk of permanent brain damag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with an occupational exposure to lead need to inform their doctors in order to give them all the background needed for an adequate evaluation of symptoms as possibly related to lead exposur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to determine if lead is present in the body is by testing blood.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lead in blood is measured in micrograms per deciliter (</a:t>
            </a:r>
            <a:r>
              <a:rPr b="0" lang="en-US" sz="1000" spc="-1" strike="noStrike">
                <a:solidFill>
                  <a:srgbClr val="000000"/>
                </a:solidFill>
                <a:latin typeface="Symbol"/>
                <a:ea typeface="Symbol"/>
              </a:rPr>
              <a:t></a:t>
            </a:r>
            <a:r>
              <a:rPr b="0" lang="en-US" sz="1000" spc="-1" strike="noStrike">
                <a:solidFill>
                  <a:srgbClr val="000000"/>
                </a:solidFill>
                <a:latin typeface="Arial"/>
              </a:rPr>
              <a:t>g/dl) of the blood, a very small unit of measurement. A microgram is one millionth of a gram. That is like one penny out of $10,000. For reference, a standard size paper clip weighs about one gram, or one million times more than a microgram. A microgram is a very small amount of lead. Remember how small this amount of lead is as it applies to dust cleanup when we get to </a:t>
            </a:r>
            <a:r>
              <a:rPr b="1" lang="en-US" sz="1000" spc="-1" strike="noStrike">
                <a:solidFill>
                  <a:srgbClr val="000000"/>
                </a:solidFill>
                <a:latin typeface="Arial"/>
              </a:rPr>
              <a:t>Module 4: Contain Dust During Work, Module 5: During the Work,</a:t>
            </a:r>
            <a:r>
              <a:rPr b="0" lang="en-US" sz="1000" spc="-1" strike="noStrike">
                <a:solidFill>
                  <a:srgbClr val="000000"/>
                </a:solidFill>
                <a:latin typeface="Arial"/>
              </a:rPr>
              <a:t> and </a:t>
            </a:r>
            <a:r>
              <a:rPr b="1" lang="en-US" sz="1000" spc="-1" strike="noStrike">
                <a:solidFill>
                  <a:srgbClr val="000000"/>
                </a:solidFill>
                <a:latin typeface="Arial"/>
              </a:rPr>
              <a:t>Module 6: Cleaning Activities and Checking Your Work</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628D444-173B-479B-81E9-4485A4B209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803160" y="4280040"/>
            <a:ext cx="5330880" cy="4574880"/>
          </a:xfrm>
          <a:prstGeom prst="rect">
            <a:avLst/>
          </a:prstGeom>
          <a:noFill/>
          <a:ln w="0">
            <a:noFill/>
          </a:ln>
        </p:spPr>
        <p:txBody>
          <a:bodyPr lIns="93240" rIns="93240" tIns="46440" bIns="46440" anchor="t">
            <a:noAutofit/>
          </a:bodyPr>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st and debris from renovation, repair, and painting jobs in pre-1978</a:t>
            </a:r>
            <a:endParaRPr b="0" lang="en-US" sz="12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 and child-occupied facilities may contain lead.</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1978 paint may contain lead.</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ion, repair and painting jobs disturb paint that may contain lead. Any activity involving surface preparation, such as hand-scraping, power sanding, the use of heat guns above 1100</a:t>
            </a:r>
            <a:r>
              <a:rPr b="0" lang="en-US" sz="1000" spc="-1" strike="noStrike" baseline="30000">
                <a:solidFill>
                  <a:srgbClr val="000000"/>
                </a:solidFill>
                <a:latin typeface="Arial"/>
              </a:rPr>
              <a:t>O</a:t>
            </a:r>
            <a:r>
              <a:rPr b="0" lang="en-US" sz="1000" spc="-1" strike="noStrike">
                <a:solidFill>
                  <a:srgbClr val="000000"/>
                </a:solidFill>
                <a:latin typeface="Arial"/>
              </a:rPr>
              <a:t> Fahrenheit, and open flame burning, can generate lead dust. More complicated tasks such as removing building components and demolishing walls also can create a lot of dust.</a:t>
            </a:r>
            <a:endParaRPr b="0" lang="en-US" sz="1000" spc="-1" strike="noStrike">
              <a:solidFill>
                <a:srgbClr val="000000"/>
              </a:solidFill>
              <a:latin typeface="Arial"/>
            </a:endParaRPr>
          </a:p>
          <a:p>
            <a:pPr marL="22860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amounts of lead-contaminated dust can poison children and adults.</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iny amount of lead can be extremely harmful.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dust particles are often so small that you cannot see them, yet you can breathe or swallow them. These smaller, inhaled or swallowed dust particles are more easily absorbed by the body than larger particles, and can therefore more easily cause poisoning.</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 dust may be breathed or swallowed by children, residents and workers.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normal hand-to-mouth activities, children may swallow or inhale dust on their hands, toys, food, or other objects.  Children may also ingest paint chips.</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 can swallow or breathe dust during work activities.  </a:t>
            </a:r>
            <a:endParaRPr b="0" lang="en-US" sz="10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ers perform activities such as scraping and sanding by hand, or use a power sander or grinding tool, dust is created. The dust goes into the air that they breathe. </a:t>
            </a:r>
            <a:endParaRPr b="0" lang="en-US" sz="12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orkers eat, drink, smoke or put anything into their mouths without washing up first, they may swallow the leaded dust present.</a:t>
            </a:r>
            <a:endParaRPr b="0" lang="en-US" sz="1200" spc="-1" strike="noStrike">
              <a:solidFill>
                <a:srgbClr val="000000"/>
              </a:solidFill>
              <a:latin typeface="Arial"/>
            </a:endParaRPr>
          </a:p>
          <a:p>
            <a:pPr marL="228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4"/>
          <p:cNvSpPr/>
          <p:nvPr/>
        </p:nvSpPr>
        <p:spPr>
          <a:xfrm>
            <a:off x="730080" y="4568760"/>
            <a:ext cx="6204240" cy="457524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2866057-F1F1-4F85-9C5B-7CB4AE72AE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3000" y="685800"/>
            <a:ext cx="4648320" cy="3486240"/>
          </a:xfrm>
          <a:prstGeom prst="rect">
            <a:avLst/>
          </a:prstGeom>
          <a:ln w="0">
            <a:noFill/>
          </a:ln>
        </p:spPr>
      </p:sp>
      <p:sp>
        <p:nvSpPr>
          <p:cNvPr id="119" name="PlaceHolder 2"/>
          <p:cNvSpPr>
            <a:spLocks noGrp="1"/>
          </p:cNvSpPr>
          <p:nvPr>
            <p:ph type="body"/>
          </p:nvPr>
        </p:nvSpPr>
        <p:spPr>
          <a:xfrm>
            <a:off x="803160" y="4279680"/>
            <a:ext cx="53308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dust goes a long way.</a:t>
            </a:r>
            <a:endParaRPr b="0" lang="en-US" sz="12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can’t see it.</a:t>
            </a:r>
            <a:r>
              <a:rPr b="0" lang="en-US" sz="1000" spc="-1" strike="noStrike">
                <a:solidFill>
                  <a:srgbClr val="000000"/>
                </a:solidFill>
                <a:latin typeface="Arial"/>
              </a:rPr>
              <a:t>  Even a floor that looks clean can have leaded dust on it.  Only a laboratory test can tell you for sure if an area is contaminated with lea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hard to sweep up.</a:t>
            </a:r>
            <a:r>
              <a:rPr b="0" lang="en-US" sz="1000" spc="-1" strike="noStrike">
                <a:solidFill>
                  <a:srgbClr val="000000"/>
                </a:solidFill>
                <a:latin typeface="Arial"/>
              </a:rPr>
              <a:t>  Normal cleaning methods will not pick up all the dust in a work area. Sweeping is not enough. You need to use water, detergent and a HEPA vacuum to clean up dust effective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travels.  </a:t>
            </a:r>
            <a:r>
              <a:rPr b="0" lang="en-US" sz="1000" spc="-1" strike="noStrike">
                <a:solidFill>
                  <a:srgbClr val="000000"/>
                </a:solidFill>
                <a:latin typeface="Arial"/>
              </a:rPr>
              <a:t>Once dust is released, it is easily tracked around, inside and outside the work area. And, an exterior painting job can contaminate the inside of a home as the dust, chips and leaded soil are tracked inside.</a:t>
            </a:r>
            <a:endParaRPr b="0" lang="en-US" sz="10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Later in this course we will discuss in detail the EPA and HUD dust-lead hazard and clearance standards. The limits are included here to reinforce the idea that a very small amount of lead can cause health problems. These numbers represent the amount of lead measured in micrograms (1 millionth of a gram) that is allowed in an area one foot wide and one foot long (one square foot). More than this amount of lead in the specified areas is hazard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 &amp; HUD use these standards when clearance is perform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or window sill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 trough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States and localities may enforce lower standard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AA6D1B0-980B-4599-89F7-E425303B519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9320" y="685800"/>
            <a:ext cx="4647960" cy="3486240"/>
          </a:xfrm>
          <a:prstGeom prst="rect">
            <a:avLst/>
          </a:prstGeom>
          <a:ln w="0">
            <a:noFill/>
          </a:ln>
        </p:spPr>
      </p:sp>
      <p:sp>
        <p:nvSpPr>
          <p:cNvPr id="124" name="PlaceHolder 2"/>
          <p:cNvSpPr>
            <a:spLocks noGrp="1"/>
          </p:cNvSpPr>
          <p:nvPr>
            <p:ph type="body"/>
          </p:nvPr>
        </p:nvSpPr>
        <p:spPr>
          <a:xfrm>
            <a:off x="876240" y="4427280"/>
            <a:ext cx="54770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or discusses how lead safe work practices could have protected his kids from becoming lead poiso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is of Kevin Sheehan, a lead contractor, who discusses how he poisoned his family while working on older houses which contained lead-based paint. Kevin discusses the need for lead safety precautions during renovation work, shares the lessons he has learned, and reveals what can be done to keep people safe during work in older homes with lead-based pa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0409A334-3B92-4477-B61E-1958CE542E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217520" y="663480"/>
            <a:ext cx="4648320" cy="3486240"/>
          </a:xfrm>
          <a:prstGeom prst="rect">
            <a:avLst/>
          </a:prstGeom>
          <a:ln w="0">
            <a:noFill/>
          </a:ln>
        </p:spPr>
      </p:sp>
      <p:sp>
        <p:nvSpPr>
          <p:cNvPr id="129" name="PlaceHolder 2"/>
          <p:cNvSpPr>
            <a:spLocks noGrp="1"/>
          </p:cNvSpPr>
          <p:nvPr>
            <p:ph type="body"/>
          </p:nvPr>
        </p:nvSpPr>
        <p:spPr>
          <a:xfrm>
            <a:off x="875880" y="4427280"/>
            <a:ext cx="5550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 Discusses Child Poisoned by Renovation Undergoing Treatme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shows Maurci Jackson, a parent whose child became lead poisoned, discussing how hard it was to watch her daughter undergo “chelation” treatments to remove lead from her body. Maurci shares her fears about her child’s future health after being lead poisoned and her frustration that lead poisoning is completely preventable if those who disturb lead-based paint would just considered the consequences of working with lead improperly. She emphasizes the need for lead safety precautions and planning to prevent lead pois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elation treatment is a series of medical procedures that remove lead from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3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2536975-910E-4B33-9759-C00FF55454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3" name="PlaceHolder 1"/>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7AD24-0878-4473-B2A5-A8CD5351F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ABBB-9A4B-46C9-A8BC-ECCC37DF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6E76F-7A18-49F2-8F67-374B45C6C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6AB58-5EAE-4C16-9866-8FFA1B5DE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3ADAE-CB6A-4C6E-AE7C-B24DB15B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6C81B-B128-43D1-8928-90354F6DB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C0B9-6D1F-4381-8B66-B1719D90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E87D-FECD-4386-ADAA-7B1C462C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38052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37A7-5C38-40B5-938B-44042E61B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23B5-9896-4482-AF04-74A89474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EC00-86EB-4A28-8063-561627C9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3885-C987-40F9-9DF6-A1CBDA5F7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UD-seal-color 300 DPI"/>
          <p:cNvPicPr/>
          <p:nvPr/>
        </p:nvPicPr>
        <p:blipFill>
          <a:blip r:embed="rId2"/>
          <a:stretch/>
        </p:blipFill>
        <p:spPr>
          <a:xfrm>
            <a:off x="8153280" y="5715000"/>
            <a:ext cx="762120" cy="736560"/>
          </a:xfrm>
          <a:prstGeom prst="rect">
            <a:avLst/>
          </a:prstGeom>
          <a:ln w="0">
            <a:noFill/>
          </a:ln>
        </p:spPr>
      </p:pic>
      <p:sp>
        <p:nvSpPr>
          <p:cNvPr id="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18298949-4AC9-4826-AF7E-C78954869F0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7C47A546-7B2F-4EFC-B550-124499CBE06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1: Why Should I be Concerned about Lead Paint?</a:t>
            </a:r>
            <a:endParaRPr b="1" lang="en-US" sz="40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health risks and health effects are related to lead exposure?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s lead-contaminated dust a problem?</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A7323792-B29F-422B-9664-38B0E5FA570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114800"/>
          </a:xfrm>
          <a:prstGeom prst="rect">
            <a:avLst/>
          </a:prstGeom>
          <a:noFill/>
          <a:ln w="0">
            <a:noFill/>
          </a:ln>
        </p:spPr>
        <p:txBody>
          <a:bodyPr anchor="t">
            <a:normAutofit/>
          </a:bodyPr>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ederal standards define lead-based paint as:</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y paint or surface coatings that contain lead equal to or in excess of 1.0 milligram per square centimeter or more than 0.5 percent by weight. </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me states and localities regulate paint with lower concentrations of lead.</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t is the primary source of lead-contaminated dust in housing.</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y was lead used in paint?</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 was added for color and durability.</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was banned in 1978.</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2571DAFD-3949-46D8-B43F-A6AD4A8CB04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ealth Risks of Lead</a:t>
            </a:r>
            <a:endParaRPr b="1" lang="en-US" sz="4000" spc="-1" strike="noStrike">
              <a:solidFill>
                <a:srgbClr val="000099"/>
              </a:solidFill>
              <a:latin typeface="Arial"/>
            </a:endParaRPr>
          </a:p>
        </p:txBody>
      </p:sp>
      <p:sp>
        <p:nvSpPr>
          <p:cNvPr id="63" name="PlaceHolder 2"/>
          <p:cNvSpPr>
            <a:spLocks noGrp="1"/>
          </p:cNvSpPr>
          <p:nvPr>
            <p:ph/>
          </p:nvPr>
        </p:nvSpPr>
        <p:spPr>
          <a:xfrm>
            <a:off x="228240" y="1752120"/>
            <a:ext cx="8534520" cy="4343400"/>
          </a:xfrm>
          <a:prstGeom prst="rect">
            <a:avLst/>
          </a:prstGeom>
          <a:noFill/>
          <a:ln w="0">
            <a:noFill/>
          </a:ln>
        </p:spPr>
        <p:txBody>
          <a:bodyPr anchor="t">
            <a:normAutofit/>
          </a:bodyPr>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hazardous to childr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s the brain and central nervous system; can cause decreased intelligence, reading and learning difficulties, behavioral problems, and hyperactiv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can be irreversible, affecting children throughout their live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ous to pregnant wom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to the fetu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so hazardous to workers and other adults.</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igh blood pressur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ss of sex drive and/or capabil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fatigue.</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 exposure causes permanent damag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4C570C70-15B6-4223-B4F3-E71CBC62FB2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ymptoms Of Lead Poisoning are Not Always Obvious</a:t>
            </a:r>
            <a:endParaRPr b="1" lang="en-US" sz="4000" spc="-1" strike="noStrike">
              <a:solidFill>
                <a:srgbClr val="000099"/>
              </a:solidFill>
              <a:latin typeface="Arial"/>
            </a:endParaRPr>
          </a:p>
        </p:txBody>
      </p:sp>
      <p:sp>
        <p:nvSpPr>
          <p:cNvPr id="6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ymptoms are easily misinterpreted by medical personnel, thus delaying effective treatment and increasing the likelihood of permanent physical and mental damag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ly sure way to determine lead poisoning is to take a blood lead level (BLL) tes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3DFEA74A-31CE-4670-9707-5FA5D402F8A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y are Dust and Debris a Problem?</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novation activities that disturb lead-based paint create dust and debris.  Debris becomes dus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contaminated dust is poisonou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small amounts of lead-contaminated dust can poison children and adults.</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ildren swallow dust during ordinary play activities.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ults swallow or breathe dust during work activities. </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can bring lead-contaminated dust home and poison their famil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AB2EB423-0B60-4B62-9641-013421BD1EB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 Little Dust Goes a Long Way</a:t>
            </a:r>
            <a:endParaRPr b="1" lang="en-US" sz="4000" spc="-1" strike="noStrike">
              <a:solidFill>
                <a:srgbClr val="000099"/>
              </a:solidFill>
              <a:latin typeface="Arial"/>
            </a:endParaRPr>
          </a:p>
        </p:txBody>
      </p:sp>
      <p:sp>
        <p:nvSpPr>
          <p:cNvPr id="75" name="PlaceHolder 2"/>
          <p:cNvSpPr>
            <a:spLocks noGrp="1"/>
          </p:cNvSpPr>
          <p:nvPr>
            <p:ph/>
          </p:nvPr>
        </p:nvSpPr>
        <p:spPr>
          <a:xfrm>
            <a:off x="456840" y="2209320"/>
            <a:ext cx="4419720" cy="20574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You can’t see 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It’s hard to sweep up.</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d, it travels.</a:t>
            </a:r>
            <a:endParaRPr b="1" lang="en-US" sz="2800" spc="-1" strike="noStrike">
              <a:solidFill>
                <a:srgbClr val="000099"/>
              </a:solidFill>
              <a:latin typeface="Arial"/>
            </a:endParaRPr>
          </a:p>
        </p:txBody>
      </p:sp>
      <p:sp>
        <p:nvSpPr>
          <p:cNvPr id="76" name="Text Box 4"/>
          <p:cNvSpPr/>
          <p:nvPr/>
        </p:nvSpPr>
        <p:spPr>
          <a:xfrm>
            <a:off x="304920" y="419112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ne gram of lead-based paint can </a:t>
            </a:r>
            <a:br>
              <a:rPr sz="4000"/>
            </a:br>
            <a:r>
              <a:rPr b="1" lang="en-US" sz="4000" spc="-1" strike="noStrike">
                <a:solidFill>
                  <a:srgbClr val="000099"/>
                </a:solidFill>
                <a:latin typeface="Arial"/>
              </a:rPr>
              <a:t>contaminate a large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FF9FF76-8EA0-4D8E-B772-FE784EC0746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9" name="rrp_video_contractor.mpg" descr="Video clip of contractor who poisoned his own kids"/>
          <p:cNvPicPr/>
          <p:nvPr/>
        </p:nvPicPr>
        <p:blipFill>
          <a:blip r:embed="rId1"/>
          <a:stretch/>
        </p:blipFill>
        <p:spPr>
          <a:xfrm>
            <a:off x="609480" y="228600"/>
            <a:ext cx="7848720" cy="5349960"/>
          </a:xfrm>
          <a:prstGeom prst="rect">
            <a:avLst/>
          </a:prstGeom>
          <a:ln w="0">
            <a:noFill/>
          </a:ln>
        </p:spPr>
      </p:pic>
      <p:sp>
        <p:nvSpPr>
          <p:cNvPr id="80" name="Text Box 1041"/>
          <p:cNvSpPr/>
          <p:nvPr/>
        </p:nvSpPr>
        <p:spPr>
          <a:xfrm>
            <a:off x="12952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a Contractor Who Poisoned His Own K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9"/>
                    </p:tgtEl>
                  </p:cond>
                </p:stCondLst>
                <p:childTnLst>
                  <p:par>
                    <p:cTn id="3" nodeType="clickEffect" fill="hold">
                      <p:stCondLst>
                        <p:cond evt="onClick">
                          <p:tgtEl>
                            <p:spTgt spid="7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EC49119-8296-446A-86DA-3A9BCB6C11D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83" name="rrp_video_parent.mpg" descr=""/>
          <p:cNvPicPr/>
          <p:nvPr/>
        </p:nvPicPr>
        <p:blipFill>
          <a:blip r:embed="rId1"/>
          <a:stretch/>
        </p:blipFill>
        <p:spPr>
          <a:xfrm>
            <a:off x="685800" y="304920"/>
            <a:ext cx="7620120" cy="5194080"/>
          </a:xfrm>
          <a:prstGeom prst="rect">
            <a:avLst/>
          </a:prstGeom>
          <a:ln w="0">
            <a:noFill/>
          </a:ln>
        </p:spPr>
      </p:pic>
      <p:sp>
        <p:nvSpPr>
          <p:cNvPr id="84" name="Text Box 6"/>
          <p:cNvSpPr/>
          <p:nvPr/>
        </p:nvSpPr>
        <p:spPr>
          <a:xfrm>
            <a:off x="838080" y="41911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Parent of a Child Poisoned by Re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3"/>
                    </p:tgtEl>
                  </p:cond>
                </p:stCondLst>
                <p:childTnLst>
                  <p:par>
                    <p:cTn id="9" nodeType="clickEffect" fill="hold">
                      <p:stCondLst>
                        <p:cond evt="onClick">
                          <p:tgtEl>
                            <p:spTgt spid="83"/>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8AAB58E-ABD7-4A61-B144-B8CD88DEE33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lead-based paint is and the adverse health effects of lea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ust is the proble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hard to spot and the effects can be perman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ids are most at risk for lead poiso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preventabl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Brisse, Claire</cp:lastModifiedBy>
  <cp:lastPrinted>2001-04-20T18:38:32Z</cp:lastPrinted>
  <dcterms:modified xsi:type="dcterms:W3CDTF">2021-02-09T20:16:29Z</dcterms:modified>
  <cp:revision>347</cp:revision>
  <dc:subject/>
  <dc:title>Module 1: Why Should I be Concerned about Lea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09T15:11:25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