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632480" y="8915400"/>
            <a:ext cx="2682720" cy="4809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04560" y="8915040"/>
            <a:ext cx="1546200" cy="4827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F2DAFBD6-3751-41BA-B4F0-F115B2C2930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66880" y="8915400"/>
            <a:ext cx="1749600" cy="473040"/>
          </a:xfrm>
          <a:prstGeom prst="rect">
            <a:avLst/>
          </a:prstGeom>
          <a:noFill/>
          <a:ln w="0">
            <a:noFill/>
          </a:ln>
        </p:spPr>
        <p:txBody>
          <a:bodyPr lIns="94680" rIns="94680" tIns="47520" bIns="47520" anchor="t">
            <a:noAutofit/>
          </a:bodyPr>
          <a:lstStyle>
            <a:lvl1pPr indent="0" algn="ctr">
              <a:lnSpc>
                <a:spcPct val="28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000" spc="-1" strike="noStrike">
                <a:solidFill>
                  <a:srgbClr val="000000"/>
                </a:solidFill>
                <a:latin typeface="Arial"/>
              </a:defRPr>
            </a:lvl1pPr>
          </a:lstStyle>
          <a:p>
            <a:pPr indent="0" algn="ctr">
              <a:lnSpc>
                <a:spcPct val="28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8"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D73F6E43-03CD-4000-ACF9-975AE671C30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9"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0" name="PlaceHolder 1"/>
          <p:cNvSpPr>
            <a:spLocks noGrp="1"/>
          </p:cNvSpPr>
          <p:nvPr>
            <p:ph type="sldImg"/>
          </p:nvPr>
        </p:nvSpPr>
        <p:spPr>
          <a:xfrm>
            <a:off x="1143000" y="685800"/>
            <a:ext cx="4800600" cy="3600360"/>
          </a:xfrm>
          <a:prstGeom prst="rect">
            <a:avLst/>
          </a:prstGeom>
          <a:ln w="0">
            <a:noFill/>
          </a:ln>
        </p:spPr>
      </p:sp>
      <p:sp>
        <p:nvSpPr>
          <p:cNvPr id="101" name="PlaceHolder 2"/>
          <p:cNvSpPr>
            <a:spLocks noGrp="1"/>
          </p:cNvSpPr>
          <p:nvPr>
            <p:ph type="body"/>
          </p:nvPr>
        </p:nvSpPr>
        <p:spPr>
          <a:xfrm>
            <a:off x="685440" y="4495320"/>
            <a:ext cx="5978520" cy="42246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in the EPA RRP Rule:</a:t>
            </a:r>
            <a:endParaRPr b="0" lang="en-US" sz="12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prohibits the use of certain practices. These prohibited practices are discussed in this module. This module also contains recommendations regarding how to reduce dust during work activities that are not specifically required or addressed in the RRP Rule.</a:t>
            </a:r>
            <a:r>
              <a:rPr b="0" lang="en-US" sz="1000" spc="-1" strike="noStrike">
                <a:solidFill>
                  <a:srgbClr val="000000"/>
                </a:solidFill>
                <a:latin typeface="Arial"/>
              </a:rPr>
              <a:t> Certain practices are prohibited by the RRP rule. Beyond this you are free to use whatever practices get the job done, provided that all dust and debris you generate stays in the work area and does not migrate to other areas or properties. The recommendations in this section will assist you by reducing the amount of dust released during work. Dust reduction in the work area will make the workplace safer for employees, and will make cleaning easier.</a:t>
            </a:r>
            <a:endParaRPr b="0" lang="en-US" sz="10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know:</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work practices are prohibited under the RRP Rule because they create dangerous amounts of dust and paint chips;</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actices to use to control dust, debris or paint chips; an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ols you will ne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3"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658970B6-6092-42F5-9A99-F1357B37A1E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686880" y="4571640"/>
            <a:ext cx="589932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above are from </a:t>
            </a:r>
            <a:r>
              <a:rPr b="0" i="1" lang="en-US" sz="1000" spc="-1" strike="noStrike">
                <a:solidFill>
                  <a:srgbClr val="000000"/>
                </a:solidFill>
                <a:latin typeface="Arial"/>
              </a:rPr>
              <a:t>Lead Exposure Associated with Renovation and Remodeling Activities: Summary Report</a:t>
            </a:r>
            <a:r>
              <a:rPr b="0" lang="en-US" sz="1000" spc="-1" strike="noStrike">
                <a:solidFill>
                  <a:srgbClr val="000000"/>
                </a:solidFill>
                <a:latin typeface="Arial"/>
              </a:rPr>
              <a:t>, Prepared by Battelle for the U.S. Environmental Protection Agency, May 1997, EPA 747-R-96-005.</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work practices create large amounts of dust!</a:t>
            </a:r>
            <a:endParaRPr b="0" lang="en-US" sz="12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hart shows amounts of lead dust created by three common construction practices: hand sanding, power sanding, and interior demolition. </a:t>
            </a:r>
            <a:br>
              <a:rPr sz="900"/>
            </a:br>
            <a:r>
              <a:rPr b="0" lang="en-US" sz="900" spc="-1" strike="noStrike">
                <a:solidFill>
                  <a:srgbClr val="000000"/>
                </a:solidFill>
                <a:latin typeface="Arial"/>
              </a:rPr>
              <a:t>Note:  The RRP rule restricts the use of power sanders, among other things, see following page for more information.</a:t>
            </a:r>
            <a:endParaRPr b="0" lang="en-US" sz="900" spc="-1" strike="noStrike">
              <a:solidFill>
                <a:srgbClr val="000000"/>
              </a:solidFill>
              <a:latin typeface="Arial"/>
            </a:endParaRPr>
          </a:p>
          <a:p>
            <a:pPr lvl="1" marL="34308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using safe work practices, you can control and significantly reduce the amount of dust created on the job. Controlling leaded dust at the source of generation is important because dust released into the air will eventually become settled dust on the ground. Later in this chapter, you will learn safe work practices that can replace these prohibited work practices. In this section you will also find best practice recommendations for reducing dust in the work area.</a:t>
            </a:r>
            <a:endParaRPr b="0" lang="en-US" sz="9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you have questions regarding OSHA’s air sampling requirements, OSHA provides a consultation service that is separate from enforcement and will not result in penalties or citations.  This service can be accessed at https://www.osha.gov/dcsp/smallbusiness/consult.htm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8"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26D36A13-4713-4C1B-B420-2610A0C0BDB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9"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708120" y="4500720"/>
            <a:ext cx="5898960" cy="327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PA Renovation, Repair, and Painting Rule does not specifically address what measures must be taken to reduce the amount of dust generated on the job. Rather, the rule lists three Prohibited Practices that must not be used on the job.</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flame burning or torching of painted surfaces</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gun above 1,100º F</a:t>
            </a:r>
            <a:r>
              <a:rPr b="1" lang="en-US" sz="900" spc="-1" strike="noStrike">
                <a:solidFill>
                  <a:srgbClr val="000000"/>
                </a:solidFill>
                <a:latin typeface="Arial"/>
              </a:rPr>
              <a:t> </a:t>
            </a:r>
            <a:r>
              <a:rPr b="0" lang="en-US" sz="1200" spc="-1" strike="noStrike">
                <a:solidFill>
                  <a:srgbClr val="000000"/>
                </a:solidFill>
                <a:latin typeface="Arial"/>
              </a:rPr>
              <a:t>(degrees Fahrenheit).</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achines designed to remove paint or other surface coatings through high-speed operation such as sanding, grinding, power planing, needle gun, abrasive blasting, or sandblasting unless such machines have shrouds or containment systems and are equipped with a HEPA vacuum attachment to collect dust and debris at the point of generation.  Machines must be operated so that no visible dust release of air occurs outside the shroud or containment system.</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to minimizing the spread of dust and paint chips is not to use certain traditional work practices known to create large amounts of dust and debri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flame burning or torching of paint and using a heat gun above 1,100º F </a:t>
            </a:r>
            <a:r>
              <a:rPr b="0" lang="en-US" sz="1200" spc="-1" strike="noStrike">
                <a:solidFill>
                  <a:srgbClr val="000000"/>
                </a:solidFill>
                <a:latin typeface="Arial"/>
                <a:ea typeface="Arial"/>
              </a:rPr>
              <a:t>create very fine leaded dust particulates (“fume”) that are dangerous for workers to breathe. The small leaded dust particles created by burning and heating also settle on surrounding surfaces and are very hard to clean up.</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sanding, power grinding, power planning, needle guns, abrasive blast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andblasting</a:t>
            </a:r>
            <a:r>
              <a:rPr b="0" lang="en-US" sz="1200" spc="-1" strike="noStrike">
                <a:solidFill>
                  <a:srgbClr val="000000"/>
                </a:solidFill>
                <a:latin typeface="Arial"/>
                <a:ea typeface="Arial"/>
              </a:rPr>
              <a:t> create a large amount of dust that floats in the air and then settles on surfaces inside and outside of the work area. </a:t>
            </a:r>
            <a:endParaRPr b="0" lang="en-US" sz="12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ppendix 5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Text Box 1029"/>
          <p:cNvSpPr/>
          <p:nvPr/>
        </p:nvSpPr>
        <p:spPr>
          <a:xfrm>
            <a:off x="762120" y="82296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listed on the slid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113" name="Picture 1031" descr="HUD-seal-color 300 DPI"/>
          <p:cNvPicPr/>
          <p:nvPr/>
        </p:nvPicPr>
        <p:blipFill>
          <a:blip r:embed="rId1"/>
          <a:stretch/>
        </p:blipFill>
        <p:spPr>
          <a:xfrm>
            <a:off x="838080" y="8305920"/>
            <a:ext cx="714600" cy="6858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5"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084DF1FC-812C-4F9D-9741-A3C7306342A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7" name="PlaceHolder 1"/>
          <p:cNvSpPr>
            <a:spLocks noGrp="1"/>
          </p:cNvSpPr>
          <p:nvPr>
            <p:ph type="sldImg"/>
          </p:nvPr>
        </p:nvSpPr>
        <p:spPr>
          <a:xfrm>
            <a:off x="1295280" y="685800"/>
            <a:ext cx="4800600" cy="3600360"/>
          </a:xfrm>
          <a:prstGeom prst="rect">
            <a:avLst/>
          </a:prstGeom>
          <a:ln w="0">
            <a:noFill/>
          </a:ln>
        </p:spPr>
      </p:sp>
      <p:sp>
        <p:nvSpPr>
          <p:cNvPr id="118" name="PlaceHolder 2"/>
          <p:cNvSpPr>
            <a:spLocks noGrp="1"/>
          </p:cNvSpPr>
          <p:nvPr>
            <p:ph type="body"/>
          </p:nvPr>
        </p:nvSpPr>
        <p:spPr>
          <a:xfrm>
            <a:off x="609480" y="4419360"/>
            <a:ext cx="6058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power tools designed to remove paint or other surface coatings equipped with attached HEPA-filtered local capture ventilation may be used when lead-based paint is present or presumed to be presen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power tools such as sanders, grinders, circular saws, reciprocating saws, planers and drills produce dust and debris. Because they are electric, wet methods are not safe. Pneumatic and battery powered tools prevent shock hazards. Such tools must have a shroud or containment system equipped with a HEPA vacuum attachment to contain the dangerous leaded dust and paint chips that are generated by their use.</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ith attached HEPA-filtered capture ventilation collect and filter dust and debris as it is created. A shroud at the head of the tool helps to contain the dust and paint chips as the vacuum draws away dust and debris for safe storage in the vacuum canister. This makes the job cleaner and safer.</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sive blasting is very effective at removing large areas of paint quickly, but these practices require special HEPA filtration equipment that contains the blast medium, dust and paint chips without releasing dust into the air or into the containmen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 is even more important when using specialized tool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 containment and cleaning are crucial even when using HEPA-filtered specialized tools. These tools generate a lot of dust inside a localized negative pressure (vacuum) environment. If the vacuum fails or if the vacuum seal created by the shroud is broken, large volumes of dust can be released. Nonetheless, HEPA-filtered specialized tools can reduce dust levels when used properly, and can aid work production by shortening the cleaning time and lowering co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Shopping List of tools and supplies found in Appendix 5 </a:t>
            </a:r>
            <a:r>
              <a:rPr b="0" i="1" lang="en-US" sz="1200" spc="-1" strike="noStrike">
                <a:solidFill>
                  <a:srgbClr val="000000"/>
                </a:solidFill>
                <a:latin typeface="Arial"/>
                <a:ea typeface="Arial"/>
              </a:rPr>
              <a:t>Steps to LEAD SAFE Renovation, Repair and Painting</a:t>
            </a:r>
            <a:r>
              <a:rPr b="0" lang="en-US" sz="1200" spc="-1" strike="noStrike">
                <a:solidFill>
                  <a:srgbClr val="000000"/>
                </a:solidFill>
                <a:latin typeface="Arial"/>
                <a:ea typeface="Arial"/>
              </a:rPr>
              <a:t> for more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0"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4D19A1BD-3F1D-4F1A-9BCC-0B068840EA8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1"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2" name="PlaceHolder 1"/>
          <p:cNvSpPr>
            <a:spLocks noGrp="1"/>
          </p:cNvSpPr>
          <p:nvPr>
            <p:ph type="sldImg"/>
          </p:nvPr>
        </p:nvSpPr>
        <p:spPr>
          <a:xfrm>
            <a:off x="1219320" y="685800"/>
            <a:ext cx="4800600" cy="3600360"/>
          </a:xfrm>
          <a:prstGeom prst="rect">
            <a:avLst/>
          </a:prstGeom>
          <a:ln w="0">
            <a:noFill/>
          </a:ln>
        </p:spPr>
      </p:sp>
      <p:sp>
        <p:nvSpPr>
          <p:cNvPr id="123" name="PlaceHolder 2"/>
          <p:cNvSpPr>
            <a:spLocks noGrp="1"/>
          </p:cNvSpPr>
          <p:nvPr>
            <p:ph type="body"/>
          </p:nvPr>
        </p:nvSpPr>
        <p:spPr>
          <a:xfrm>
            <a:off x="838080" y="4419720"/>
            <a:ext cx="5640480" cy="4572000"/>
          </a:xfrm>
          <a:prstGeom prst="rect">
            <a:avLst/>
          </a:prstGeom>
          <a:noFill/>
          <a:ln w="0">
            <a:noFill/>
          </a:ln>
        </p:spPr>
        <p:txBody>
          <a:bodyPr lIns="96480" rIns="96480" tIns="48240" bIns="482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ers should protect themselves.</a:t>
            </a:r>
            <a:endParaRPr b="0" lang="en-US" sz="10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inter’s hats </a:t>
            </a:r>
            <a:r>
              <a:rPr b="0" lang="en-US" sz="900" spc="-1" strike="noStrike">
                <a:solidFill>
                  <a:srgbClr val="000000"/>
                </a:solidFill>
                <a:latin typeface="Arial"/>
              </a:rPr>
              <a:t>are an inexpensive way to keep dust and paint chips out of workers’ hair. Painter’s hats can be easily disposed of, and should be disposed of at the end of each day or at the end of the job.</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posable coveralls </a:t>
            </a:r>
            <a:r>
              <a:rPr b="0" lang="en-US" sz="900" spc="-1" strike="noStrike">
                <a:solidFill>
                  <a:srgbClr val="000000"/>
                </a:solidFill>
                <a:latin typeface="Arial"/>
                <a:ea typeface="Arial"/>
              </a:rPr>
              <a:t>are a good way to keep dust off workers’ street clothes and reduce the chance of carrying dust away as they come and go. Remember to use a HEPA vacuum to remove dust and debris from coveralls or other outerwear (a “dry decon”) before exiting the work area. Some coveralls have a hood to keep dust out of hair.</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piratory protection.</a:t>
            </a:r>
            <a:r>
              <a:rPr b="0" lang="en-US" sz="900" spc="-1" strike="noStrike">
                <a:solidFill>
                  <a:srgbClr val="000000"/>
                </a:solidFill>
                <a:latin typeface="Arial"/>
              </a:rPr>
              <a:t>   Employers should consider that workers should wear respiratory protection, such as a disposable N-100, R-100 or P-100 respirator, and follow OSHA’s Respiratory Protection  standard (29 CFR 1910.134) to prevent them from inhaling leaded dust. These respirators are particulate-filtering respirators and would not be appropriate as protection from chemical stripping compounds.</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ou should wash your hands and face at the end of each shift.  </a:t>
            </a:r>
            <a:r>
              <a:rPr b="0" lang="en-US" sz="900" spc="-1" strike="noStrike">
                <a:solidFill>
                  <a:srgbClr val="000000"/>
                </a:solidFill>
                <a:latin typeface="Arial"/>
              </a:rPr>
              <a:t>Workers should wash</a:t>
            </a:r>
            <a:r>
              <a:rPr b="1" lang="en-US" sz="900" spc="-1" strike="noStrike">
                <a:solidFill>
                  <a:srgbClr val="000000"/>
                </a:solidFill>
                <a:latin typeface="Arial"/>
              </a:rPr>
              <a:t> </a:t>
            </a:r>
            <a:r>
              <a:rPr b="0" lang="en-US" sz="900" spc="-1" strike="noStrike">
                <a:solidFill>
                  <a:srgbClr val="000000"/>
                </a:solidFill>
                <a:latin typeface="Arial"/>
              </a:rPr>
              <a:t>their hands and faces periodically to avoid ingesting leaded dust. You should also wash well before eating, drinking or smoking. You should not </a:t>
            </a:r>
            <a:r>
              <a:rPr b="0" lang="en-US" sz="900" spc="-1" strike="noStrike" u="sng">
                <a:solidFill>
                  <a:srgbClr val="000000"/>
                </a:solidFill>
                <a:uFillTx/>
                <a:latin typeface="Arial"/>
              </a:rPr>
              <a:t>eat, drink, or smoke in the work area</a:t>
            </a:r>
            <a:r>
              <a:rPr b="0" lang="en-US" sz="900" spc="-1" strike="noStrike">
                <a:solidFill>
                  <a:srgbClr val="000000"/>
                </a:solidFill>
                <a:latin typeface="Arial"/>
              </a:rPr>
              <a:t>. Some of the dust that settles on the face around the mouth invariably finds its way into the mouth. Workers should also wash at the end of the day before getting in their car or going home. They shouldn’t take leaded dust home to their families. </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al protection is especially important on high dust generating jobs when lead-based paint or lead-contaminated dust is disturbed, and while cleaning is being performed. However, the same level of protection is not necessary during the planning, testing or setup phases of the work when lead is not being disturbed. </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tective equipment listed above is meant to show what is needed during activities that disturb lead-based paint and lead-contaminated dust. Depending upon work practices used, OSHA rules may require employers to take further steps to protect the health of workers on the job.</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SHA provides additional information on working with lead in their Safety and Health Regulations for Lead in the Construction Industry (29 CFR 1926.62).</a:t>
            </a:r>
            <a:endParaRPr b="0" lang="en-US" sz="900" spc="-1" strike="noStrike">
              <a:solidFill>
                <a:srgbClr val="000000"/>
              </a:solidFill>
              <a:latin typeface="Arial"/>
            </a:endParaRPr>
          </a:p>
          <a:p>
            <a:pPr lvl="1"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5"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B991F2A2-D721-48D5-AFA6-ACA52292751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6"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7" name="PlaceHolder 1"/>
          <p:cNvSpPr>
            <a:spLocks noGrp="1"/>
          </p:cNvSpPr>
          <p:nvPr>
            <p:ph type="sldImg"/>
          </p:nvPr>
        </p:nvSpPr>
        <p:spPr>
          <a:xfrm>
            <a:off x="1295280" y="685800"/>
            <a:ext cx="4800600" cy="3600360"/>
          </a:xfrm>
          <a:prstGeom prst="rect">
            <a:avLst/>
          </a:prstGeom>
          <a:ln w="0">
            <a:noFill/>
          </a:ln>
        </p:spPr>
      </p:sp>
      <p:sp>
        <p:nvSpPr>
          <p:cNvPr id="128" name="PlaceHolder 2"/>
          <p:cNvSpPr>
            <a:spLocks noGrp="1"/>
          </p:cNvSpPr>
          <p:nvPr>
            <p:ph type="body"/>
          </p:nvPr>
        </p:nvSpPr>
        <p:spPr>
          <a:xfrm>
            <a:off x="914400" y="4419360"/>
            <a:ext cx="54864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 to take when leaving the work sit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eave the work site (the area covered by protective sheeting or the work room), take precautions to prevent spreading dust and paint chips on your clothes and shoes to other parts of the residen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the plastic sheeting around the surfaces being renovated, remove the  disposable shoe covers and wipe or vacuum your shoes before you step off the plastic sheeting. A large disposable tack pad on the floor can help to clean the soles of your shoes.</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containment, HEPA vacuum and remove your disposable coveralls and disposable shoe covers. Clean and/or vacuum your shoes, and wash your hands and fa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clothes and wash yourself to reduce the risk of contaminating your car and taking leaded dust home to your family.</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eaving the worksite, remove any protective clothing, HEPA vacuum dust from non-protective clothing, and thoroughly wash your hands and face. Throw away disposable clothing or place clothing in a plastic bag to stop dust from getting on other clothes at home.</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you arrive home, take a shower and be sure to thoroughly wash your hair, especially before playing with children.  Wash your work clothes separately from regular household laundry to stop lead from getting on your other clothes.</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n before you come in contact with family members, especially children.  Remember the video about the contractor who lead-poisoned his own ki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0"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0F884448-CD8B-4448-9357-523B219CF5D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1"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2" name="PlaceHolder 1"/>
          <p:cNvSpPr>
            <a:spLocks noGrp="1"/>
          </p:cNvSpPr>
          <p:nvPr>
            <p:ph type="sldImg"/>
          </p:nvPr>
        </p:nvSpPr>
        <p:spPr>
          <a:xfrm>
            <a:off x="1219320" y="533520"/>
            <a:ext cx="4800600" cy="3600360"/>
          </a:xfrm>
          <a:prstGeom prst="rect">
            <a:avLst/>
          </a:prstGeom>
          <a:ln w="0">
            <a:noFill/>
          </a:ln>
        </p:spPr>
      </p:sp>
      <p:sp>
        <p:nvSpPr>
          <p:cNvPr id="133" name="PlaceHolder 2"/>
          <p:cNvSpPr>
            <a:spLocks noGrp="1"/>
          </p:cNvSpPr>
          <p:nvPr>
            <p:ph type="body"/>
          </p:nvPr>
        </p:nvSpPr>
        <p:spPr>
          <a:xfrm>
            <a:off x="630360" y="4190760"/>
            <a:ext cx="607536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work site frequently.</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ing the work site frequently as the job progresses will reduce the spread of dust and paint chips. Daily cleaning need not be as thorough as the final cleaning. It should, however, keep debris, dust and paint chips from piling up and spreading beyond the immediate work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cleaning during the job include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ing debris frequently.</a:t>
            </a:r>
            <a:r>
              <a:rPr b="0" lang="en-US" sz="1200" spc="-1" strike="noStrike">
                <a:solidFill>
                  <a:srgbClr val="000000"/>
                </a:solidFill>
                <a:latin typeface="Arial"/>
              </a:rPr>
              <a:t> Seal and dispose of construction debris as it is create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uming horizontal surfaces frequently.</a:t>
            </a:r>
            <a:r>
              <a:rPr b="0" lang="en-US" sz="1200" spc="-1" strike="noStrike">
                <a:solidFill>
                  <a:srgbClr val="000000"/>
                </a:solidFill>
                <a:latin typeface="Arial"/>
              </a:rPr>
              <a:t> HEPA vacuum dust and paint chips that settle on surfaces, including protective sheeting. As workers come and go during the work day, this debris is easily spread. Periodic cleaning throughout the work day helps minimize the spread of du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 paint chips as they are created.</a:t>
            </a:r>
            <a:r>
              <a:rPr b="0" lang="en-US" sz="1200" spc="-1" strike="noStrike">
                <a:solidFill>
                  <a:srgbClr val="000000"/>
                </a:solidFill>
                <a:latin typeface="Arial"/>
              </a:rPr>
              <a:t> When removing paint, paint chips can spread outside the immediate work area as workers come and go from the work site. To keep paint chips from spreading beyond the work site, make sure that they are collected as they are created. Periodically HEPA vacuum and dispose of paint chip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and disposing of removed components.</a:t>
            </a:r>
            <a:r>
              <a:rPr b="0" lang="en-US" sz="1200" spc="-1" strike="noStrike">
                <a:solidFill>
                  <a:srgbClr val="000000"/>
                </a:solidFill>
                <a:latin typeface="Arial"/>
              </a:rPr>
              <a:t> When removing painted components such as windows, trim and cabinets, wrap them in plastic sheeting and dispose of them in stages. This will prevent the spread of debris and keep residents, especially children, from coming into contact with leaded dust created by the work.</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fe Waste Disposal.</a:t>
            </a:r>
            <a:r>
              <a:rPr b="0" lang="en-US" sz="1200" spc="-1" strike="noStrike">
                <a:solidFill>
                  <a:srgbClr val="000000"/>
                </a:solidFill>
                <a:latin typeface="Arial"/>
                <a:ea typeface="Times New Roman"/>
              </a:rPr>
              <a:t>  All renovation waste from the work area must be contained prior to its removal, storage, or disposal to prevent releases of dust and debris. Chutes for removing waste from the work area must be covered. At the conclusion of each work day, collect waste and store it in containment, in an enclosure, or behind a barrier that prevents the release of, and access to, dust and debris. When transporting waste from the renovation work area it must be contained to prevent the release of dust and debris.</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often should cleaning during the job take place?</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keep dust and debris under control, not to maintain a completely spotless site at all times. Every job is different; so clean when it makes sense to, without hindering progress. Remove large amounts of dust, paint chips, and debris frequently, at least dai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5"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1DF59FB6-2724-4BDD-B86C-20CEA284B61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7" name="PlaceHolder 1"/>
          <p:cNvSpPr>
            <a:spLocks noGrp="1"/>
          </p:cNvSpPr>
          <p:nvPr>
            <p:ph type="sldImg"/>
          </p:nvPr>
        </p:nvSpPr>
        <p:spPr>
          <a:xfrm>
            <a:off x="1297080" y="708120"/>
            <a:ext cx="4800600" cy="3600360"/>
          </a:xfrm>
          <a:prstGeom prst="rect">
            <a:avLst/>
          </a:prstGeom>
          <a:ln w="0">
            <a:noFill/>
          </a:ln>
        </p:spPr>
      </p:sp>
      <p:sp>
        <p:nvSpPr>
          <p:cNvPr id="138" name="PlaceHolder 2"/>
          <p:cNvSpPr>
            <a:spLocks noGrp="1"/>
          </p:cNvSpPr>
          <p:nvPr>
            <p:ph type="body"/>
          </p:nvPr>
        </p:nvSpPr>
        <p:spPr>
          <a:xfrm>
            <a:off x="844560" y="4571640"/>
            <a:ext cx="5664240" cy="4319640"/>
          </a:xfrm>
          <a:prstGeom prst="rect">
            <a:avLst/>
          </a:prstGeom>
          <a:noFill/>
          <a:ln w="0">
            <a:noFill/>
          </a:ln>
        </p:spPr>
        <p:txBody>
          <a:bodyPr lIns="96480" rIns="96480" tIns="48240" bIns="48240" anchor="t">
            <a:noAutofit/>
          </a:bodyPr>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Protective Equipment </a:t>
            </a:r>
            <a:endParaRPr b="0" lang="en-US" sz="12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learn and practice the proper steps for putting on and taking off personal protective equipment, disposing of used equipment, and decontaminating yourself.  The slide provides basic instruction.</a:t>
            </a:r>
            <a:endParaRPr b="0" lang="en-US" sz="10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40"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B30380B2-1D34-4597-BA13-1EF425AFCBF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1"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2" name="PlaceHolder 1"/>
          <p:cNvSpPr>
            <a:spLocks noGrp="1"/>
          </p:cNvSpPr>
          <p:nvPr>
            <p:ph type="sldImg"/>
          </p:nvPr>
        </p:nvSpPr>
        <p:spPr>
          <a:xfrm>
            <a:off x="1295280" y="685800"/>
            <a:ext cx="4800600" cy="3600360"/>
          </a:xfrm>
          <a:prstGeom prst="rect">
            <a:avLst/>
          </a:prstGeom>
          <a:ln w="0">
            <a:noFill/>
          </a:ln>
        </p:spPr>
      </p:sp>
      <p:sp>
        <p:nvSpPr>
          <p:cNvPr id="143" name="PlaceHolder 2"/>
          <p:cNvSpPr>
            <a:spLocks noGrp="1"/>
          </p:cNvSpPr>
          <p:nvPr>
            <p:ph type="body"/>
          </p:nvPr>
        </p:nvSpPr>
        <p:spPr>
          <a:xfrm>
            <a:off x="1046160" y="4571640"/>
            <a:ext cx="526104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s you learned in this module will help you make less dust as you work.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next module, we’ll talk about how to conduct final cleaning of the work area, and how to verify that the cleaning is comple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0CCC0-4D94-47A9-89B5-0C6A87910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99D3E-CC6B-4ED7-A8D7-9195BCA9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D70D7-5883-496D-AD19-F180A24A6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E99B6-1A28-44E6-8ACC-24C84088C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44BCD-8D4D-4880-A33C-28114A5F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F5089-0BC7-40BD-972A-5013ECFA4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E8471-22D3-43A7-98D6-2A3344525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A7125-9953-490C-A786-B12DF8245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E39C3-5B2B-41C2-BB7F-25DB9C8CC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C1325-F0BC-4D4D-9476-4BFAC5408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C3F0B-9435-42D1-8155-3A0A42993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EF0E0-1357-44D2-AF6A-6FD064013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8D004992-7615-4611-A808-91DE646E435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51360"/>
          <a:ext cx="1562040" cy="735120"/>
        </p:xfrm>
        <a:graphic>
          <a:graphicData uri="http://schemas.openxmlformats.org/presentationml/2006/ole">
            <p:oleObj r:id="rId3" spid="">
              <p:embed/>
              <p:pic>
                <p:nvPicPr>
                  <p:cNvPr id="8" name="Object 11"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C90036B7-3EE0-4D28-ADB5-FD51F7E9CA0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5: During the Work</a:t>
            </a:r>
            <a:endParaRPr b="1" lang="en-US" sz="4000" spc="-1" strike="noStrike">
              <a:solidFill>
                <a:srgbClr val="000099"/>
              </a:solidFill>
              <a:latin typeface="Arial"/>
            </a:endParaRPr>
          </a:p>
        </p:txBody>
      </p:sp>
      <p:sp>
        <p:nvSpPr>
          <p:cNvPr id="55" name="PlaceHolder 2"/>
          <p:cNvSpPr>
            <a:spLocks noGrp="1"/>
          </p:cNvSpPr>
          <p:nvPr>
            <p:ph/>
          </p:nvPr>
        </p:nvSpPr>
        <p:spPr>
          <a:xfrm>
            <a:off x="304920" y="1676520"/>
            <a:ext cx="86104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endParaRPr b="1" lang="en-US" sz="32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Traditional renovations create airborne dust.</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hibited practic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tect yourself and make a personal protective equipment toolki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rol the spread of dus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ands-on exercise (Skill Set #6).</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AB30DE40-15FD-490C-AE6C-CD4D736D2EE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Traditional Renovations Create Airborne Leaded Dust</a:t>
            </a:r>
            <a:r>
              <a:rPr b="1" lang="en-US" sz="4000" spc="-1" strike="noStrike">
                <a:solidFill>
                  <a:srgbClr val="000099"/>
                </a:solidFill>
                <a:latin typeface="Arial"/>
              </a:rPr>
              <a:t> </a:t>
            </a:r>
            <a:endParaRPr b="1" lang="en-US" sz="4000" spc="-1" strike="noStrike">
              <a:solidFill>
                <a:srgbClr val="000099"/>
              </a:solidFill>
              <a:latin typeface="Arial"/>
            </a:endParaRPr>
          </a:p>
        </p:txBody>
      </p:sp>
      <p:graphicFrame>
        <p:nvGraphicFramePr>
          <p:cNvPr id="59" name="Object 0"/>
          <p:cNvGraphicFramePr/>
          <p:nvPr/>
        </p:nvGraphicFramePr>
        <p:xfrm>
          <a:off x="838080" y="1752480"/>
          <a:ext cx="7434360" cy="4038840"/>
        </p:xfrm>
        <a:graphic>
          <a:graphicData uri="http://schemas.openxmlformats.org/presentationml/2006/ole">
            <p:oleObj progId="Excel.Sheet.12" r:id="rId1" spid="">
              <p:embed/>
              <p:pic>
                <p:nvPicPr>
                  <p:cNvPr id="60" name="Object 0" descr="Graph indicating airborne lead levels from hand sanding, power sanding, and interior demolition"/>
                  <p:cNvPicPr/>
                  <p:nvPr/>
                </p:nvPicPr>
                <p:blipFill>
                  <a:blip r:embed="rId2"/>
                  <a:stretch/>
                </p:blipFill>
                <p:spPr>
                  <a:xfrm>
                    <a:off x="838080" y="1752480"/>
                    <a:ext cx="7434360" cy="4038840"/>
                  </a:xfrm>
                  <a:prstGeom prst="rect">
                    <a:avLst/>
                  </a:prstGeom>
                  <a:ln w="0">
                    <a:noFill/>
                  </a:ln>
                </p:spPr>
              </p:pic>
            </p:oleObj>
          </a:graphicData>
        </a:graphic>
      </p:graphicFrame>
      <p:sp>
        <p:nvSpPr>
          <p:cNvPr id="61" name="Freeform 8"/>
          <p:cNvSpPr/>
          <p:nvPr/>
        </p:nvSpPr>
        <p:spPr>
          <a:xfrm>
            <a:off x="2057400" y="4743360"/>
            <a:ext cx="552456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Text Box 9"/>
          <p:cNvSpPr/>
          <p:nvPr/>
        </p:nvSpPr>
        <p:spPr>
          <a:xfrm>
            <a:off x="1676520" y="4572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 name="Text Box 10"/>
          <p:cNvSpPr/>
          <p:nvPr/>
        </p:nvSpPr>
        <p:spPr>
          <a:xfrm>
            <a:off x="1676520" y="594360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SHA Permissible Exposure Limit (PEL) = 50 </a:t>
            </a:r>
            <a:r>
              <a:rPr b="1" i="1" lang="en-US" sz="2400" spc="-1" strike="noStrike">
                <a:solidFill>
                  <a:srgbClr val="000000"/>
                </a:solidFill>
                <a:latin typeface="Arial"/>
              </a:rPr>
              <a:t>µ</a:t>
            </a:r>
            <a:r>
              <a:rPr b="1" lang="en-US" sz="2400" spc="-1" strike="noStrike">
                <a:solidFill>
                  <a:srgbClr val="000000"/>
                </a:solidFill>
                <a:latin typeface="Arial"/>
              </a:rPr>
              <a:t>g/m</a:t>
            </a:r>
            <a:r>
              <a:rPr b="1" lang="en-US" sz="2400" spc="-1" strike="noStrike" baseline="30000">
                <a:solidFill>
                  <a:srgbClr val="000000"/>
                </a:solidFill>
                <a:latin typeface="Arial"/>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0AA8A5C2-6D23-4F3F-A826-ABD25EF445F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Prohibited Practices</a:t>
            </a:r>
            <a:endParaRPr b="1" lang="en-US" sz="4000" spc="-1" strike="noStrike">
              <a:solidFill>
                <a:srgbClr val="000099"/>
              </a:solidFill>
              <a:latin typeface="Arial"/>
            </a:endParaRPr>
          </a:p>
        </p:txBody>
      </p:sp>
      <p:pic>
        <p:nvPicPr>
          <p:cNvPr id="67" name="Picture 4" descr="Illustration of torch"/>
          <p:cNvPicPr/>
          <p:nvPr/>
        </p:nvPicPr>
        <p:blipFill>
          <a:blip r:embed="rId1"/>
          <a:stretch/>
        </p:blipFill>
        <p:spPr>
          <a:xfrm>
            <a:off x="0" y="1752480"/>
            <a:ext cx="2590920" cy="1727280"/>
          </a:xfrm>
          <a:prstGeom prst="rect">
            <a:avLst/>
          </a:prstGeom>
          <a:ln w="0">
            <a:noFill/>
          </a:ln>
        </p:spPr>
      </p:pic>
      <p:pic>
        <p:nvPicPr>
          <p:cNvPr id="68" name="Picture 5" descr="Illustration of heat gun removing paint"/>
          <p:cNvPicPr/>
          <p:nvPr/>
        </p:nvPicPr>
        <p:blipFill>
          <a:blip r:embed="rId2"/>
          <a:stretch/>
        </p:blipFill>
        <p:spPr>
          <a:xfrm>
            <a:off x="1752480" y="2362320"/>
            <a:ext cx="2167200" cy="2290680"/>
          </a:xfrm>
          <a:prstGeom prst="rect">
            <a:avLst/>
          </a:prstGeom>
          <a:ln w="0">
            <a:noFill/>
          </a:ln>
        </p:spPr>
      </p:pic>
      <p:pic>
        <p:nvPicPr>
          <p:cNvPr id="69" name="Picture 6" descr="Illustration of power sander"/>
          <p:cNvPicPr/>
          <p:nvPr/>
        </p:nvPicPr>
        <p:blipFill>
          <a:blip r:embed="rId3"/>
          <a:stretch/>
        </p:blipFill>
        <p:spPr>
          <a:xfrm>
            <a:off x="914400" y="4648320"/>
            <a:ext cx="2819520" cy="1492200"/>
          </a:xfrm>
          <a:prstGeom prst="rect">
            <a:avLst/>
          </a:prstGeom>
          <a:ln w="0">
            <a:noFill/>
          </a:ln>
        </p:spPr>
      </p:pic>
      <p:sp>
        <p:nvSpPr>
          <p:cNvPr id="70" name="PlaceHolder 2"/>
          <p:cNvSpPr>
            <a:spLocks noGrp="1"/>
          </p:cNvSpPr>
          <p:nvPr>
            <p:ph/>
          </p:nvPr>
        </p:nvSpPr>
        <p:spPr>
          <a:xfrm>
            <a:off x="4191120" y="1752120"/>
            <a:ext cx="4610160" cy="3962520"/>
          </a:xfrm>
          <a:prstGeom prst="rect">
            <a:avLst/>
          </a:prstGeom>
          <a:noFill/>
          <a:ln w="0">
            <a:noFill/>
          </a:ln>
        </p:spPr>
        <p:txBody>
          <a:bodyPr anchor="t">
            <a:normAutofit fontScale="94000"/>
          </a:bodyPr>
          <a:p>
            <a:pPr marL="322200" indent="-32220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pen-flame burning or torching.</a:t>
            </a:r>
            <a:endParaRPr b="1" lang="en-US" sz="2400" spc="-1" strike="noStrike">
              <a:solidFill>
                <a:srgbClr val="000099"/>
              </a:solidFill>
              <a:latin typeface="Arial"/>
            </a:endParaRPr>
          </a:p>
          <a:p>
            <a:pPr marL="322200" indent="-32220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t gun above 1100º F.</a:t>
            </a:r>
            <a:endParaRPr b="1" lang="en-US" sz="2400" spc="-1" strike="noStrike">
              <a:solidFill>
                <a:srgbClr val="000099"/>
              </a:solidFill>
              <a:latin typeface="Arial"/>
            </a:endParaRPr>
          </a:p>
          <a:p>
            <a:pPr marL="322200" indent="-32220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wer sanding, power grinding, power planing, needle guns, abrasive blasting and sandblasting, without shroud or containment system equipped with HEPA vacuum.</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90505582-C1D0-4B2E-90DB-80218B9F80D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pecialized Tools</a:t>
            </a:r>
            <a:endParaRPr b="1" lang="en-US" sz="4000" spc="-1" strike="noStrike">
              <a:solidFill>
                <a:srgbClr val="000099"/>
              </a:solidFill>
              <a:latin typeface="Arial"/>
            </a:endParaRPr>
          </a:p>
        </p:txBody>
      </p:sp>
      <p:sp>
        <p:nvSpPr>
          <p:cNvPr id="74" name="PlaceHolder 2"/>
          <p:cNvSpPr>
            <a:spLocks noGrp="1"/>
          </p:cNvSpPr>
          <p:nvPr>
            <p:ph/>
          </p:nvPr>
        </p:nvSpPr>
        <p:spPr>
          <a:xfrm>
            <a:off x="304560" y="1981080"/>
            <a:ext cx="601956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rge jobs may require special considerations to get the job done, like:</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wer tools designed to remove paint or other coating must have shroud or containment system equipped with HEPA vacuum.</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neumatic and battery powered tools to protect against shock hazards.</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pecialized planning and containment.</a:t>
            </a:r>
            <a:endParaRPr b="0" lang="en-US" sz="2000" spc="-1" strike="noStrike">
              <a:solidFill>
                <a:srgbClr val="000099"/>
              </a:solidFill>
              <a:latin typeface="Arial"/>
            </a:endParaRPr>
          </a:p>
        </p:txBody>
      </p:sp>
      <p:pic>
        <p:nvPicPr>
          <p:cNvPr id="75" name="Picture 4" descr="Illustration of power sander equipped with HEPA vacuum"/>
          <p:cNvPicPr/>
          <p:nvPr/>
        </p:nvPicPr>
        <p:blipFill>
          <a:blip r:embed="rId1"/>
          <a:stretch/>
        </p:blipFill>
        <p:spPr>
          <a:xfrm>
            <a:off x="6324480" y="2209680"/>
            <a:ext cx="2076480" cy="29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C1C18ADA-DCC5-4C70-BD6D-16D5ECC95E7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8" name="Picture 1029" descr="Illustration of worker in protective suit and mask"/>
          <p:cNvPicPr/>
          <p:nvPr/>
        </p:nvPicPr>
        <p:blipFill>
          <a:blip r:embed="rId1"/>
          <a:stretch/>
        </p:blipFill>
        <p:spPr>
          <a:xfrm>
            <a:off x="6781680" y="2057400"/>
            <a:ext cx="1727280" cy="3535200"/>
          </a:xfrm>
          <a:prstGeom prst="rect">
            <a:avLst/>
          </a:prstGeom>
          <a:ln w="0">
            <a:noFill/>
          </a:ln>
        </p:spPr>
      </p:pic>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rotect Yourself</a:t>
            </a:r>
            <a:endParaRPr b="1" lang="en-US" sz="4000" spc="-1" strike="noStrike">
              <a:solidFill>
                <a:srgbClr val="000099"/>
              </a:solidFill>
              <a:latin typeface="Arial"/>
            </a:endParaRPr>
          </a:p>
        </p:txBody>
      </p:sp>
      <p:sp>
        <p:nvSpPr>
          <p:cNvPr id="80" name="PlaceHolder 2"/>
          <p:cNvSpPr>
            <a:spLocks noGrp="1"/>
          </p:cNvSpPr>
          <p:nvPr>
            <p:ph/>
          </p:nvPr>
        </p:nvSpPr>
        <p:spPr>
          <a:xfrm>
            <a:off x="304920" y="1828800"/>
            <a:ext cx="6705360" cy="45720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should wear:</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painter’s h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coveralls.</a:t>
            </a:r>
            <a:endParaRPr b="0" lang="en-US" sz="20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air tears with duct tape.</a:t>
            </a:r>
            <a:endParaRPr b="0" lang="en-US" sz="18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pose of in plastic bag.</a:t>
            </a:r>
            <a:endParaRPr b="0" lang="en-US" sz="1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N-100, R-100 or P-100 respirator.</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ash face and hands frequently and at the end of each shift.</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ing helps to reduce hand-to-mouth ingestion of leaded dust.</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SHA may require more protection depending on what work is don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FE68B8BE-BE03-4B45-8B5E-A3CCCF1C38E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ntrol the Spread of Dust</a:t>
            </a:r>
            <a:endParaRPr b="1" lang="en-US" sz="4000" spc="-1" strike="noStrike">
              <a:solidFill>
                <a:srgbClr val="000099"/>
              </a:solidFill>
              <a:latin typeface="Arial"/>
            </a:endParaRPr>
          </a:p>
        </p:txBody>
      </p:sp>
      <p:sp>
        <p:nvSpPr>
          <p:cNvPr id="84" name="PlaceHolder 2"/>
          <p:cNvSpPr>
            <a:spLocks noGrp="1"/>
          </p:cNvSpPr>
          <p:nvPr>
            <p:ph/>
          </p:nvPr>
        </p:nvSpPr>
        <p:spPr>
          <a:xfrm>
            <a:off x="228240" y="1752120"/>
            <a:ext cx="8915400" cy="4419720"/>
          </a:xfrm>
          <a:prstGeom prst="rect">
            <a:avLst/>
          </a:prstGeom>
          <a:noFill/>
          <a:ln w="0">
            <a:noFill/>
          </a:ln>
        </p:spPr>
        <p:txBody>
          <a:bodyPr anchor="t">
            <a:normAutofit/>
          </a:bodyPr>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you leave the work site, clean yourself and your tools.</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shoe coverings and HEPA vacuum or wipe sho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lk on disposable tack pads to remove dust from your sol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and remove coveralls, and HEPA vacuum your cloth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gloves if used, and carefully wash your hands and face.</a:t>
            </a:r>
            <a:endParaRPr b="0" lang="en-US" sz="2000" spc="-1" strike="noStrike">
              <a:solidFill>
                <a:srgbClr val="000099"/>
              </a:solidFill>
              <a:latin typeface="Arial"/>
            </a:endParaRPr>
          </a:p>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the end of the day don’t take lead home to your family on your clothes or in your car.</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clothes, shoes, etc.</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ange your clothes, and dispose of disposable clothing or place dusty work cloths in a plastic bag to wash separately from household laundry.</a:t>
            </a:r>
            <a:endParaRPr b="0" lang="en-US" sz="20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on’t hug your family until you get clean!</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 your hands and fac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er as soon as you get hom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856AFE74-1B7E-4154-B840-A083D35F551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eaning During the Job</a:t>
            </a:r>
            <a:endParaRPr b="1" lang="en-US" sz="4000" spc="-1" strike="noStrike">
              <a:solidFill>
                <a:srgbClr val="000099"/>
              </a:solidFill>
              <a:latin typeface="Arial"/>
            </a:endParaRPr>
          </a:p>
        </p:txBody>
      </p:sp>
      <p:sp>
        <p:nvSpPr>
          <p:cNvPr id="88" name="PlaceHolder 2"/>
          <p:cNvSpPr>
            <a:spLocks noGrp="1"/>
          </p:cNvSpPr>
          <p:nvPr>
            <p:ph/>
          </p:nvPr>
        </p:nvSpPr>
        <p:spPr>
          <a:xfrm>
            <a:off x="304560" y="1980720"/>
            <a:ext cx="8458200" cy="38862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n work site reduces the spread of dust and paint chip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s you work.</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horizontal surface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debris frequently.</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aint chips as they are created.</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building components are removed, wrap and dispose of them immediately.</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frequently (in stages, at least daily).</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3676FDC3-A125-44C6-8423-CD17D3544CA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1" name="Rectangle 7"/>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xercise: Personal Protective Equipment</a:t>
            </a:r>
            <a:r>
              <a:rPr b="1" lang="en-US" sz="3200" spc="-1" strike="noStrike">
                <a:solidFill>
                  <a:srgbClr val="000099"/>
                </a:solidFill>
                <a:latin typeface="Arial"/>
              </a:rPr>
              <a:t> </a:t>
            </a:r>
            <a:r>
              <a:rPr b="1" lang="en-US" sz="4000" spc="-1" strike="noStrike">
                <a:solidFill>
                  <a:srgbClr val="000099"/>
                </a:solidFill>
                <a:latin typeface="Arial"/>
              </a:rPr>
              <a:t>	</a:t>
            </a:r>
            <a:endParaRPr b="0" lang="en-US" sz="4000" spc="-1" strike="noStrike">
              <a:solidFill>
                <a:srgbClr val="000000"/>
              </a:solidFill>
              <a:latin typeface="Times New Roman"/>
            </a:endParaRPr>
          </a:p>
        </p:txBody>
      </p:sp>
      <p:sp>
        <p:nvSpPr>
          <p:cNvPr id="92" name="Rectangle 8"/>
          <p:cNvSpPr/>
          <p:nvPr/>
        </p:nvSpPr>
        <p:spPr>
          <a:xfrm>
            <a:off x="457200" y="1752480"/>
            <a:ext cx="8458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atch the instructor dress a volunteer in personal protective equipment.</a:t>
            </a:r>
            <a:endParaRPr b="0" lang="en-US" sz="2800" spc="-1" strike="noStrike">
              <a:solidFill>
                <a:srgbClr val="000000"/>
              </a:solidFill>
              <a:latin typeface="Times New Roman"/>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kill Set #6 – Protective Equipment (10 Min).</a:t>
            </a:r>
            <a:endParaRPr b="0" lang="en-US" sz="2400" spc="-1" strike="noStrike">
              <a:solidFill>
                <a:srgbClr val="000000"/>
              </a:solidFill>
              <a:latin typeface="Times New Roman"/>
            </a:endParaRPr>
          </a:p>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actice putting on and taking off personal protective equipment.</a:t>
            </a:r>
            <a:endParaRPr b="0" lang="en-US" sz="2800" spc="-1" strike="noStrike">
              <a:solidFill>
                <a:srgbClr val="000000"/>
              </a:solidFill>
              <a:latin typeface="Times New Roman"/>
            </a:endParaRPr>
          </a:p>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e of used equipment properly and clean 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B7832E7B-1FA6-48CB-AA40-3C759EB5346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96"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ork practices produce d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ork practices are prohibited by EPA and HU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work safely around lead-based paint and leaded d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per use of personal protective equipmen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8T15:26:52Z</cp:lastPrinted>
  <dcterms:modified xsi:type="dcterms:W3CDTF">2011-10-04T17:16:49Z</dcterms:modified>
  <cp:revision>262</cp:revision>
  <dc:subject/>
  <dc:title>Module 5: During the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