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0600" y="8915400"/>
            <a:ext cx="230184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0520" y="8991720"/>
            <a:ext cx="15447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DF02CB3A-D96D-467D-A03F-FF047D8C4E5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1454F4B-CC92-483E-94F3-3D268956F1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6" name="PlaceHolder 1"/>
          <p:cNvSpPr>
            <a:spLocks noGrp="1"/>
          </p:cNvSpPr>
          <p:nvPr>
            <p:ph type="sldImg"/>
          </p:nvPr>
        </p:nvSpPr>
        <p:spPr>
          <a:xfrm>
            <a:off x="1295280" y="68580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RP Rule requires that you, the Certified Renovator, be responsible for instruction of non-certified renovation workers.  Note that the non-certified workers must be trained only on the RRP Rule-required work practices that the workers will be using in performing their assigned tasks.  For example, if a worker is hired to only provide clean-up services, that worker would not need to be trained on how to set up a work area.</a:t>
            </a:r>
            <a:endParaRPr b="0" lang="en-US" sz="1100" spc="-1" strike="noStrike">
              <a:solidFill>
                <a:srgbClr val="000000"/>
              </a:solidFill>
              <a:latin typeface="Arial"/>
            </a:endParaRPr>
          </a:p>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Slide 2-11 and HUD regulations for more information on the training required for workers on HUD funded renovation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1919A46-0AFA-451B-AFE5-2A2217E5AB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95280" y="685800"/>
            <a:ext cx="4800600" cy="3600360"/>
          </a:xfrm>
          <a:prstGeom prst="rect">
            <a:avLst/>
          </a:prstGeom>
          <a:ln w="0">
            <a:noFill/>
          </a:ln>
        </p:spPr>
      </p:sp>
      <p:sp>
        <p:nvSpPr>
          <p:cNvPr id="162" name="PlaceHolder 2"/>
          <p:cNvSpPr>
            <a:spLocks noGrp="1"/>
          </p:cNvSpPr>
          <p:nvPr>
            <p:ph type="body"/>
          </p:nvPr>
        </p:nvSpPr>
        <p:spPr>
          <a:xfrm>
            <a:off x="761760" y="4419720"/>
            <a:ext cx="60195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63" name="Text Box 2054"/>
          <p:cNvSpPr/>
          <p:nvPr/>
        </p:nvSpPr>
        <p:spPr>
          <a:xfrm>
            <a:off x="914400" y="7467480"/>
            <a:ext cx="5715000" cy="7009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prohibit additional work practices.</a:t>
            </a:r>
            <a:endParaRPr b="0" lang="en-US" sz="1000" spc="-1" strike="noStrike">
              <a:solidFill>
                <a:srgbClr val="000000"/>
              </a:solidFill>
              <a:latin typeface="Times New Roman"/>
            </a:endParaRPr>
          </a:p>
        </p:txBody>
      </p:sp>
      <p:pic>
        <p:nvPicPr>
          <p:cNvPr id="164" name="Picture 2055" descr="HUD-seal-color 300 DPI"/>
          <p:cNvPicPr/>
          <p:nvPr/>
        </p:nvPicPr>
        <p:blipFill>
          <a:blip r:embed="rId1"/>
          <a:stretch/>
        </p:blipFill>
        <p:spPr>
          <a:xfrm>
            <a:off x="1143000" y="7543800"/>
            <a:ext cx="457200" cy="4381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6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D6557837-0A45-446A-A12C-2D125E626E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u="sng">
                <a:solidFill>
                  <a:srgbClr val="000000"/>
                </a:solidFill>
                <a:uFillTx/>
                <a:latin typeface="Arial"/>
              </a:rPr>
              <a:t>Do not clean with standard household or shop vacuum cleaners. Use only HEPA vacuum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two feet beyond, and on paths where debris was carried.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DBFBBBC9-E795-4869-9656-4B8922059D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14400" y="4571640"/>
            <a:ext cx="54100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through a 5 micron filter.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sidential renovation, repair and painting activities “routine residential maintenance.” The waste generated by these activities is classified as solid, non-hazardous waste and can be disposed of in an ordinary waste landfill.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B963A88F-70AA-4E53-BF4D-6FB6EB52F2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8" name="PlaceHolder 1"/>
          <p:cNvSpPr>
            <a:spLocks noGrp="1"/>
          </p:cNvSpPr>
          <p:nvPr>
            <p:ph type="sldImg"/>
          </p:nvPr>
        </p:nvSpPr>
        <p:spPr>
          <a:xfrm>
            <a:off x="1219320" y="685800"/>
            <a:ext cx="4800600" cy="3600360"/>
          </a:xfrm>
          <a:prstGeom prst="rect">
            <a:avLst/>
          </a:prstGeom>
          <a:ln w="0">
            <a:noFill/>
          </a:ln>
        </p:spPr>
      </p:sp>
      <p:sp>
        <p:nvSpPr>
          <p:cNvPr id="179" name="PlaceHolder 2"/>
          <p:cNvSpPr>
            <a:spLocks noGrp="1"/>
          </p:cNvSpPr>
          <p:nvPr>
            <p:ph type="body"/>
          </p:nvPr>
        </p:nvSpPr>
        <p:spPr>
          <a:xfrm>
            <a:off x="837720" y="4419720"/>
            <a:ext cx="579132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The first step to both cleaning verification and a clearance examination is a visual inspection of the work area to determine if dust, debris or residue was left behind. If dust, debris or residue are present in the work area, cleaning must be repeated and the visual inspection repeated until the work area is free of dust, debris and residue. Once the visual inspection by the Certified Renovator is complete,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825C1C92-615D-4F0B-BCA1-CE5D2B4D8D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ive this “toolbox training”, use of a training guide, such as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will make documentation easier. You should keep a copy of the training guide used at the “toolbox” training you conduct on-site. Make a list of each lead safe practical skill covered for each individual non-certified worker. A list of the practical skills taught to each non-certified worker with the material covered in the toolbox meetings will provide adequate documentation to meet RRP Rul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EC53D807-679A-419A-A760-08E5041D36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5F8ECC43-26CC-4AD3-9920-C565BEEDC3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1" name="PlaceHolder 1"/>
          <p:cNvSpPr>
            <a:spLocks noGrp="1"/>
          </p:cNvSpPr>
          <p:nvPr>
            <p:ph type="sldImg"/>
          </p:nvPr>
        </p:nvSpPr>
        <p:spPr>
          <a:xfrm>
            <a:off x="1295280" y="68580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all the skills you mastered during the Skill Set exercises? You will be teaching non-certified workers to master them.</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hopping lists in </a:t>
            </a:r>
            <a:r>
              <a:rPr b="0" i="1" lang="en-US" sz="1100" spc="-1" strike="noStrike">
                <a:solidFill>
                  <a:srgbClr val="000000"/>
                </a:solidFill>
                <a:latin typeface="Arial"/>
              </a:rPr>
              <a:t>Steps to LEAD SAFE Renovation, Repair and Painting </a:t>
            </a:r>
            <a:r>
              <a:rPr b="0" lang="en-US" sz="1100" spc="-1" strike="noStrike">
                <a:solidFill>
                  <a:srgbClr val="000000"/>
                </a:solidFill>
                <a:latin typeface="Arial"/>
              </a:rPr>
              <a:t>detail all of the equipment and supplies you may need to conduct hands-on exercises during on-the-job training of non-certified renovators.</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at follows is presented to aid you in conduct of the training.</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C689013F-6037-4A7B-A257-07627A13FD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6" name="PlaceHolder 1"/>
          <p:cNvSpPr>
            <a:spLocks noGrp="1"/>
          </p:cNvSpPr>
          <p:nvPr>
            <p:ph type="sldImg"/>
          </p:nvPr>
        </p:nvSpPr>
        <p:spPr>
          <a:xfrm>
            <a:off x="1295280" y="685800"/>
            <a:ext cx="4800600" cy="3600360"/>
          </a:xfrm>
          <a:prstGeom prst="rect">
            <a:avLst/>
          </a:prstGeom>
          <a:ln w="0">
            <a:noFill/>
          </a:ln>
        </p:spPr>
      </p:sp>
      <p:sp>
        <p:nvSpPr>
          <p:cNvPr id="127" name="PlaceHolder 2"/>
          <p:cNvSpPr>
            <a:spLocks noGrp="1"/>
          </p:cNvSpPr>
          <p:nvPr>
            <p:ph type="body"/>
          </p:nvPr>
        </p:nvSpPr>
        <p:spPr>
          <a:xfrm>
            <a:off x="761760" y="4419720"/>
            <a:ext cx="6019560" cy="4495680"/>
          </a:xfrm>
          <a:prstGeom prst="rect">
            <a:avLst/>
          </a:prstGeom>
          <a:noFill/>
          <a:ln w="0">
            <a:noFill/>
          </a:ln>
        </p:spPr>
        <p:txBody>
          <a:bodyPr lIns="96480" rIns="96480" tIns="48240" bIns="4824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indent="0">
              <a:spcBef>
                <a:spcPts val="300"/>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indent="0">
              <a:spcBef>
                <a:spcPts val="41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PA Renovation, Repair, and Painting Rule is found at </a:t>
            </a:r>
            <a:r>
              <a:rPr b="0" lang="en-US" sz="1100" spc="-1" strike="noStrike">
                <a:solidFill>
                  <a:srgbClr val="000000"/>
                </a:solidFill>
                <a:latin typeface="Arial"/>
              </a:rPr>
              <a:t>40 CFR 745.85 (a) and (b).</a:t>
            </a:r>
            <a:endParaRPr b="0" lang="en-US" sz="11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3772095C-57D0-4835-B25B-43CAF4B6BC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685800" y="4495320"/>
            <a:ext cx="591336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worker and for each job to the extent that each worker is adequately trained for the tasks he or she will be performing. This training may occur while the worke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worker trainees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personnel be allowed to participate in hands-on learning as work progresses and that skill sets that are learned by each student are documented. Documentation is required by the RRP Rule to assure that non-certified workers are trained to perform renovation activities to which they are assigned. Remember that the RRP Rule requires all non-certified personnel on the job to be given skills training specific to the tasks that they will perform on the job and that each person’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9FA633BD-89A1-45EA-9408-3A918AACCC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6" name="PlaceHolder 1"/>
          <p:cNvSpPr>
            <a:spLocks noGrp="1"/>
          </p:cNvSpPr>
          <p:nvPr>
            <p:ph type="sldImg"/>
          </p:nvPr>
        </p:nvSpPr>
        <p:spPr>
          <a:xfrm>
            <a:off x="1295280" y="685800"/>
            <a:ext cx="4800600" cy="3600360"/>
          </a:xfrm>
          <a:prstGeom prst="rect">
            <a:avLst/>
          </a:prstGeom>
          <a:ln w="0">
            <a:noFill/>
          </a:ln>
        </p:spPr>
      </p:sp>
      <p:sp>
        <p:nvSpPr>
          <p:cNvPr id="137"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ion worke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6 through 8-15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ion workers. The handout should also include write-ups of demonstrations and practical hands-on exercises, and a checklist of desired skills to reinforce the “toolbox” talks or classroom training. During either “toolbox” talks or classroom instruction, have non-certified renovator trainee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14365324-D3BC-41F1-8241-5D7B6CB4BFA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837720" y="4495680"/>
            <a:ext cx="5867640" cy="42436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 trainee</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9DA5F077-9A9A-4992-936D-E59B1A2D5A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6" name="PlaceHolder 1"/>
          <p:cNvSpPr>
            <a:spLocks noGrp="1"/>
          </p:cNvSpPr>
          <p:nvPr>
            <p:ph type="sldImg"/>
          </p:nvPr>
        </p:nvSpPr>
        <p:spPr>
          <a:xfrm>
            <a:off x="1295280" y="685800"/>
            <a:ext cx="4800600" cy="3600360"/>
          </a:xfrm>
          <a:prstGeom prst="rect">
            <a:avLst/>
          </a:prstGeom>
          <a:ln w="0">
            <a:noFill/>
          </a:ln>
        </p:spPr>
      </p:sp>
      <p:sp>
        <p:nvSpPr>
          <p:cNvPr id="147" name="PlaceHolder 2"/>
          <p:cNvSpPr>
            <a:spLocks noGrp="1"/>
          </p:cNvSpPr>
          <p:nvPr>
            <p:ph type="body"/>
          </p:nvPr>
        </p:nvSpPr>
        <p:spPr>
          <a:xfrm>
            <a:off x="914040" y="4343040"/>
            <a:ext cx="571500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 student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a:t>
            </a:r>
            <a:r>
              <a:rPr b="0" lang="en-US" sz="1000" spc="-1" strike="noStrike">
                <a:solidFill>
                  <a:srgbClr val="000000"/>
                </a:solidFill>
                <a:latin typeface="Arial"/>
              </a:rPr>
              <a:t> 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08DA8649-877C-4B8A-A4DB-C0C08828BC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874800" y="4485960"/>
            <a:ext cx="5486400" cy="44290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to a minimum of 6 feet from the area of paint disturbance. Close and seal doors, close window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B7CEA1B-BB66-49C5-8EB0-6687DDFB09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95280" y="685800"/>
            <a:ext cx="4800600" cy="3600360"/>
          </a:xfrm>
          <a:prstGeom prst="rect">
            <a:avLst/>
          </a:prstGeom>
          <a:ln w="0">
            <a:noFill/>
          </a:ln>
        </p:spPr>
      </p:sp>
      <p:sp>
        <p:nvSpPr>
          <p:cNvPr id="157" name="PlaceHolder 2"/>
          <p:cNvSpPr>
            <a:spLocks noGrp="1"/>
          </p:cNvSpPr>
          <p:nvPr>
            <p:ph type="body"/>
          </p:nvPr>
        </p:nvSpPr>
        <p:spPr>
          <a:xfrm>
            <a:off x="990360" y="4419720"/>
            <a:ext cx="571500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warning sign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 warning sign at each work area entrance.</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s should read: “Warning,</a:t>
            </a:r>
            <a:r>
              <a:rPr b="0" lang="en-US" sz="1000" spc="-1" strike="noStrike">
                <a:solidFill>
                  <a:srgbClr val="000000"/>
                </a:solidFill>
                <a:latin typeface="Arial"/>
                <a:ea typeface="Times New Roman"/>
              </a:rPr>
              <a:t> </a:t>
            </a:r>
            <a:r>
              <a:rPr b="0" lang="en-US" sz="1000" spc="-1" strike="noStrike">
                <a:solidFill>
                  <a:srgbClr val="000000"/>
                </a:solidFill>
                <a:latin typeface="Arial"/>
              </a:rPr>
              <a:t>Lead Work Area, Poison, No Smoking or Eating”  to remind workers that eating, drinking and smoking in the work area is prohib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E0706-2A9A-4A76-81E5-4A680C4E5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FA95-3DBF-44B3-97F0-27FBBAC4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4CEB5-CA65-4740-BFD0-883EF8591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EA3B0-694F-4DD2-956F-BA8FED1D4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8112A-124A-421C-9338-578C1CEC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4221-39BF-4CE7-982B-D7F5A41C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C841-011F-4077-8D3A-ADB47A83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1F2A4-074F-49A1-BF3F-A609F6B9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FD1C9-CEA4-4255-9817-CF45B088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D011-D50A-4862-BD5E-7B0DCCEB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BD7E-8213-4246-8B1A-53AADD86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C279-AF71-46C5-963F-1861454CF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BB329DC-49A1-448D-864B-4B1525245AB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207A4DB3-DC7E-4201-89E8-B1DBF9CA892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685800" y="228240"/>
            <a:ext cx="815328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8: Training Non-Certified Renovation Worke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Certified Renovators are responsible for teaching lead-safe work practices to non-certified renovation worker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B3AF2895-5D70-4C63-96A2-A79796D5AA3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510F13F6-8C10-44E1-AAB1-83A31A79446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D37A794-E3D6-4FB0-83AC-196F3A6371F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94FC325B-4159-4AE3-AA84-1C21B225F73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4"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 and is required in some cas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512EF46A-250A-4CD9-A81D-4B65EA46DE6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raining Documentation</a:t>
            </a:r>
            <a:endParaRPr b="1" lang="en-US" sz="4000" spc="-1" strike="noStrike">
              <a:solidFill>
                <a:srgbClr val="000099"/>
              </a:solidFill>
              <a:latin typeface="Arial"/>
            </a:endParaRPr>
          </a:p>
        </p:txBody>
      </p:sp>
      <p:sp>
        <p:nvSpPr>
          <p:cNvPr id="10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ertified Renovator assigned to the job must maintain the following records for on-the-job training :</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certification of worker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show which workers have what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list all training topics covered for each worker; and,</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be signed by the Certified Renovator who did the training.</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l training documentation must be kept for 3 years following completion of the renovation.</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B99FC0D8-1D9A-4C13-A683-CB7E5BE4F8E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1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at Certified Renovators are responsible for training non-certified renovation worker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oles of Certified Renovators and trained, non-certified workers during conduct of a renovatio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use </a:t>
            </a:r>
            <a:r>
              <a:rPr b="1" i="1" lang="en-US" sz="2800" spc="-1" strike="noStrike">
                <a:solidFill>
                  <a:srgbClr val="000099"/>
                </a:solidFill>
                <a:latin typeface="Arial"/>
              </a:rPr>
              <a:t>Steps to LEAD SAFE Renovation, Repair and Painting </a:t>
            </a:r>
            <a:r>
              <a:rPr b="1" lang="en-US" sz="2800" spc="-1" strike="noStrike">
                <a:solidFill>
                  <a:srgbClr val="000099"/>
                </a:solidFill>
                <a:latin typeface="Arial"/>
              </a:rPr>
              <a:t>to train non-certified renovation worke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21886690-0C39-495C-A57B-FC57432844B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worke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workers you need to:</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students what you know.</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the shopping list in </a:t>
            </a:r>
            <a:r>
              <a:rPr b="1" i="1" lang="en-US" sz="2000" spc="-1" strike="noStrike">
                <a:solidFill>
                  <a:srgbClr val="000099"/>
                </a:solidFill>
                <a:latin typeface="Arial"/>
              </a:rPr>
              <a:t>Steps to LEAD SAFE Renovation, Repair, and Painting</a:t>
            </a:r>
            <a:r>
              <a:rPr b="1" lang="en-US" sz="1800" spc="-1" strike="noStrike">
                <a:solidFill>
                  <a:srgbClr val="000099"/>
                </a:solidFill>
                <a:latin typeface="Arial"/>
              </a:rPr>
              <a:t> </a:t>
            </a:r>
            <a:r>
              <a:rPr b="1" lang="en-US" sz="2000" spc="-1" strike="noStrike">
                <a:solidFill>
                  <a:srgbClr val="000099"/>
                </a:solidFill>
                <a:latin typeface="Arial"/>
              </a:rPr>
              <a:t>and have appropriate materials at hand.</a:t>
            </a: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98461AC2-01AD-4198-ADC5-257EC905C96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workers in lead safe practice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BA95033-079B-4265-80F4-E5407F3CADE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ion Worke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ion worke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4300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rol dust and debri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A01407B-ECCF-4E4F-83DD-17789883ED0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for Teaching Lead Safety During Renovation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roach to training non-certified renovato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EA21A4CB-1FE2-43BB-B42A-20006B30060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se the “Steps” Guide</a:t>
            </a:r>
            <a:endParaRPr b="1" lang="en-US" sz="4000" spc="-1" strike="noStrike">
              <a:solidFill>
                <a:srgbClr val="000099"/>
              </a:solidFill>
              <a:latin typeface="Arial"/>
            </a:endParaRPr>
          </a:p>
        </p:txBody>
      </p:sp>
      <p:sp>
        <p:nvSpPr>
          <p:cNvPr id="75" name="PlaceHolder 2"/>
          <p:cNvSpPr>
            <a:spLocks noGrp="1"/>
          </p:cNvSpPr>
          <p:nvPr>
            <p:ph/>
          </p:nvPr>
        </p:nvSpPr>
        <p:spPr>
          <a:xfrm>
            <a:off x="3580920" y="1828440"/>
            <a:ext cx="487692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teps to LEAD SAFE Renovation, Repair and Painting</a:t>
            </a:r>
            <a:r>
              <a:rPr b="1" lang="en-US" sz="24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strongly recommended that you use this guide as a basis for training.</a:t>
            </a:r>
            <a:endParaRPr b="1" lang="en-US" sz="2400" spc="-1" strike="noStrike">
              <a:solidFill>
                <a:srgbClr val="000099"/>
              </a:solidFill>
              <a:latin typeface="Arial"/>
            </a:endParaRPr>
          </a:p>
        </p:txBody>
      </p:sp>
      <p:pic>
        <p:nvPicPr>
          <p:cNvPr id="76" name="Picture 7" descr="Steps brochure cover"/>
          <p:cNvPicPr/>
          <p:nvPr/>
        </p:nvPicPr>
        <p:blipFill>
          <a:blip r:embed="rId1"/>
          <a:stretch/>
        </p:blipFill>
        <p:spPr>
          <a:xfrm>
            <a:off x="1143000" y="2057400"/>
            <a:ext cx="200340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F4D0404-8505-4180-BF23-E49DE28E034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80"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dust can poison kids, their parents and pets, and can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5893AAD0-B4F3-4BE8-8277-3734E4F795B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4"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347CE70-6794-4FF3-92B0-107A07A06D2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8" name="PlaceHolder 2"/>
          <p:cNvSpPr>
            <a:spLocks noGrp="1"/>
          </p:cNvSpPr>
          <p:nvPr>
            <p:ph/>
          </p:nvPr>
        </p:nvSpPr>
        <p:spPr>
          <a:xfrm>
            <a:off x="228240" y="1676160"/>
            <a:ext cx="8534520" cy="46479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can carry lead on their skin and work clothes home to their famili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 </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the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they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7:28Z</dcterms:modified>
  <cp:revision>265</cp:revision>
  <dc:subject/>
  <dc:title>Module 8: Training Non-Certified Renovation Work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