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2040" y="8915400"/>
            <a:ext cx="230040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Draft Rev. 1 -- Do Not Cite or Quote</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2680" y="8991720"/>
            <a:ext cx="15429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818751E1-F2BA-4DB5-863E-AA4CC776E1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7235BAA1-1974-49F2-812F-6616D95B50B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4" name="PlaceHolder 1"/>
          <p:cNvSpPr>
            <a:spLocks noGrp="1"/>
          </p:cNvSpPr>
          <p:nvPr>
            <p:ph type="sldImg"/>
          </p:nvPr>
        </p:nvSpPr>
        <p:spPr>
          <a:xfrm>
            <a:off x="1295280" y="685800"/>
            <a:ext cx="4800600" cy="3600360"/>
          </a:xfrm>
          <a:prstGeom prst="rect">
            <a:avLst/>
          </a:prstGeom>
          <a:ln w="0">
            <a:noFill/>
          </a:ln>
        </p:spPr>
      </p:sp>
      <p:sp>
        <p:nvSpPr>
          <p:cNvPr id="1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RP Rule requires that you, the Certified Renovator, be responsible for instruction of non-certified renovation workers.</a:t>
            </a:r>
            <a:endParaRPr b="0" lang="en-US" sz="1000" spc="-1" strike="noStrike">
              <a:solidFill>
                <a:srgbClr val="000000"/>
              </a:solidFill>
              <a:latin typeface="Arial"/>
            </a:endParaRPr>
          </a:p>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Note:  See Slide 2-11 and HUD regulations for more information on the training required for workers on HUD funded renovations.</a:t>
            </a:r>
            <a:endParaRPr b="0" lang="en-US" sz="1000" spc="-1" strike="noStrike">
              <a:solidFill>
                <a:srgbClr val="000000"/>
              </a:solidFill>
              <a:latin typeface="Arial"/>
            </a:endParaRPr>
          </a:p>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9"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63753E98-44F8-4D80-9EDB-92EC61AA91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lnSpc>
                <a:spcPct val="100000"/>
              </a:lnSpc>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a:solidFill>
                  <a:srgbClr val="000000"/>
                </a:solidFill>
                <a:latin typeface="Arial"/>
              </a:rPr>
              <a:t>Use only HEPA vacuums</a:t>
            </a:r>
            <a:r>
              <a:rPr b="0" lang="en-US" sz="1000" spc="-1" strike="noStrike">
                <a:solidFill>
                  <a:srgbClr val="000000"/>
                </a:solidFill>
                <a:latin typeface="Arial"/>
                <a:ea typeface="Times New Roman"/>
              </a:rPr>
              <a:t>. Do not use </a:t>
            </a:r>
            <a:r>
              <a:rPr b="0" lang="en-US" sz="1000" spc="-1" strike="noStrike">
                <a:solidFill>
                  <a:srgbClr val="000000"/>
                </a:solidFill>
                <a:latin typeface="Arial"/>
              </a:rPr>
              <a:t>standard household or shop vacuum cleaner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Arial"/>
            </a:endParaRPr>
          </a:p>
          <a:p>
            <a:pPr indent="0">
              <a:spcBef>
                <a:spcPts val="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debris and residue are remov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pathways where debris was carried, both inside and out. You should see no dust, debris or residu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debris or resid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4"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C0C547AE-FADD-43D4-945F-55A997091C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14040" y="4571640"/>
            <a:ext cx="54118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that has been collected from renovation activities preventing access to and release of dust and deb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novation, repair and painting activities in residential housing to be “routine residential maintenance.” The waste generated by these activities is classified as solid, non-hazardous waste and can be disposed of in an ordinary waste landfill (see Appendix 8 and www.epa.gov/lead/pubs/fslbp.htm).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9"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C920C91C-79D6-49BA-AF8A-B0BAF25ADE7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1219320" y="685800"/>
            <a:ext cx="4800600" cy="3600360"/>
          </a:xfrm>
          <a:prstGeom prst="rect">
            <a:avLst/>
          </a:prstGeom>
          <a:ln w="0">
            <a:noFill/>
          </a:ln>
        </p:spPr>
      </p:sp>
      <p:sp>
        <p:nvSpPr>
          <p:cNvPr id="162" name="PlaceHolder 2"/>
          <p:cNvSpPr>
            <a:spLocks noGrp="1"/>
          </p:cNvSpPr>
          <p:nvPr>
            <p:ph type="body"/>
          </p:nvPr>
        </p:nvSpPr>
        <p:spPr>
          <a:xfrm>
            <a:off x="839880" y="4419720"/>
            <a:ext cx="579096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a:t>
            </a:r>
            <a:r>
              <a:rPr b="0" lang="en-US" sz="1000" spc="-1" strike="noStrike">
                <a:solidFill>
                  <a:srgbClr val="000000"/>
                </a:solidFill>
                <a:latin typeface="Arial"/>
                <a:ea typeface="Times New Roman"/>
              </a:rPr>
              <a:t>Before conducting either cleaning verification or clearance examination, the Certified Renovator performs a visual inspection of the work area. The HUD regulations also require a person trained in visual inspection, who is independent of the renovation firm, to perform a visual inspection as part of a clearance examination.</a:t>
            </a:r>
            <a:r>
              <a:rPr b="0" lang="en-US" sz="1000" spc="-1" strike="noStrike">
                <a:solidFill>
                  <a:srgbClr val="000000"/>
                </a:solidFill>
                <a:latin typeface="Arial"/>
                <a:ea typeface="Arial"/>
              </a:rPr>
              <a:t> If dust, debris or residue are present in the work area, cleaning must be repeated and the visual inspection repeated until the work area is free of dust, debris and residue. After the project passes visual inspection by the Certified Renovator (and, for HUD-regulated projects, by the independent trained person),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B8B03598-C7E3-4CE6-A9EE-7C289DA221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all the skills you mastered during the Skill Set exercises? You will be teaching non-certified renovators to master them.</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at follows are presented to aid you in conduct of the training.</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contains a shopping list of materials and supplies needed for setting up containment, clean the work area, protect yourself during work, and verify that the work area is clean. These shopping lists or another similar list must be reviewed prior to on-the-job training to make sure all of the materials needed for work are available. Failure to gather all supplies and equipment will delay on-the-job training and related work.</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EC04F3CF-1886-441F-BC20-1D7F3040CE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4" name="PlaceHolder 1"/>
          <p:cNvSpPr>
            <a:spLocks noGrp="1"/>
          </p:cNvSpPr>
          <p:nvPr>
            <p:ph type="sldImg"/>
          </p:nvPr>
        </p:nvSpPr>
        <p:spPr>
          <a:xfrm>
            <a:off x="1295280" y="685800"/>
            <a:ext cx="4800600" cy="3600360"/>
          </a:xfrm>
          <a:prstGeom prst="rect">
            <a:avLst/>
          </a:prstGeom>
          <a:ln w="0">
            <a:noFill/>
          </a:ln>
        </p:spPr>
      </p:sp>
      <p:sp>
        <p:nvSpPr>
          <p:cNvPr id="115" name="PlaceHolder 2"/>
          <p:cNvSpPr>
            <a:spLocks noGrp="1"/>
          </p:cNvSpPr>
          <p:nvPr>
            <p:ph type="body"/>
          </p:nvPr>
        </p:nvSpPr>
        <p:spPr>
          <a:xfrm>
            <a:off x="534600" y="4419720"/>
            <a:ext cx="6248520" cy="4495680"/>
          </a:xfrm>
          <a:prstGeom prst="rect">
            <a:avLst/>
          </a:prstGeom>
          <a:noFill/>
          <a:ln w="0">
            <a:noFill/>
          </a:ln>
        </p:spPr>
        <p:txBody>
          <a:bodyPr lIns="96480" rIns="96480" tIns="48240" bIns="48240" anchor="t">
            <a:noAutofit/>
          </a:bodyPr>
          <a:p>
            <a:pPr marL="209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marL="209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or, alternatively, collect a paint chip sample for analysis when requested by the party contracting for renovation services, to determine whether components to be affected by the renovation contain lead-based paint.</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records. </a:t>
            </a: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PA RRP Rule requirements are found at 40 CFR 745.85 (a) and (b).</a:t>
            </a: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ACC8C8F2-010B-4342-9374-473ECBD39B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9" name="PlaceHolder 1"/>
          <p:cNvSpPr>
            <a:spLocks noGrp="1"/>
          </p:cNvSpPr>
          <p:nvPr>
            <p:ph type="sldImg"/>
          </p:nvPr>
        </p:nvSpPr>
        <p:spPr>
          <a:xfrm>
            <a:off x="1295280" y="685800"/>
            <a:ext cx="4800600" cy="3600360"/>
          </a:xfrm>
          <a:prstGeom prst="rect">
            <a:avLst/>
          </a:prstGeom>
          <a:ln w="0">
            <a:noFill/>
          </a:ln>
        </p:spPr>
      </p:sp>
      <p:sp>
        <p:nvSpPr>
          <p:cNvPr id="120" name="PlaceHolder 2"/>
          <p:cNvSpPr>
            <a:spLocks noGrp="1"/>
          </p:cNvSpPr>
          <p:nvPr>
            <p:ph type="body"/>
          </p:nvPr>
        </p:nvSpPr>
        <p:spPr>
          <a:xfrm>
            <a:off x="687240" y="4495320"/>
            <a:ext cx="591192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non-certified renovator and for each job to the extent that each non-certified renovator is adequately trained for the tasks he or she will be performing. This training may occur while the non-certified renovato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renovator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renovators be allowed to participate in hands-on learning as work progresses and that skill sets that are learned by each non-certified renovator are documented. Documentation is required by the RRP Rule to assure that non-certified renovators are trained to perform renovation activities to which they are assigned. Remember that the RRP Rule requires all non-certified renovators on the job to be given skills training specific to the tasks that they will perform on the job and that each non-certified renovator’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73DFA9D6-F64A-449C-8B90-6663FE8665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4" name="PlaceHolder 1"/>
          <p:cNvSpPr>
            <a:spLocks noGrp="1"/>
          </p:cNvSpPr>
          <p:nvPr>
            <p:ph type="sldImg"/>
          </p:nvPr>
        </p:nvSpPr>
        <p:spPr>
          <a:xfrm>
            <a:off x="1295280" y="685800"/>
            <a:ext cx="4800600" cy="3600360"/>
          </a:xfrm>
          <a:prstGeom prst="rect">
            <a:avLst/>
          </a:prstGeom>
          <a:ln w="0">
            <a:noFill/>
          </a:ln>
        </p:spPr>
      </p:sp>
      <p:sp>
        <p:nvSpPr>
          <p:cNvPr id="125"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o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5 through 8-12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ors. The handout should also include write-ups of demonstrations and practical hands-on exercises, and a checklist of desired skills to reinforce the “toolbox” talks or classroom training. During either “toolbox” talks or classroom instruction, have non-certified renovator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3C70CEA0-A7C6-4042-8655-C03A8C1B98E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9" name="PlaceHolder 1"/>
          <p:cNvSpPr>
            <a:spLocks noGrp="1"/>
          </p:cNvSpPr>
          <p:nvPr>
            <p:ph type="sldImg"/>
          </p:nvPr>
        </p:nvSpPr>
        <p:spPr>
          <a:xfrm>
            <a:off x="1295280" y="685800"/>
            <a:ext cx="4800600" cy="3600360"/>
          </a:xfrm>
          <a:prstGeom prst="rect">
            <a:avLst/>
          </a:prstGeom>
          <a:ln w="0">
            <a:noFill/>
          </a:ln>
        </p:spPr>
      </p:sp>
      <p:sp>
        <p:nvSpPr>
          <p:cNvPr id="130" name="PlaceHolder 2"/>
          <p:cNvSpPr>
            <a:spLocks noGrp="1"/>
          </p:cNvSpPr>
          <p:nvPr>
            <p:ph type="body"/>
          </p:nvPr>
        </p:nvSpPr>
        <p:spPr>
          <a:xfrm>
            <a:off x="914040" y="4343040"/>
            <a:ext cx="571644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formation is included in the on-the-job training so non-certified renovators will understand why they need to use lead-safe work practices. Non-certified renovators are not allow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87E4779A-D2AE-4F51-9D95-84D4F35A52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874800" y="4485960"/>
            <a:ext cx="5486400" cy="450540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6 ft. or more our from the surface being renovated. Close and seal doors, close window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s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unless a property line prevents 10 feet of such ground cover ,in which case the firm must erect vertical containment.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2D9F864D-9090-4E0A-A22A-62125630F7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9" name="PlaceHolder 1"/>
          <p:cNvSpPr>
            <a:spLocks noGrp="1"/>
          </p:cNvSpPr>
          <p:nvPr>
            <p:ph type="sldImg"/>
          </p:nvPr>
        </p:nvSpPr>
        <p:spPr>
          <a:xfrm>
            <a:off x="1295280" y="685800"/>
            <a:ext cx="4800600" cy="3600360"/>
          </a:xfrm>
          <a:prstGeom prst="rect">
            <a:avLst/>
          </a:prstGeom>
          <a:ln w="0">
            <a:noFill/>
          </a:ln>
        </p:spPr>
      </p:sp>
      <p:sp>
        <p:nvSpPr>
          <p:cNvPr id="140" name="PlaceHolder 2"/>
          <p:cNvSpPr>
            <a:spLocks noGrp="1"/>
          </p:cNvSpPr>
          <p:nvPr>
            <p:ph type="body"/>
          </p:nvPr>
        </p:nvSpPr>
        <p:spPr>
          <a:xfrm>
            <a:off x="991800" y="4419720"/>
            <a:ext cx="571356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C25AE83F-E9DE-4CD5-A26D-A50E52A2F2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4" name="PlaceHolder 1"/>
          <p:cNvSpPr>
            <a:spLocks noGrp="1"/>
          </p:cNvSpPr>
          <p:nvPr>
            <p:ph type="sldImg"/>
          </p:nvPr>
        </p:nvSpPr>
        <p:spPr>
          <a:xfrm>
            <a:off x="1295280" y="685800"/>
            <a:ext cx="4800600" cy="3600360"/>
          </a:xfrm>
          <a:prstGeom prst="rect">
            <a:avLst/>
          </a:prstGeom>
          <a:ln w="0">
            <a:noFill/>
          </a:ln>
        </p:spPr>
      </p:sp>
      <p:sp>
        <p:nvSpPr>
          <p:cNvPr id="145" name="PlaceHolder 2"/>
          <p:cNvSpPr>
            <a:spLocks noGrp="1"/>
          </p:cNvSpPr>
          <p:nvPr>
            <p:ph type="body"/>
          </p:nvPr>
        </p:nvSpPr>
        <p:spPr>
          <a:xfrm>
            <a:off x="762120" y="4419720"/>
            <a:ext cx="60213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46" name="Text Box 4"/>
          <p:cNvSpPr/>
          <p:nvPr/>
        </p:nvSpPr>
        <p:spPr>
          <a:xfrm>
            <a:off x="685800" y="73152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prohibited by EPA’s RRP Rul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47" name="Picture 5" descr="HUD-seal-color 300 DPI"/>
          <p:cNvPicPr/>
          <p:nvPr/>
        </p:nvPicPr>
        <p:blipFill>
          <a:blip r:embed="rId1"/>
          <a:stretch/>
        </p:blipFill>
        <p:spPr>
          <a:xfrm>
            <a:off x="798480" y="7427880"/>
            <a:ext cx="712800" cy="684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FE476-BE45-48C6-B1A5-08D2F717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9452C-1F1B-4800-B26C-10FF75F0A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80323-09C9-4435-88B4-53E5B8940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0EF65-942C-4184-B18D-7C27F7784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50A5-E5C0-4D07-B39D-D869C8705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C7977-45ED-4A98-B898-9575B0161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8553-5EF2-4559-8632-FCF937F6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91C36-2E19-4395-B685-735B184E8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CB56C-053B-4518-A107-7D3EAC1D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A1A9-29EB-40A6-BA9E-19CAE89E2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B30C-48DF-49AA-9886-F66BF1C86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A1514-C8B5-4887-80F5-7A318F003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6E4B93ED-51FD-41CF-AC6D-E53E81F8565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A260BFB7-C0A0-4E56-B655-3395CEDBD61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920" y="228240"/>
            <a:ext cx="853416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7: Training Non-Certified Renovators</a:t>
            </a:r>
            <a:endParaRPr b="1" lang="en-US" sz="4000" spc="-1" strike="noStrike">
              <a:solidFill>
                <a:srgbClr val="000099"/>
              </a:solidFill>
              <a:latin typeface="Arial"/>
            </a:endParaRPr>
          </a:p>
        </p:txBody>
      </p:sp>
      <p:sp>
        <p:nvSpPr>
          <p:cNvPr id="55"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ertified Renovators are responsible for teaching lead-safe work practices to non-certified renovators.</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39E534E-D2B5-49A1-83DF-70EF4C0DBB4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9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debris and residu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773122B2-A9C6-4B47-BE4E-ECBA4AC5813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755BE59-5F45-46C8-8D4E-50248AA0C78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100"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is required in many pre-1978 properties receiving Federal housing assistanc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F47D440-C711-4F2F-B230-32F7E3C10AC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9"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non-certified renovato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non-certified renovators you need to:</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non-certified renovators what you know.</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shopping list” and have materials at hand.</a:t>
            </a:r>
            <a:endParaRPr b="0" lang="en-US" sz="20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810035AF-0DC8-4EC3-B65A-DF32AE2D5A5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63"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 (Sections 40 CFR 745.85 (a) and (b)).</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renovators in lead safe practic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lnSpc>
                <a:spcPct val="90000"/>
              </a:lnSpc>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CB5E8AF7-DCF8-4657-B4E7-83C95D8EBE8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ors</a:t>
            </a:r>
            <a:endParaRPr b="1" lang="en-US" sz="4000" spc="-1" strike="noStrike">
              <a:solidFill>
                <a:srgbClr val="000099"/>
              </a:solidFill>
              <a:latin typeface="Arial"/>
            </a:endParaRPr>
          </a:p>
        </p:txBody>
      </p:sp>
      <p:sp>
        <p:nvSpPr>
          <p:cNvPr id="67" name="PlaceHolder 2"/>
          <p:cNvSpPr>
            <a:spLocks noGrp="1"/>
          </p:cNvSpPr>
          <p:nvPr>
            <p:ph/>
          </p:nvPr>
        </p:nvSpPr>
        <p:spPr>
          <a:xfrm>
            <a:off x="304560" y="1752120"/>
            <a:ext cx="8458200" cy="4496040"/>
          </a:xfrm>
          <a:prstGeom prst="rect">
            <a:avLst/>
          </a:prstGeom>
          <a:noFill/>
          <a:ln w="0">
            <a:noFill/>
          </a:ln>
        </p:spPr>
        <p:txBody>
          <a:bodyPr anchor="t">
            <a:normAutofit fontScale="99000"/>
          </a:bodyPr>
          <a:p>
            <a:pPr marL="339480" indent="-3394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o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39480" indent="-3394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31480" indent="-2260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trol dust and debris.</a:t>
            </a:r>
            <a:endParaRPr b="0" lang="en-US" sz="2000" spc="-1" strike="noStrike">
              <a:solidFill>
                <a:srgbClr val="0000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B18FD4F-87DF-460A-9762-EF67CAAEC85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ty During Renovations – Use the Steps</a:t>
            </a:r>
            <a:endParaRPr b="1" lang="en-US" sz="4000" spc="-1" strike="noStrike">
              <a:solidFill>
                <a:srgbClr val="000099"/>
              </a:solidFill>
              <a:latin typeface="Arial"/>
            </a:endParaRPr>
          </a:p>
        </p:txBody>
      </p:sp>
      <p:sp>
        <p:nvSpPr>
          <p:cNvPr id="71" name="PlaceHolder 2"/>
          <p:cNvSpPr>
            <a:spLocks noGrp="1"/>
          </p:cNvSpPr>
          <p:nvPr>
            <p:ph/>
          </p:nvPr>
        </p:nvSpPr>
        <p:spPr>
          <a:xfrm>
            <a:off x="228240" y="1752120"/>
            <a:ext cx="6553080" cy="487692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teps to LEAD SAFE Renovation, Repair and Painting</a:t>
            </a:r>
            <a:r>
              <a:rPr b="1" lang="en-US" sz="28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t is strongly recommended that you use this guide as a basis for training.</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pic>
        <p:nvPicPr>
          <p:cNvPr id="72" name="Picture 1028" descr="steps brochure cover"/>
          <p:cNvPicPr/>
          <p:nvPr/>
        </p:nvPicPr>
        <p:blipFill>
          <a:blip r:embed="rId1"/>
          <a:stretch/>
        </p:blipFill>
        <p:spPr>
          <a:xfrm>
            <a:off x="6781680" y="1905120"/>
            <a:ext cx="200340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C69D935-C09E-4E0C-8917-1287EDE4DBE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76"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can poison kids and their parents, poison pets, and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F7B40C5C-446D-4A9B-8591-E36C9B007AC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80"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9BB5DAF-9346-4B59-B800-8F44E6764B8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84" name="PlaceHolder 2"/>
          <p:cNvSpPr>
            <a:spLocks noGrp="1"/>
          </p:cNvSpPr>
          <p:nvPr>
            <p:ph/>
          </p:nvPr>
        </p:nvSpPr>
        <p:spPr>
          <a:xfrm>
            <a:off x="228240" y="1676520"/>
            <a:ext cx="8458200" cy="487656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a:t>
            </a:r>
            <a:r>
              <a:rPr b="1" lang="en-US" sz="2400" spc="-1" strike="noStrike">
                <a:solidFill>
                  <a:srgbClr val="00009b"/>
                </a:solidFill>
                <a:latin typeface="Arial"/>
              </a:rPr>
              <a:t>can carry lead on their skin and work clothes home to their families</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your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you leave the work                    area and especially at the end of the                          da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22EE0D3A-9C4F-452A-BE8B-D50EDDEE31E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possible, work we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9:00:06Z</dcterms:modified>
  <cp:revision>258</cp:revision>
  <dc:subject/>
  <dc:title>Module 7: Training Non-Certified Renova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