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7315200" cy="4777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3080"/>
            <a:ext cx="674532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0320" y="8915400"/>
            <a:ext cx="2684520" cy="4809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920" y="8915040"/>
            <a:ext cx="1544400" cy="4827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ADDFF7F1-91B3-4EC2-91D4-8785B800D7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8320" y="8915400"/>
            <a:ext cx="17478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7"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E481935D-DC16-4CCE-A598-6405B016DB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9" name="PlaceHolder 1"/>
          <p:cNvSpPr>
            <a:spLocks noGrp="1"/>
          </p:cNvSpPr>
          <p:nvPr>
            <p:ph type="sldImg"/>
          </p:nvPr>
        </p:nvSpPr>
        <p:spPr>
          <a:xfrm>
            <a:off x="1143000" y="685800"/>
            <a:ext cx="4800600" cy="3600360"/>
          </a:xfrm>
          <a:prstGeom prst="rect">
            <a:avLst/>
          </a:prstGeom>
          <a:ln w="0">
            <a:noFill/>
          </a:ln>
        </p:spPr>
      </p:sp>
      <p:sp>
        <p:nvSpPr>
          <p:cNvPr id="90" name="PlaceHolder 2"/>
          <p:cNvSpPr>
            <a:spLocks noGrp="1"/>
          </p:cNvSpPr>
          <p:nvPr>
            <p:ph type="body"/>
          </p:nvPr>
        </p:nvSpPr>
        <p:spPr>
          <a:xfrm>
            <a:off x="686880" y="4495320"/>
            <a:ext cx="597708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The practices you choose to use in the contained work area must not include prohibited practices.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ersonal protection you need to work safe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2"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3722F5EA-AC49-4B77-9D30-38E734BC11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97" name="Picture 1031" descr="HUD-seal-color 300 DPI"/>
          <p:cNvPicPr/>
          <p:nvPr/>
        </p:nvPicPr>
        <p:blipFill>
          <a:blip r:embed="rId1"/>
          <a:stretch/>
        </p:blipFill>
        <p:spPr>
          <a:xfrm>
            <a:off x="874800" y="8342280"/>
            <a:ext cx="712800" cy="684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9"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DB8CDDF0-7260-4CCC-818A-1FF03107FF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1" name="Rectangle 7"/>
          <p:cNvSpPr/>
          <p:nvPr/>
        </p:nvSpPr>
        <p:spPr>
          <a:xfrm>
            <a:off x="5327640" y="8813880"/>
            <a:ext cx="1544760" cy="482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102" name="Rectangle 8"/>
          <p:cNvSpPr/>
          <p:nvPr/>
        </p:nvSpPr>
        <p:spPr>
          <a:xfrm>
            <a:off x="2703600" y="8813880"/>
            <a:ext cx="174924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000000"/>
              </a:solidFill>
              <a:latin typeface="Times New Roman"/>
            </a:endParaRPr>
          </a:p>
        </p:txBody>
      </p:sp>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837720" y="4560480"/>
            <a:ext cx="5715000" cy="4319640"/>
          </a:xfrm>
          <a:prstGeom prst="rect">
            <a:avLst/>
          </a:prstGeom>
          <a:noFill/>
          <a:ln w="0">
            <a:noFill/>
          </a:ln>
        </p:spPr>
        <p:txBody>
          <a:bodyPr lIns="96480" rIns="96480" tIns="48240" bIns="48240" anchor="t">
            <a:noAutofit/>
          </a:bodyPr>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t Methods:</a:t>
            </a:r>
            <a:endParaRPr b="0" lang="en-US" sz="12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t methods are a major part of dust reducing practices under the HUD Lead Safe Housing Rule.  While they are neither prohibited nor required under the EPA RRP rule, they are a very good work practice and should be considered as a good way to control dust in the work area.  They can also help meet requirements of the OSHA lead in construction standard (29 CFR 1926.62).  OSHA also requires the use of ground fault circuit interruption (GFCI) protection on circuits in wet areas to prevent electric shock.</a:t>
            </a:r>
            <a:endParaRPr b="0" lang="en-US" sz="10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keep in mind:</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strippers can be dangerous. Some can cause burns. Methylene chloride is suspected to cause cancer.  The spectrum of chemical strippers ranges from citrus-based (safer) to more dangerous caustic strippers. Follow the manufacturer’s directions when using any chemical stripper.  OSHA requires hazardous materials communication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uilding components to be stripped can be removed, such as doors, consider having them stripped off-site at a paint stripping facility.</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pressure respirators do not provide sufficient breathing protection when using methylene chloride strippers.  The OSHA standard for methylene chloride is 29 CFR 1910.1052.</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948EECD-C7B8-496A-A53E-0943877F05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8" name="PlaceHolder 1"/>
          <p:cNvSpPr>
            <a:spLocks noGrp="1"/>
          </p:cNvSpPr>
          <p:nvPr>
            <p:ph type="sldImg"/>
          </p:nvPr>
        </p:nvSpPr>
        <p:spPr>
          <a:xfrm>
            <a:off x="1295280" y="685800"/>
            <a:ext cx="4800600" cy="3600360"/>
          </a:xfrm>
          <a:prstGeom prst="rect">
            <a:avLst/>
          </a:prstGeom>
          <a:ln w="0">
            <a:noFill/>
          </a:ln>
        </p:spPr>
      </p:sp>
      <p:sp>
        <p:nvSpPr>
          <p:cNvPr id="109" name="PlaceHolder 2"/>
          <p:cNvSpPr>
            <a:spLocks noGrp="1"/>
          </p:cNvSpPr>
          <p:nvPr>
            <p:ph type="body"/>
          </p:nvPr>
        </p:nvSpPr>
        <p:spPr>
          <a:xfrm>
            <a:off x="762120" y="4419360"/>
            <a:ext cx="590544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shrouds or containment systems with a HEPA vacuum attachment to collect dust and debris at the point of gener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shrouds or containment systems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1"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7D549974-0B33-4EF2-A6E6-B928571830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1219320" y="685800"/>
            <a:ext cx="4800600" cy="3600360"/>
          </a:xfrm>
          <a:prstGeom prst="rect">
            <a:avLst/>
          </a:prstGeom>
          <a:ln w="0">
            <a:noFill/>
          </a:ln>
        </p:spPr>
      </p:sp>
      <p:sp>
        <p:nvSpPr>
          <p:cNvPr id="114" name="PlaceHolder 2"/>
          <p:cNvSpPr>
            <a:spLocks noGrp="1"/>
          </p:cNvSpPr>
          <p:nvPr>
            <p:ph type="body"/>
          </p:nvPr>
        </p:nvSpPr>
        <p:spPr>
          <a:xfrm>
            <a:off x="707760" y="4344480"/>
            <a:ext cx="5978520" cy="4800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ers should protect themselves.</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nter’s hats </a:t>
            </a:r>
            <a:r>
              <a:rPr b="0" lang="en-US" sz="12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osable coveralls </a:t>
            </a:r>
            <a:r>
              <a:rPr b="0" lang="en-US" sz="12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protection.</a:t>
            </a:r>
            <a:r>
              <a:rPr b="0" lang="en-US" sz="12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  To further protect workers, wet sanding and scraping will reduce airborne dust.</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should wash your hands and face at the end of each shift.  </a:t>
            </a:r>
            <a:r>
              <a:rPr b="0" lang="en-US" sz="1200" spc="-1" strike="noStrike">
                <a:solidFill>
                  <a:srgbClr val="000000"/>
                </a:solidFill>
                <a:latin typeface="Arial"/>
              </a:rPr>
              <a:t>Workers should wash their hands and faces periodically to avoid ingesting leaded dust. You should also wash well before eating, drinking or smoking. You should not </a:t>
            </a:r>
            <a:r>
              <a:rPr b="0" lang="en-US" sz="1200" spc="-1" strike="noStrike" u="sng">
                <a:solidFill>
                  <a:srgbClr val="000000"/>
                </a:solidFill>
                <a:uFillTx/>
                <a:latin typeface="Arial"/>
              </a:rPr>
              <a:t>eat, drink, or smoke in the work area</a:t>
            </a:r>
            <a:r>
              <a:rPr b="0" lang="en-US" sz="12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HA provides additional information on working with lead in their Safety and Health Regulations for Lead in the Construction Industry (29 CFR 1926.6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1BDB4953-802C-4CAD-BC43-7E4390B73F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95280" y="685800"/>
            <a:ext cx="4800600" cy="3600360"/>
          </a:xfrm>
          <a:prstGeom prst="rect">
            <a:avLst/>
          </a:prstGeom>
          <a:ln w="0">
            <a:noFill/>
          </a:ln>
        </p:spPr>
      </p:sp>
      <p:sp>
        <p:nvSpPr>
          <p:cNvPr id="119"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a:p>
            <a:pPr lvl="2"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4"/>
          <p:cNvSpPr/>
          <p:nvPr/>
        </p:nvSpPr>
        <p:spPr>
          <a:xfrm>
            <a:off x="762120" y="8610480"/>
            <a:ext cx="5715000" cy="54864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D requires wet scraping and wet sanding to stabilize defective paint surfaces, except within 1 ft. of electrical outlets, or for very small projects (under 2 sq. ft. in a room or 20 sq. ft. on exterior surfaces).</a:t>
            </a:r>
            <a:endParaRPr b="0" lang="en-US" sz="1000" spc="-1" strike="noStrike">
              <a:solidFill>
                <a:srgbClr val="000000"/>
              </a:solidFill>
              <a:latin typeface="Times New Roman"/>
            </a:endParaRPr>
          </a:p>
        </p:txBody>
      </p:sp>
      <p:pic>
        <p:nvPicPr>
          <p:cNvPr id="121" name="Picture 5" descr="HUD-seal-color 300 DPI"/>
          <p:cNvPicPr/>
          <p:nvPr/>
        </p:nvPicPr>
        <p:blipFill>
          <a:blip r:embed="rId1"/>
          <a:stretch/>
        </p:blipFill>
        <p:spPr>
          <a:xfrm>
            <a:off x="990720" y="8686800"/>
            <a:ext cx="398520" cy="3808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3"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0F37A7D5-4C18-4493-B761-185C8FA567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5" name="PlaceHolder 1"/>
          <p:cNvSpPr>
            <a:spLocks noGrp="1"/>
          </p:cNvSpPr>
          <p:nvPr>
            <p:ph type="sldImg"/>
          </p:nvPr>
        </p:nvSpPr>
        <p:spPr>
          <a:xfrm>
            <a:off x="1219320" y="533520"/>
            <a:ext cx="4800600" cy="3600360"/>
          </a:xfrm>
          <a:prstGeom prst="rect">
            <a:avLst/>
          </a:prstGeom>
          <a:ln w="0">
            <a:noFill/>
          </a:ln>
        </p:spPr>
      </p:sp>
      <p:sp>
        <p:nvSpPr>
          <p:cNvPr id="126" name="PlaceHolder 2"/>
          <p:cNvSpPr>
            <a:spLocks noGrp="1"/>
          </p:cNvSpPr>
          <p:nvPr>
            <p:ph type="body"/>
          </p:nvPr>
        </p:nvSpPr>
        <p:spPr>
          <a:xfrm>
            <a:off x="628200" y="4190760"/>
            <a:ext cx="60771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D2D53-8569-4D49-901C-E223DE288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67CD-16E1-48CD-9E96-A480A0FD5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68ECE-5B99-47C0-B12C-EEC93826D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ADA0C-2A07-4AE8-81C7-79E99CC5F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4C2D-CD60-4B7A-9E8A-57DF2D816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F3AFC-5E32-45C4-A13F-A40C84B9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C149-7FA4-4CF4-88D2-8D6AB95B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3631E-5432-4BCB-81C9-356F3C6E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E9B51-8FB2-4FBD-814E-03813998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16E4-DFB7-411B-A5FB-D32E0450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F4BA-C8E4-4F89-99CB-A2F7A535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D801-F81D-42A5-A3FC-541789777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BBBAE37-45CE-44B6-B5C1-3905558A884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3A65340A-A168-4E43-B6C9-138F3243C4E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Review of Prohibited Practices, Personal Protective Equipment and Dust Control</a:t>
            </a:r>
            <a:endParaRPr b="1" lang="en-US" sz="36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54B9FE5-9B29-4E61-B8E6-89025B1FB45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59" name="Picture 4" descr="Illustration of torch "/>
          <p:cNvPicPr/>
          <p:nvPr/>
        </p:nvPicPr>
        <p:blipFill>
          <a:blip r:embed="rId1"/>
          <a:stretch/>
        </p:blipFill>
        <p:spPr>
          <a:xfrm>
            <a:off x="0" y="1752480"/>
            <a:ext cx="2590920" cy="1727280"/>
          </a:xfrm>
          <a:prstGeom prst="rect">
            <a:avLst/>
          </a:prstGeom>
          <a:ln w="0">
            <a:noFill/>
          </a:ln>
        </p:spPr>
      </p:pic>
      <p:pic>
        <p:nvPicPr>
          <p:cNvPr id="60"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1" name="Picture 6" descr="Illustration of power sander"/>
          <p:cNvPicPr/>
          <p:nvPr/>
        </p:nvPicPr>
        <p:blipFill>
          <a:blip r:embed="rId3"/>
          <a:stretch/>
        </p:blipFill>
        <p:spPr>
          <a:xfrm>
            <a:off x="914400" y="4648320"/>
            <a:ext cx="2819520" cy="1492200"/>
          </a:xfrm>
          <a:prstGeom prst="rect">
            <a:avLst/>
          </a:prstGeom>
          <a:ln w="0">
            <a:noFill/>
          </a:ln>
        </p:spPr>
      </p:pic>
      <p:sp>
        <p:nvSpPr>
          <p:cNvPr id="62" name="PlaceHolder 2"/>
          <p:cNvSpPr>
            <a:spLocks noGrp="1"/>
          </p:cNvSpPr>
          <p:nvPr>
            <p:ph/>
          </p:nvPr>
        </p:nvSpPr>
        <p:spPr>
          <a:xfrm>
            <a:off x="4266720" y="1752120"/>
            <a:ext cx="4534200" cy="43434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a shroud or containment system equipped with a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18E8B34-5430-4D6C-A2C1-07EC794EBB7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t scraping and sand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at gun below 1,100 degrees 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of power tools with shrouds or containment systems equipped with a HEPA vacuum attachm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stripping</a:t>
            </a:r>
            <a:endParaRPr b="1" lang="en-US" sz="2800" spc="-1" strike="noStrike">
              <a:solidFill>
                <a:srgbClr val="000099"/>
              </a:solidFill>
              <a:latin typeface="Arial"/>
            </a:endParaRPr>
          </a:p>
        </p:txBody>
      </p:sp>
      <p:sp>
        <p:nvSpPr>
          <p:cNvPr id="67" name="PlaceHolder 2"/>
          <p:cNvSpPr>
            <a:spLocks noGrp="1"/>
          </p:cNvSpPr>
          <p:nvPr>
            <p:ph type="title"/>
          </p:nvPr>
        </p:nvSpPr>
        <p:spPr>
          <a:xfrm>
            <a:off x="304920" y="3045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ust Reducing Technique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A11B35A-FB8F-435D-B2DC-CB1D3ACAF7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surface coatings must have a shroud or containment system equipped with a HEPA vacuum attachmen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2" name="Picture 4" descr="Illustration of worker using power sander with a HEPA vacuum attachment"/>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2F379C92-516A-48CA-B4A2-E9E5C927EAE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5" name="Picture 5"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77"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64D12DD5-2796-46A7-9C0F-C5CE3B408E2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1"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64A389D-0237-4956-96C0-1239CB213DA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5"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eanna Flynn</cp:lastModifiedBy>
  <cp:lastPrinted>2000-12-08T15:26:52Z</cp:lastPrinted>
  <dcterms:modified xsi:type="dcterms:W3CDTF">2011-09-29T15:27:28Z</dcterms:modified>
  <cp:revision>266</cp:revision>
  <dc:subject/>
  <dc:title>Module 4: Review of Prohibited Practices, Personal Protective Equipment and Dust Cont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