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32480" y="8991720"/>
            <a:ext cx="2682720" cy="48096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1 -- Do Not Cite or Quote</a:t>
            </a:r>
            <a:endParaRPr b="0" lang="en-US" sz="1000" spc="-1" strike="noStrike">
              <a:solidFill>
                <a:srgbClr val="000000"/>
              </a:solidFill>
              <a:latin typeface="Arial"/>
            </a:endParaRPr>
          </a:p>
        </p:txBody>
      </p:sp>
      <p:sp>
        <p:nvSpPr>
          <p:cNvPr id="50" name="PlaceHolder 5"/>
          <p:cNvSpPr>
            <a:spLocks noGrp="1"/>
          </p:cNvSpPr>
          <p:nvPr>
            <p:ph type="sldNum" idx="5"/>
          </p:nvPr>
        </p:nvSpPr>
        <p:spPr>
          <a:xfrm>
            <a:off x="456840" y="8915400"/>
            <a:ext cx="1546200" cy="5335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E3CD7E12-1E59-47CF-8305-416A9173A2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6"/>
          <p:cNvSpPr>
            <a:spLocks noGrp="1"/>
          </p:cNvSpPr>
          <p:nvPr>
            <p:ph type="dt" idx="6"/>
          </p:nvPr>
        </p:nvSpPr>
        <p:spPr>
          <a:xfrm>
            <a:off x="2895120" y="8997840"/>
            <a:ext cx="1676520" cy="4572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82"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A87D2CB1-E1F0-463D-BD39-9596D8FD7E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3"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84" name="PlaceHolder 1"/>
          <p:cNvSpPr>
            <a:spLocks noGrp="1"/>
          </p:cNvSpPr>
          <p:nvPr>
            <p:ph type="sldImg"/>
          </p:nvPr>
        </p:nvSpPr>
        <p:spPr>
          <a:xfrm>
            <a:off x="1219320" y="685800"/>
            <a:ext cx="4800600" cy="3600360"/>
          </a:xfrm>
          <a:prstGeom prst="rect">
            <a:avLst/>
          </a:prstGeom>
          <a:ln w="0">
            <a:noFill/>
          </a:ln>
        </p:spPr>
      </p:sp>
      <p:sp>
        <p:nvSpPr>
          <p:cNvPr id="85" name="PlaceHolder 2"/>
          <p:cNvSpPr>
            <a:spLocks noGrp="1"/>
          </p:cNvSpPr>
          <p:nvPr>
            <p:ph type="body"/>
          </p:nvPr>
        </p:nvSpPr>
        <p:spPr>
          <a:xfrm>
            <a:off x="973080" y="4571640"/>
            <a:ext cx="5407200" cy="4319640"/>
          </a:xfrm>
          <a:prstGeom prst="rect">
            <a:avLst/>
          </a:prstGeom>
          <a:noFill/>
          <a:ln w="0">
            <a:noFill/>
          </a:ln>
        </p:spPr>
        <p:txBody>
          <a:bodyPr lIns="96480" rIns="96480" tIns="48240" bIns="48240" anchor="t">
            <a:noAutofit/>
          </a:bodyPr>
          <a:p>
            <a:pPr marL="117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 Overview</a:t>
            </a:r>
            <a:endParaRPr b="0" lang="en-US" sz="12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module teaches how and when to use EPA-recognized test kits to determine if lead-based paint affects renovation activities.</a:t>
            </a:r>
            <a:endParaRPr b="0" lang="en-US" sz="10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module also teaches the procedure for collecting paint chip samples for lead analysis at a NLLAP-recognized entity.</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87"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7C5ED9E3-E1DC-43C8-AA08-763076F5DA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89" name="PlaceHolder 1"/>
          <p:cNvSpPr>
            <a:spLocks noGrp="1"/>
          </p:cNvSpPr>
          <p:nvPr>
            <p:ph type="sldImg"/>
          </p:nvPr>
        </p:nvSpPr>
        <p:spPr>
          <a:xfrm>
            <a:off x="1297080" y="708120"/>
            <a:ext cx="4800600" cy="3600360"/>
          </a:xfrm>
          <a:prstGeom prst="rect">
            <a:avLst/>
          </a:prstGeom>
          <a:ln w="0">
            <a:noFill/>
          </a:ln>
        </p:spPr>
      </p:sp>
      <p:sp>
        <p:nvSpPr>
          <p:cNvPr id="90" name="PlaceHolder 2"/>
          <p:cNvSpPr>
            <a:spLocks noGrp="1"/>
          </p:cNvSpPr>
          <p:nvPr>
            <p:ph type="body"/>
          </p:nvPr>
        </p:nvSpPr>
        <p:spPr>
          <a:xfrm>
            <a:off x="794880" y="4329000"/>
            <a:ext cx="6202440" cy="510552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ad-based paint can only be identified by testing paint. Results of testing only apply to the work if the surfaces covered by the renovation are covered by the testing report. A property owner may provide a report from a Certified Lead Inspector/Risk Assessor that proves no lead-based paint is present, in lieu of testing affected surfaces. If no testing result is available, test the paint or presume lead-based paint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EPA-Recognized Test Kits</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Check the EPA website at </a:t>
            </a:r>
            <a:r>
              <a:rPr b="0" lang="en-US" sz="1000" spc="-1" strike="noStrike">
                <a:solidFill>
                  <a:srgbClr val="0000cc"/>
                </a:solidFill>
                <a:latin typeface="Arial"/>
                <a:ea typeface="Arial"/>
              </a:rPr>
              <a:t>www.epa.gov/lead</a:t>
            </a:r>
            <a:r>
              <a:rPr b="0" lang="en-US" sz="1000" spc="-1" strike="noStrike">
                <a:solidFill>
                  <a:srgbClr val="000000"/>
                </a:solidFill>
                <a:latin typeface="Arial"/>
                <a:ea typeface="Arial"/>
              </a:rPr>
              <a:t> for information on EPA-recognized test kits and how to use them. EPA is currently reviewing more sensitive test kits which may come on the market. All test kits currently on the market are colorimetric tests for lead; that is, they change color when lead is present. Different test kit chemicals produce different colors when lead is present. All paint layers must be tested when using test kits. Make sure to follow the manufacturer’s instructions when using this testing method. If there is no color change on the paint film tested, lead-based paint i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present and lead-safe work practices are not required on that surface. Test kit sampling is intrusive and damages each surface tested. Common kit types include:</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izonate-based test kits that produce a pink to red color when lead is present; and,</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lfide-based test kits that produce a dark grey to black color when lead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X-Ray Fluorescence Testing</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Requires a special instrument and a specially-trained Certified Lead Inspector or Certified Lead Risk Assessor. The instrument tests by bombarding the paint film with gamma radiation that causes the lead in the paint to emit x-rays that can be read by a sensor in the instrument. The amount of lead in the paint is directly related to the x-rays read by the sensor. A computer program in the instrument calculates how much lead is in the paint film. This testing method is non-intrusive and is the most used.</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aint-Chip Collection for Laboratory Analysis</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Paint-chip testing requires intrusive sampling. All paint layers are removed from the surface being tested. The resulting sample is sent to an EPA-recognized laboratory where it is analyzed to determine how much lead is present. Paint chips can be collected by Certified Renovators, Certified Inspectors or Certified Risk Assessors. Laboratory charges are based on turnaround time, and it usually requires a day or two to get results. Intrusive sampling makes repair of tested surfaces necessary.</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2"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3F6A0DAB-41BF-4AAC-8258-3E66FCCE0E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3"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94" name="PlaceHolder 1"/>
          <p:cNvSpPr>
            <a:spLocks noGrp="1"/>
          </p:cNvSpPr>
          <p:nvPr>
            <p:ph type="sldImg"/>
          </p:nvPr>
        </p:nvSpPr>
        <p:spPr>
          <a:xfrm>
            <a:off x="1297080" y="685800"/>
            <a:ext cx="4645080" cy="3484440"/>
          </a:xfrm>
          <a:prstGeom prst="rect">
            <a:avLst/>
          </a:prstGeom>
          <a:ln w="0">
            <a:noFill/>
          </a:ln>
        </p:spPr>
      </p:sp>
      <p:sp>
        <p:nvSpPr>
          <p:cNvPr id="95" name="PlaceHolder 2"/>
          <p:cNvSpPr>
            <a:spLocks noGrp="1"/>
          </p:cNvSpPr>
          <p:nvPr>
            <p:ph type="body"/>
          </p:nvPr>
        </p:nvSpPr>
        <p:spPr>
          <a:xfrm>
            <a:off x="477360" y="4249440"/>
            <a:ext cx="6280200" cy="4800600"/>
          </a:xfrm>
          <a:prstGeom prst="rect">
            <a:avLst/>
          </a:prstGeom>
          <a:noFill/>
          <a:ln w="0">
            <a:noFill/>
          </a:ln>
        </p:spPr>
        <p:txBody>
          <a:bodyPr lIns="96480" rIns="96480" tIns="48240" bIns="48240" anchor="t">
            <a:noAutofit/>
          </a:bodyPr>
          <a:p>
            <a:pPr indent="0">
              <a:spcBef>
                <a:spcPts val="1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est kits are used, you must use an EPA-recognized test kit.</a:t>
            </a:r>
            <a:endParaRPr b="0" lang="en-US" sz="12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tly, EPA is only requiring the use of test kits that determine that lead-based paint is not present on the surfaces tested.  Refer to test kit instructions to determine if lead is absent.  If lead is not determined to be absent using the test kit the surface must be presumed to be coated with lead-based paint.</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negative test result will mean that lead safe-work practices are not required.</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ernatively, sampling may be performed by a Certified Lead Inspector or Risk Assessor to determine whether or not lead-based paint is present.</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hould be tested?</a:t>
            </a:r>
            <a:endParaRPr b="0" lang="en-US" sz="12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gnized test kits should only be used to test for lead in paint on substrates for which they are approved.  Where testing is needed on a non-approved substrate, or a surface coating other than paint, a certified risk assessor or lead inspector would be required to do such sampling.</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125"/>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PA-recognized test kits are used, the Certified Firm must provide a report to the client within 30 days after completion of the renovation. The date of testing, identification of and contact information for the Certified Firm and Certified Renovator performing the testing, test kit manufacturer’s name and kit identification, locations of surfaces tested, descriptions of the surfaces tested, and the results of testing must be included in the report to the owne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57480" y="720720"/>
            <a:ext cx="4800600" cy="3600360"/>
          </a:xfrm>
          <a:prstGeom prst="rect">
            <a:avLst/>
          </a:prstGeom>
          <a:ln w="0">
            <a:noFill/>
          </a:ln>
        </p:spPr>
      </p:sp>
      <p:sp>
        <p:nvSpPr>
          <p:cNvPr id="97"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paint chip sampling is used, you must follow appropriate procedures.</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t chip analysis result of lead greater than or equal to 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indicates a surface containing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aint chip analysis result of &lt;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wners may choose to have sampling or XRF testing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paint chip samples are collected by the Certified Renovator, Certified Renovators must follow and document appropriate procedures.</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omponents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nt chip samples may be obtained from all painted substrates. Scrape and collect all paint down to the substrate. Because of their porous nature or texture, sample collection is more difficult from substrates such as brick, concrete, and woo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aint chip samples are obtained by a Certified Renovator, the Certified Firm must provide a report to the client within 30 days after completion of the renovation. The date of testing, identification of and contact information for the Certified Firm and Certified Renovator performing the testing, laboratory name, locations of surfaces tested, descriptions of the surfaces tested, and the results of testing must be included in the report to the owner.</a:t>
            </a:r>
            <a:endParaRPr b="0" lang="en-US" sz="1000" spc="-1" strike="noStrike">
              <a:solidFill>
                <a:srgbClr val="000000"/>
              </a:solidFill>
              <a:latin typeface="Arial"/>
            </a:endParaRPr>
          </a:p>
          <a:p>
            <a:pPr lvl="1" marL="343080" indent="0">
              <a:spcBef>
                <a:spcPts val="125"/>
              </a:spcBef>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lead is reported below the regulatory level it is still advisable to use lead-safe work practices because lead-hazards can be created at those paint lead level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9"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A89D3874-0599-47E2-8DC5-2F7E4BE992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view of paint chip sample collection (see Appendix 9 for detailed instruc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1: Write required information and observations about the test location on the </a:t>
            </a:r>
            <a:r>
              <a:rPr b="0" i="1" lang="en-US" sz="1100" spc="-1" strike="noStrike">
                <a:solidFill>
                  <a:srgbClr val="000000"/>
                </a:solidFill>
                <a:latin typeface="Arial"/>
              </a:rPr>
              <a:t>Paint Chip Sample Collection Form </a:t>
            </a:r>
            <a:r>
              <a:rPr b="0" lang="en-US" sz="1100" spc="-1" strike="noStrike">
                <a:solidFill>
                  <a:srgbClr val="000000"/>
                </a:solidFill>
                <a:latin typeface="Arial"/>
              </a:rPr>
              <a:t>and Paint Chip Sample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2: Mark the Collection Area using a template or freehand.</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3: Set up a Paint Collection Tray</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4: Remove the Paint</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5: Clean all cutting tools used during paint sample collection.</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6: Transfer the Collected Sample to the Paint Collection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7: Check documentation for completeness on the </a:t>
            </a:r>
            <a:r>
              <a:rPr b="0" i="1" lang="en-US" sz="1100" spc="-1" strike="noStrike">
                <a:solidFill>
                  <a:srgbClr val="000000"/>
                </a:solidFill>
                <a:latin typeface="Arial"/>
              </a:rPr>
              <a:t>Paint Chip Sample Collection Form</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4"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67CBE82A-97CF-49CB-9F1E-BA5BAEBD52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07"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8D96F745-29E2-40FD-8CF3-EBF21A5397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9" name="PlaceHolder 1"/>
          <p:cNvSpPr>
            <a:spLocks noGrp="1"/>
          </p:cNvSpPr>
          <p:nvPr>
            <p:ph type="sldImg"/>
          </p:nvPr>
        </p:nvSpPr>
        <p:spPr>
          <a:xfrm>
            <a:off x="125748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304560" y="4571640"/>
            <a:ext cx="6745320" cy="43196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13"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3BF1688C-85EC-4F4C-BC03-32C393E6DE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DF3A4-BA75-4628-A4CF-B5AC73680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CC18F-4D5B-431A-B05F-76E285128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0A230-DCC3-4D81-B49F-A374C1DC5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0A3BD-4E60-47F2-9A03-12BC73A1D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6C11E-0D41-485D-9EE7-CC3B02EA2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6903-D3C4-4D84-8624-99AE2E029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E7A2B-59F4-4E99-A015-414CE2435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6145C-23F8-4274-AA97-6270D3408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68246-75D5-445B-A274-61C765826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F6F55-3F3F-43EB-BCC8-A22E0A027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6A6CC-FC36-4197-9A8B-62AFDF01B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C0F1-6089-4281-B0AF-529049FD1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9A94B79C-8848-4508-9BA7-E2E00909DA0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273D82F4-06D9-44CD-A036-08E74430862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2: Testing for Lead-based Paint</a:t>
            </a:r>
            <a:endParaRPr b="1" lang="en-US" sz="3600" spc="-1" strike="noStrike">
              <a:solidFill>
                <a:srgbClr val="000099"/>
              </a:solidFill>
              <a:latin typeface="Arial"/>
            </a:endParaRPr>
          </a:p>
        </p:txBody>
      </p:sp>
      <p:sp>
        <p:nvSpPr>
          <p:cNvPr id="55"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Overview</a:t>
            </a: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module teaches you:</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test for lead-based pain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To use EPA-recognized test kits to check for lead-bas</a:t>
            </a:r>
            <a:r>
              <a:rPr b="1" lang="en-US" sz="2800" spc="-1" strike="noStrike">
                <a:solidFill>
                  <a:srgbClr val="000099"/>
                </a:solidFill>
                <a:latin typeface="Arial"/>
              </a:rPr>
              <a:t>ed pain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collect a paint chip sample for lead analysis at a NLLAP-recognized entity.</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6CD26959-2AE4-491B-A352-3907AE42A37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ow to Test for Lead-Based Paint</a:t>
            </a:r>
            <a:endParaRPr b="1" lang="en-US" sz="4000" spc="-1" strike="noStrike">
              <a:solidFill>
                <a:srgbClr val="000099"/>
              </a:solidFill>
              <a:latin typeface="Arial"/>
            </a:endParaRPr>
          </a:p>
        </p:txBody>
      </p:sp>
      <p:sp>
        <p:nvSpPr>
          <p:cNvPr id="59" name="PlaceHolder 2"/>
          <p:cNvSpPr>
            <a:spLocks noGrp="1"/>
          </p:cNvSpPr>
          <p:nvPr>
            <p:ph/>
          </p:nvPr>
        </p:nvSpPr>
        <p:spPr>
          <a:xfrm>
            <a:off x="228240" y="1676160"/>
            <a:ext cx="8458200" cy="990360"/>
          </a:xfrm>
          <a:prstGeom prst="rect">
            <a:avLst/>
          </a:prstGeom>
          <a:noFill/>
          <a:ln w="0">
            <a:noFill/>
          </a:ln>
        </p:spPr>
        <p:txBody>
          <a:bodyPr anchor="t">
            <a:normAutofit fontScale="74000"/>
          </a:bodyPr>
          <a:p>
            <a:pPr marL="253800" indent="-2538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int testing must be performed prior to renovation on all surfaces to be affected by the work, or you must presume the paint is lead-based. Any testing must be performed by the appropriate qualified professional.</a:t>
            </a:r>
            <a:endParaRPr b="1" lang="en-US" sz="2400" spc="-1" strike="noStrike">
              <a:solidFill>
                <a:srgbClr val="000099"/>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graphicFrame>
        <p:nvGraphicFramePr>
          <p:cNvPr id="60" name=""/>
          <p:cNvGraphicFramePr/>
          <p:nvPr/>
        </p:nvGraphicFramePr>
        <p:xfrm>
          <a:off x="380880" y="3048120"/>
          <a:ext cx="8382240" cy="2570040"/>
        </p:xfrm>
        <a:graphic>
          <a:graphicData uri="http://schemas.openxmlformats.org/drawingml/2006/table">
            <a:tbl>
              <a:tblPr/>
              <a:tblGrid>
                <a:gridCol w="4307040"/>
                <a:gridCol w="4075200"/>
              </a:tblGrid>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of Paint Testing for Renovation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o can do the testing?</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07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PA-recognized test ki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X-Ray Fluorescence instrumen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chip sampling </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 inspector or risk assessor</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5AC1F99E-8E25-4DBD-9783-D39E431228BA}"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Times New Roman"/>
              </a:rPr>
              <a:t>Using EPA-Recognized Test Kits to Check for Lead-Bas</a:t>
            </a:r>
            <a:r>
              <a:rPr b="1" lang="en-US" sz="4000" spc="-1" strike="noStrike">
                <a:solidFill>
                  <a:srgbClr val="333399"/>
                </a:solidFill>
                <a:latin typeface="Arial"/>
              </a:rPr>
              <a:t>ed Paint</a:t>
            </a:r>
            <a:endParaRPr b="1" lang="en-US" sz="4000" spc="-1" strike="noStrike">
              <a:solidFill>
                <a:srgbClr val="000099"/>
              </a:solidFill>
              <a:latin typeface="Arial"/>
            </a:endParaRPr>
          </a:p>
        </p:txBody>
      </p:sp>
      <p:sp>
        <p:nvSpPr>
          <p:cNvPr id="64" name="PlaceHolder 2"/>
          <p:cNvSpPr>
            <a:spLocks noGrp="1"/>
          </p:cNvSpPr>
          <p:nvPr>
            <p:ph/>
          </p:nvPr>
        </p:nvSpPr>
        <p:spPr>
          <a:xfrm>
            <a:off x="304560" y="1752480"/>
            <a:ext cx="8458200" cy="4267440"/>
          </a:xfrm>
          <a:prstGeom prst="rect">
            <a:avLst/>
          </a:prstGeom>
          <a:noFill/>
          <a:ln w="0">
            <a:noFill/>
          </a:ln>
        </p:spPr>
        <p:txBody>
          <a:bodyPr anchor="t">
            <a:normAutofit/>
          </a:bodyPr>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nly use EPA-recognized test kits on substrates approved for the kit. </a:t>
            </a:r>
            <a:endParaRPr b="1" lang="en-US" sz="2800" spc="-1" strike="noStrike">
              <a:solidFill>
                <a:srgbClr val="000099"/>
              </a:solidFill>
              <a:latin typeface="Arial"/>
            </a:endParaRPr>
          </a:p>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ubmit a testing report of results from use of an EPA-recognized test kit to the client as soon as possible, but no later than 30 days after completing the renovation.</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C92295CE-3126-43F3-945C-8D98F4950CB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Method</a:t>
            </a:r>
            <a:endParaRPr b="1" lang="en-US" sz="4000" spc="-1" strike="noStrike">
              <a:solidFill>
                <a:srgbClr val="000099"/>
              </a:solidFill>
              <a:latin typeface="Arial"/>
            </a:endParaRPr>
          </a:p>
        </p:txBody>
      </p:sp>
      <p:sp>
        <p:nvSpPr>
          <p:cNvPr id="68" name=""/>
          <p:cNvSpPr txBox="1"/>
          <p:nvPr/>
        </p:nvSpPr>
        <p:spPr>
          <a:xfrm>
            <a:off x="372600" y="185724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practice is used to collect samples for the determination of lead on an area basis (milligrams of lead) or concentration basis (mass perc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is an alternative method for Certified Renovators to check for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ce collected, all paint chip samples must be submitted to an entity recognized by NLLAP for lead analys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to Obtain Paint Chip Samples</a:t>
            </a:r>
            <a:endParaRPr b="1" lang="en-US" sz="4000" spc="-1" strike="noStrike">
              <a:solidFill>
                <a:srgbClr val="000099"/>
              </a:solidFill>
              <a:latin typeface="Arial"/>
            </a:endParaRPr>
          </a:p>
        </p:txBody>
      </p:sp>
      <p:sp>
        <p:nvSpPr>
          <p:cNvPr id="70" name=""/>
          <p:cNvSpPr txBox="1"/>
          <p:nvPr/>
        </p:nvSpPr>
        <p:spPr>
          <a:xfrm>
            <a:off x="304560" y="1782720"/>
            <a:ext cx="8458200" cy="4114800"/>
          </a:xfrm>
          <a:prstGeom prst="rect">
            <a:avLst/>
          </a:prstGeom>
          <a:noFill/>
          <a:ln w="0">
            <a:noFill/>
          </a:ln>
        </p:spPr>
        <p:txBody>
          <a:bodyPr anchor="t">
            <a:normAutofit/>
          </a:bodyPr>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cord test location information</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rk collection area</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t up a paint collection tray</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move the paint</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ll cutting tools</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ransfer sample to the collection container</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 documentation for completeness on the Paint Chip Sample Collection Form</a:t>
            </a:r>
            <a:endParaRPr b="1" lang="en-US" sz="2800" spc="-1" strike="noStrike">
              <a:solidFill>
                <a:srgbClr val="000099"/>
              </a:solidFill>
              <a:latin typeface="Arial"/>
            </a:endParaRPr>
          </a:p>
        </p:txBody>
      </p:sp>
      <p:sp>
        <p:nvSpPr>
          <p:cNvPr id="7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2"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2331660D-10B0-4A28-A36C-872D7640A92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8EDB326D-15EF-49E5-84EB-0695157B6535}"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st Kit Hands-on</a:t>
            </a:r>
            <a:endParaRPr b="1" lang="en-US" sz="4000" spc="-1" strike="noStrike">
              <a:solidFill>
                <a:srgbClr val="000099"/>
              </a:solidFill>
              <a:latin typeface="Arial"/>
            </a:endParaRPr>
          </a:p>
        </p:txBody>
      </p:sp>
      <p:sp>
        <p:nvSpPr>
          <p:cNvPr id="76" name="PlaceHolder 2"/>
          <p:cNvSpPr>
            <a:spLocks noGrp="1"/>
          </p:cNvSpPr>
          <p:nvPr>
            <p:ph/>
          </p:nvPr>
        </p:nvSpPr>
        <p:spPr>
          <a:xfrm>
            <a:off x="304560" y="1981080"/>
            <a:ext cx="84582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ea typeface="Arial"/>
              </a:rPr>
              <a:t>Purpose: </a:t>
            </a:r>
            <a:r>
              <a:rPr b="1" lang="en-US" sz="2800" spc="-1" strike="noStrike">
                <a:solidFill>
                  <a:srgbClr val="000099"/>
                </a:solidFill>
                <a:latin typeface="Arial"/>
                <a:ea typeface="Arial"/>
              </a:rPr>
              <a:t>The purpose of this hands-on exercise is to teach Certified Renovators how to correctly use EPA-recognized test kits to determine if lead-based paint is present on components and surfaces affected by renovation work.</a:t>
            </a:r>
            <a:endParaRPr b="1" lang="en-US" sz="2800" spc="-1" strike="noStrike">
              <a:solidFill>
                <a:srgbClr val="000099"/>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E001A63E-401E-4CBC-AFC1-AA55271EFDE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Hands-on</a:t>
            </a:r>
            <a:endParaRPr b="1" lang="en-US" sz="4000" spc="-1" strike="noStrike">
              <a:solidFill>
                <a:srgbClr val="000099"/>
              </a:solidFill>
              <a:latin typeface="Arial"/>
            </a:endParaRPr>
          </a:p>
        </p:txBody>
      </p:sp>
      <p:sp>
        <p:nvSpPr>
          <p:cNvPr id="80" name=""/>
          <p:cNvSpPr txBox="1"/>
          <p:nvPr/>
        </p:nvSpPr>
        <p:spPr>
          <a:xfrm>
            <a:off x="0" y="2133720"/>
            <a:ext cx="91440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u="sng">
                <a:solidFill>
                  <a:srgbClr val="000099"/>
                </a:solidFill>
                <a:uFillTx/>
                <a:latin typeface="Arial"/>
              </a:rPr>
              <a:t>Purpose: </a:t>
            </a:r>
            <a:r>
              <a:rPr b="1" lang="en-US" sz="2800" spc="-1" strike="noStrike">
                <a:solidFill>
                  <a:srgbClr val="000099"/>
                </a:solidFill>
                <a:latin typeface="Arial"/>
              </a:rPr>
              <a:t>The purpose of this hands-on exercise is to teach Certified Renovators how to correctly collect paint chip samples from components affected by renovation.</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8:53:34Z</dcterms:modified>
  <cp:revision>283</cp:revision>
  <dc:subject/>
  <dc:title>Module 2: Testing for Lead-based Pa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