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28A-CE78-4794-9376-B722E615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5EC-B387-4C4B-8929-C7CA9D1B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43F-2020-4796-9E7E-6E1800DB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BF0-1D6A-4EC2-8AB6-AE76D532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9E6-27DB-4DA9-B459-79CE189E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9B8-A73F-40B1-B13B-004BFC5C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F19-16F9-4016-A67D-2421CA2A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452-902D-4211-8AC5-15D5DD1F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940-F860-4029-9EC9-187579F3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AD8-BFA8-4217-AE2E-2BBAA37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020-C45A-4749-B154-62F5A51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7D1-2CE9-4119-8AA1-DA09E88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D4F-B6AD-4FAF-B865-8D1CDABBD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969840"/>
            <a:ext cx="6677280" cy="33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772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2260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71800" y="21099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704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6716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93960" y="211608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0228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8520" y="21099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024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8160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29080" y="685440"/>
            <a:ext cx="1085760" cy="14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38880" y="343080"/>
            <a:ext cx="23810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PL injection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 rate = 0.02 cm^3/s for 1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4840" y="380880"/>
            <a:ext cx="226692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948440" y="3738600"/>
            <a:ext cx="962280" cy="2162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58200" y="372420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5040" y="5162400"/>
            <a:ext cx="6505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 DEFINITION - DNAPL flood, redistribution, and dis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stress periods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=0 to 100s - inject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&gt; 100s - remove source, allow DNAPL to redistribute/dis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DNAPL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57320" y="976320"/>
            <a:ext cx="6691320" cy="3352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6708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232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152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6400" y="21193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7688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3680" y="212580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824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960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90960" y="21193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429080" y="685440"/>
            <a:ext cx="1085760" cy="14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38880" y="343080"/>
            <a:ext cx="23810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PL injection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 rate = 0.02 cm^3/s for 1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8240" y="5572080"/>
            <a:ext cx="35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14840" y="380880"/>
            <a:ext cx="226692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225000" y="26060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05440" y="4443480"/>
            <a:ext cx="1000440" cy="2162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05840" y="4429080"/>
            <a:ext cx="5047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77480" y="527688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34440" y="4438800"/>
            <a:ext cx="475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57320" y="985680"/>
            <a:ext cx="6696000" cy="335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6400" y="5591160"/>
            <a:ext cx="31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NAPL solution @ 5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48440" y="3738600"/>
            <a:ext cx="9622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458200" y="372420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2000" y="990720"/>
            <a:ext cx="6676920" cy="3349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57320" y="5619600"/>
            <a:ext cx="39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5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05880" y="3824280"/>
            <a:ext cx="1000080" cy="216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305920" y="3800520"/>
            <a:ext cx="476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85400" y="2490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943680" y="2247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1:40:30Z</dcterms:created>
  <dc:creator>guarnjo1</dc:creator>
  <dc:description/>
  <dc:language>en-US</dc:language>
  <cp:lastModifiedBy>guarnjo1</cp:lastModifiedBy>
  <dcterms:modified xsi:type="dcterms:W3CDTF">2010-07-23T12:56:07Z</dcterms:modified>
  <cp:revision>7</cp:revision>
  <dc:subject/>
  <dc:title>No Slide Title</dc:title>
</cp:coreProperties>
</file>