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Click to move the slide</a:t>
            </a:r>
            <a:endParaRPr b="0" i="1" lang="en-US" sz="4400" spc="-1" strike="noStrike">
              <a:solidFill>
                <a:srgbClr val="00cccc"/>
              </a:solidFill>
              <a:latin typeface="Times New Roman"/>
            </a:endParaRPr>
          </a:p>
        </p:txBody>
      </p:sp>
      <p:sp>
        <p:nvSpPr>
          <p:cNvPr id="51"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230400" y="8734320"/>
            <a:ext cx="13852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ructor’s Manual</a:t>
            </a:r>
            <a:endParaRPr b="0" lang="en-US" sz="1200" spc="-1" strike="noStrike">
              <a:solidFill>
                <a:srgbClr val="ffffff"/>
              </a:solidFill>
              <a:latin typeface="Times New Roman"/>
            </a:endParaRPr>
          </a:p>
        </p:txBody>
      </p:sp>
      <p:sp>
        <p:nvSpPr>
          <p:cNvPr id="53" name=""/>
          <p:cNvSpPr/>
          <p:nvPr/>
        </p:nvSpPr>
        <p:spPr>
          <a:xfrm>
            <a:off x="5852880" y="8726400"/>
            <a:ext cx="1134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2.</a:t>
            </a:r>
            <a:fld id="{F637D8E5-BF0F-4A9B-930E-FDB133C797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PlaceHolder 1"/>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irect students to Chapter 2 of their notebook.</a:t>
            </a: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sldImg"/>
          </p:nvPr>
        </p:nvSpPr>
        <p:spPr>
          <a:xfrm>
            <a:off x="1150920" y="692280"/>
            <a:ext cx="4556160" cy="3416040"/>
          </a:xfrm>
          <a:prstGeom prst="rect">
            <a:avLst/>
          </a:prstGeom>
          <a:ln w="0">
            <a:noFill/>
          </a:ln>
        </p:spPr>
      </p:sp>
      <p:sp>
        <p:nvSpPr>
          <p:cNvPr id="318"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0.</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mphasize that all children under 6 years of age are at risk, but those from 1-3 years are most at ris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sldImg"/>
          </p:nvPr>
        </p:nvSpPr>
        <p:spPr>
          <a:xfrm>
            <a:off x="1150920" y="692280"/>
            <a:ext cx="4556160" cy="3416040"/>
          </a:xfrm>
          <a:prstGeom prst="rect">
            <a:avLst/>
          </a:prstGeom>
          <a:ln w="0">
            <a:noFill/>
          </a:ln>
        </p:spPr>
      </p:sp>
      <p:sp>
        <p:nvSpPr>
          <p:cNvPr id="326"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1.</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ow the symptoms of lead poisoning are difficult to recognize because they are so similar to other illnesses (such as stress, flu, cold, food poisoning, etc.).</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that sometimes the signs of lead poisoning come and go and that damage can be caused even with no sympto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4.</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Illustrating these units may be helpful to course participan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5.</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mphasize that the student is not responsible for memorizing these next two slides; they are just for inform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sldImg"/>
          </p:nvPr>
        </p:nvSpPr>
        <p:spPr>
          <a:xfrm>
            <a:off x="1150920" y="692280"/>
            <a:ext cx="4556160" cy="3416040"/>
          </a:xfrm>
          <a:prstGeom prst="rect">
            <a:avLst/>
          </a:prstGeom>
          <a:ln w="0">
            <a:noFill/>
          </a:ln>
        </p:spPr>
      </p:sp>
      <p:sp>
        <p:nvSpPr>
          <p:cNvPr id="366"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6.</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50920" y="692280"/>
            <a:ext cx="4556160" cy="3416040"/>
          </a:xfrm>
          <a:prstGeom prst="rect">
            <a:avLst/>
          </a:prstGeom>
          <a:ln w="0">
            <a:noFill/>
          </a:ln>
        </p:spPr>
      </p:sp>
      <p:sp>
        <p:nvSpPr>
          <p:cNvPr id="37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7.</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iscuss how workers can contribute to lead poisoning preven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mphasize the importance of good hygiene habits on the jobsite.  Workers can bring lead dust home to their families if work clothes are not left at the jobsite or are not properly decontaminated.</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everal videos may be useful to illustrate this point, including the National Demolition Contractor’s Association’s “Lead Safety in the Demolition Industry.”  This video (available in both English and Spanish) can be obtained by contacting:</a:t>
            </a:r>
            <a:endParaRPr b="0" lang="en-US" sz="1200" spc="-1" strike="noStrike">
              <a:solidFill>
                <a:srgbClr val="000000"/>
              </a:solidFill>
              <a:latin typeface="Times New Roman"/>
            </a:endParaRPr>
          </a:p>
          <a:p>
            <a:pPr lvl="1" marL="4618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The National Association of Demolition Contractors</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16 North Franklin Street</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uite 200-B</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oylestown, PA 18901-3536</a:t>
            </a:r>
            <a:endParaRPr b="0" lang="en-US" sz="1200" spc="-1" strike="noStrike">
              <a:solidFill>
                <a:srgbClr val="000000"/>
              </a:solidFill>
              <a:latin typeface="Times New Roman"/>
            </a:endParaRPr>
          </a:p>
          <a:p>
            <a:pPr lvl="1" marL="461880" indent="0">
              <a:lnSpc>
                <a:spcPct val="80000"/>
              </a:lnSpc>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800-541-2412</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8.</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ow certain vitamin deficiencies actually increase the amount of lead that is absorbed into the bod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50920" y="692280"/>
            <a:ext cx="4556160" cy="3416040"/>
          </a:xfrm>
          <a:prstGeom prst="rect">
            <a:avLst/>
          </a:prstGeom>
          <a:ln w="0">
            <a:noFill/>
          </a:ln>
        </p:spPr>
      </p:sp>
      <p:sp>
        <p:nvSpPr>
          <p:cNvPr id="38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19.</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Review with the students each of these questions.  Make sure they understand the importance of using safe work practices to protect themselves AND others who may come into the work area after work has been completed. </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If the question of chelation comes up, there is more discussion in the regulations chapter (Chapter 3).  But use the opportunity to explain what is it and that it cannot be used as a tool to prevent lead poisoning, but only as a tool to treat lead poisoning.</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Using safe work practices and following good personal hygiene are a worker’s best protection from lead poiso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2.</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Introduce Chapter 2. Remember to keep medical jargon to a minimum.  Keep it simple and explain/define acrony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3.</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tress the importance of washing hands while on the abatement site before eating, drinking, smoking or putting fingers into mouths.</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and-to-mouth action commonly observed in children and how this increases their ingestion of lead.</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Mention that lead particles can also be emitted into the air through prohibited abatement practices such as flame burning or dry sand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PlaceHolder 1"/>
          <p:cNvSpPr>
            <a:spLocks noGrp="1"/>
          </p:cNvSpPr>
          <p:nvPr>
            <p:ph type="sldImg"/>
          </p:nvPr>
        </p:nvSpPr>
        <p:spPr>
          <a:xfrm>
            <a:off x="1150920" y="692280"/>
            <a:ext cx="4556160" cy="3416040"/>
          </a:xfrm>
          <a:prstGeom prst="rect">
            <a:avLst/>
          </a:prstGeom>
          <a:ln w="0">
            <a:noFill/>
          </a:ln>
        </p:spPr>
      </p:sp>
      <p:sp>
        <p:nvSpPr>
          <p:cNvPr id="270"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920" y="8699400"/>
            <a:ext cx="298764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sldImg"/>
          </p:nvPr>
        </p:nvSpPr>
        <p:spPr>
          <a:xfrm>
            <a:off x="1150920" y="692280"/>
            <a:ext cx="4556160" cy="3416040"/>
          </a:xfrm>
          <a:prstGeom prst="rect">
            <a:avLst/>
          </a:prstGeom>
          <a:ln w="0">
            <a:noFill/>
          </a:ln>
        </p:spPr>
      </p:sp>
      <p:sp>
        <p:nvSpPr>
          <p:cNvPr id="278"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PlaceHolder 1"/>
          <p:cNvSpPr>
            <a:spLocks noGrp="1"/>
          </p:cNvSpPr>
          <p:nvPr>
            <p:ph type="sldImg"/>
          </p:nvPr>
        </p:nvSpPr>
        <p:spPr>
          <a:xfrm>
            <a:off x="1150920" y="692280"/>
            <a:ext cx="4556160" cy="3416040"/>
          </a:xfrm>
          <a:prstGeom prst="rect">
            <a:avLst/>
          </a:prstGeom>
          <a:ln w="0">
            <a:noFill/>
          </a:ln>
        </p:spPr>
      </p:sp>
      <p:sp>
        <p:nvSpPr>
          <p:cNvPr id="286"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sldImg"/>
          </p:nvPr>
        </p:nvSpPr>
        <p:spPr>
          <a:xfrm>
            <a:off x="1150920" y="692280"/>
            <a:ext cx="4556160" cy="3416040"/>
          </a:xfrm>
          <a:prstGeom prst="rect">
            <a:avLst/>
          </a:prstGeom>
          <a:ln w="0">
            <a:noFill/>
          </a:ln>
        </p:spPr>
      </p:sp>
      <p:sp>
        <p:nvSpPr>
          <p:cNvPr id="294"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marL="114480"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7.</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Define the “body burden” concept.</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ain how lead can be released from the bone back into the blood when the body is stressed and how this can cause an increase in the BLL test result even if a person was not recently exposed to lea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873600" y="-7920"/>
            <a:ext cx="299232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20" y="-7920"/>
            <a:ext cx="2987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PlaceHolder 1"/>
          <p:cNvSpPr>
            <a:spLocks noGrp="1"/>
          </p:cNvSpPr>
          <p:nvPr>
            <p:ph type="sldImg"/>
          </p:nvPr>
        </p:nvSpPr>
        <p:spPr>
          <a:xfrm>
            <a:off x="1150920" y="692280"/>
            <a:ext cx="4556160" cy="3416040"/>
          </a:xfrm>
          <a:prstGeom prst="rect">
            <a:avLst/>
          </a:prstGeom>
          <a:ln w="0">
            <a:noFill/>
          </a:ln>
        </p:spPr>
      </p:sp>
      <p:sp>
        <p:nvSpPr>
          <p:cNvPr id="310" name="PlaceHolder 2"/>
          <p:cNvSpPr>
            <a:spLocks noGrp="1"/>
          </p:cNvSpPr>
          <p:nvPr>
            <p:ph type="body"/>
          </p:nvPr>
        </p:nvSpPr>
        <p:spPr>
          <a:xfrm>
            <a:off x="880920" y="4344840"/>
            <a:ext cx="5091120" cy="4129200"/>
          </a:xfrm>
          <a:prstGeom prst="rect">
            <a:avLst/>
          </a:prstGeom>
          <a:noFill/>
          <a:ln w="0">
            <a:noFill/>
          </a:ln>
        </p:spPr>
        <p:txBody>
          <a:bodyPr lIns="93600" rIns="93600" tIns="47520" bIns="47520" anchor="t">
            <a:noAutofit/>
          </a:bodyPr>
          <a:p>
            <a:pPr indent="0">
              <a:spcBef>
                <a:spcPts val="45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Slide 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35" name="PlaceHolder 2"/>
          <p:cNvSpPr>
            <a:spLocks noGrp="1"/>
          </p:cNvSpPr>
          <p:nvPr>
            <p:ph/>
          </p:nvPr>
        </p:nvSpPr>
        <p:spPr>
          <a:xfrm>
            <a:off x="685800" y="27417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89132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38" name="PlaceHolder 2"/>
          <p:cNvSpPr>
            <a:spLocks noGrp="1"/>
          </p:cNvSpPr>
          <p:nvPr>
            <p:ph/>
          </p:nvPr>
        </p:nvSpPr>
        <p:spPr>
          <a:xfrm>
            <a:off x="68580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43" name="PlaceHolder 2"/>
          <p:cNvSpPr>
            <a:spLocks noGrp="1"/>
          </p:cNvSpPr>
          <p:nvPr>
            <p:ph/>
          </p:nvPr>
        </p:nvSpPr>
        <p:spPr>
          <a:xfrm>
            <a:off x="685800" y="27417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27417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27417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8913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8913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89132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14" name="PlaceHolder 2"/>
          <p:cNvSpPr>
            <a:spLocks noGrp="1"/>
          </p:cNvSpPr>
          <p:nvPr>
            <p:ph type="subTitle"/>
          </p:nvPr>
        </p:nvSpPr>
        <p:spPr>
          <a:xfrm>
            <a:off x="685800" y="2741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16" name="PlaceHolder 2"/>
          <p:cNvSpPr>
            <a:spLocks noGrp="1"/>
          </p:cNvSpPr>
          <p:nvPr>
            <p:ph/>
          </p:nvPr>
        </p:nvSpPr>
        <p:spPr>
          <a:xfrm>
            <a:off x="685800" y="274176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18" name="PlaceHolder 2"/>
          <p:cNvSpPr>
            <a:spLocks noGrp="1"/>
          </p:cNvSpPr>
          <p:nvPr>
            <p:ph/>
          </p:nvPr>
        </p:nvSpPr>
        <p:spPr>
          <a:xfrm>
            <a:off x="68580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360" y="475920"/>
            <a:ext cx="7086600" cy="59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23" name="PlaceHolder 2"/>
          <p:cNvSpPr>
            <a:spLocks noGrp="1"/>
          </p:cNvSpPr>
          <p:nvPr>
            <p:ph/>
          </p:nvPr>
        </p:nvSpPr>
        <p:spPr>
          <a:xfrm>
            <a:off x="68580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27" name="PlaceHolder 2"/>
          <p:cNvSpPr>
            <a:spLocks noGrp="1"/>
          </p:cNvSpPr>
          <p:nvPr>
            <p:ph/>
          </p:nvPr>
        </p:nvSpPr>
        <p:spPr>
          <a:xfrm>
            <a:off x="685800" y="274176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89132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cccc"/>
              </a:solidFill>
              <a:latin typeface="Times New Roman"/>
            </a:endParaRPr>
          </a:p>
        </p:txBody>
      </p:sp>
      <p:sp>
        <p:nvSpPr>
          <p:cNvPr id="31" name="PlaceHolder 2"/>
          <p:cNvSpPr>
            <a:spLocks noGrp="1"/>
          </p:cNvSpPr>
          <p:nvPr>
            <p:ph/>
          </p:nvPr>
        </p:nvSpPr>
        <p:spPr>
          <a:xfrm>
            <a:off x="68580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7417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89132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Click to edit the title text format</a:t>
            </a:r>
            <a:endParaRPr b="0" i="1" lang="en-US" sz="4400" spc="-1" strike="noStrike">
              <a:solidFill>
                <a:srgbClr val="00cccc"/>
              </a:solidFill>
              <a:latin typeface="Times New Roman"/>
            </a:endParaRPr>
          </a:p>
        </p:txBody>
      </p:sp>
      <p:sp>
        <p:nvSpPr>
          <p:cNvPr id="1" name="PlaceHolder 2"/>
          <p:cNvSpPr>
            <a:spLocks noGrp="1"/>
          </p:cNvSpPr>
          <p:nvPr>
            <p:ph type="body"/>
          </p:nvPr>
        </p:nvSpPr>
        <p:spPr>
          <a:xfrm>
            <a:off x="685800" y="27417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cccc"/>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cccc"/>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2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2" name=""/>
          <p:cNvGrpSpPr/>
          <p:nvPr/>
        </p:nvGrpSpPr>
        <p:grpSpPr>
          <a:xfrm>
            <a:off x="76320" y="262080"/>
            <a:ext cx="1334880" cy="457200"/>
            <a:chOff x="76320" y="262080"/>
            <a:chExt cx="1334880" cy="457200"/>
          </a:xfrm>
        </p:grpSpPr>
        <p:sp>
          <p:nvSpPr>
            <p:cNvPr id="3" name=""/>
            <p:cNvSpPr/>
            <p:nvPr/>
          </p:nvSpPr>
          <p:spPr>
            <a:xfrm>
              <a:off x="743040" y="262080"/>
              <a:ext cx="668160" cy="455400"/>
            </a:xfrm>
            <a:custGeom>
              <a:avLst/>
              <a:gdLst/>
              <a:ahLst/>
              <a:rect l="l" t="t" r="r" b="b"/>
              <a:pathLst>
                <a:path w="421" h="287">
                  <a:moveTo>
                    <a:pt x="0" y="242"/>
                  </a:moveTo>
                  <a:lnTo>
                    <a:pt x="0" y="91"/>
                  </a:lnTo>
                  <a:lnTo>
                    <a:pt x="12" y="91"/>
                  </a:lnTo>
                  <a:lnTo>
                    <a:pt x="16" y="95"/>
                  </a:lnTo>
                  <a:lnTo>
                    <a:pt x="19" y="99"/>
                  </a:lnTo>
                  <a:lnTo>
                    <a:pt x="22" y="102"/>
                  </a:lnTo>
                  <a:lnTo>
                    <a:pt x="25" y="105"/>
                  </a:lnTo>
                  <a:lnTo>
                    <a:pt x="29" y="108"/>
                  </a:lnTo>
                  <a:lnTo>
                    <a:pt x="34" y="109"/>
                  </a:lnTo>
                  <a:lnTo>
                    <a:pt x="39" y="110"/>
                  </a:lnTo>
                  <a:lnTo>
                    <a:pt x="44" y="111"/>
                  </a:lnTo>
                  <a:lnTo>
                    <a:pt x="49" y="109"/>
                  </a:lnTo>
                  <a:lnTo>
                    <a:pt x="55" y="107"/>
                  </a:lnTo>
                  <a:lnTo>
                    <a:pt x="60" y="104"/>
                  </a:lnTo>
                  <a:lnTo>
                    <a:pt x="66" y="100"/>
                  </a:lnTo>
                  <a:lnTo>
                    <a:pt x="70" y="94"/>
                  </a:lnTo>
                  <a:lnTo>
                    <a:pt x="75" y="89"/>
                  </a:lnTo>
                  <a:lnTo>
                    <a:pt x="78" y="83"/>
                  </a:lnTo>
                  <a:lnTo>
                    <a:pt x="83" y="76"/>
                  </a:lnTo>
                  <a:lnTo>
                    <a:pt x="86" y="69"/>
                  </a:lnTo>
                  <a:lnTo>
                    <a:pt x="89" y="62"/>
                  </a:lnTo>
                  <a:lnTo>
                    <a:pt x="91" y="55"/>
                  </a:lnTo>
                  <a:lnTo>
                    <a:pt x="95" y="44"/>
                  </a:lnTo>
                  <a:lnTo>
                    <a:pt x="97" y="34"/>
                  </a:lnTo>
                  <a:lnTo>
                    <a:pt x="100" y="24"/>
                  </a:lnTo>
                  <a:lnTo>
                    <a:pt x="103" y="16"/>
                  </a:lnTo>
                  <a:lnTo>
                    <a:pt x="107" y="10"/>
                  </a:lnTo>
                  <a:lnTo>
                    <a:pt x="114" y="3"/>
                  </a:lnTo>
                  <a:lnTo>
                    <a:pt x="119" y="0"/>
                  </a:lnTo>
                  <a:lnTo>
                    <a:pt x="125" y="0"/>
                  </a:lnTo>
                  <a:lnTo>
                    <a:pt x="132" y="0"/>
                  </a:lnTo>
                  <a:lnTo>
                    <a:pt x="138" y="2"/>
                  </a:lnTo>
                  <a:lnTo>
                    <a:pt x="144" y="6"/>
                  </a:lnTo>
                  <a:lnTo>
                    <a:pt x="149" y="11"/>
                  </a:lnTo>
                  <a:lnTo>
                    <a:pt x="155" y="17"/>
                  </a:lnTo>
                  <a:lnTo>
                    <a:pt x="193" y="60"/>
                  </a:lnTo>
                  <a:lnTo>
                    <a:pt x="203" y="72"/>
                  </a:lnTo>
                  <a:lnTo>
                    <a:pt x="213" y="84"/>
                  </a:lnTo>
                  <a:lnTo>
                    <a:pt x="221" y="95"/>
                  </a:lnTo>
                  <a:lnTo>
                    <a:pt x="232" y="108"/>
                  </a:lnTo>
                  <a:lnTo>
                    <a:pt x="245" y="123"/>
                  </a:lnTo>
                  <a:lnTo>
                    <a:pt x="258" y="135"/>
                  </a:lnTo>
                  <a:lnTo>
                    <a:pt x="270" y="144"/>
                  </a:lnTo>
                  <a:lnTo>
                    <a:pt x="282" y="152"/>
                  </a:lnTo>
                  <a:lnTo>
                    <a:pt x="292" y="157"/>
                  </a:lnTo>
                  <a:lnTo>
                    <a:pt x="302" y="163"/>
                  </a:lnTo>
                  <a:lnTo>
                    <a:pt x="312" y="168"/>
                  </a:lnTo>
                  <a:lnTo>
                    <a:pt x="324" y="173"/>
                  </a:lnTo>
                  <a:lnTo>
                    <a:pt x="337" y="179"/>
                  </a:lnTo>
                  <a:lnTo>
                    <a:pt x="352" y="184"/>
                  </a:lnTo>
                  <a:lnTo>
                    <a:pt x="366" y="186"/>
                  </a:lnTo>
                  <a:lnTo>
                    <a:pt x="378" y="188"/>
                  </a:lnTo>
                  <a:lnTo>
                    <a:pt x="391" y="190"/>
                  </a:lnTo>
                  <a:lnTo>
                    <a:pt x="402" y="191"/>
                  </a:lnTo>
                  <a:lnTo>
                    <a:pt x="411" y="191"/>
                  </a:lnTo>
                  <a:lnTo>
                    <a:pt x="420" y="190"/>
                  </a:lnTo>
                  <a:lnTo>
                    <a:pt x="415" y="199"/>
                  </a:lnTo>
                  <a:lnTo>
                    <a:pt x="410" y="207"/>
                  </a:lnTo>
                  <a:lnTo>
                    <a:pt x="404" y="216"/>
                  </a:lnTo>
                  <a:lnTo>
                    <a:pt x="397" y="223"/>
                  </a:lnTo>
                  <a:lnTo>
                    <a:pt x="388" y="231"/>
                  </a:lnTo>
                  <a:lnTo>
                    <a:pt x="375" y="237"/>
                  </a:lnTo>
                  <a:lnTo>
                    <a:pt x="362" y="240"/>
                  </a:lnTo>
                  <a:lnTo>
                    <a:pt x="351" y="239"/>
                  </a:lnTo>
                  <a:lnTo>
                    <a:pt x="341" y="235"/>
                  </a:lnTo>
                  <a:lnTo>
                    <a:pt x="332" y="227"/>
                  </a:lnTo>
                  <a:lnTo>
                    <a:pt x="326" y="221"/>
                  </a:lnTo>
                  <a:lnTo>
                    <a:pt x="319" y="211"/>
                  </a:lnTo>
                  <a:lnTo>
                    <a:pt x="322" y="219"/>
                  </a:lnTo>
                  <a:lnTo>
                    <a:pt x="325" y="227"/>
                  </a:lnTo>
                  <a:lnTo>
                    <a:pt x="328" y="236"/>
                  </a:lnTo>
                  <a:lnTo>
                    <a:pt x="329" y="243"/>
                  </a:lnTo>
                  <a:lnTo>
                    <a:pt x="328" y="248"/>
                  </a:lnTo>
                  <a:lnTo>
                    <a:pt x="326" y="253"/>
                  </a:lnTo>
                  <a:lnTo>
                    <a:pt x="322" y="256"/>
                  </a:lnTo>
                  <a:lnTo>
                    <a:pt x="317" y="258"/>
                  </a:lnTo>
                  <a:lnTo>
                    <a:pt x="308" y="257"/>
                  </a:lnTo>
                  <a:lnTo>
                    <a:pt x="298" y="255"/>
                  </a:lnTo>
                  <a:lnTo>
                    <a:pt x="288" y="253"/>
                  </a:lnTo>
                  <a:lnTo>
                    <a:pt x="275" y="248"/>
                  </a:lnTo>
                  <a:lnTo>
                    <a:pt x="261" y="243"/>
                  </a:lnTo>
                  <a:lnTo>
                    <a:pt x="250" y="238"/>
                  </a:lnTo>
                  <a:lnTo>
                    <a:pt x="253" y="244"/>
                  </a:lnTo>
                  <a:lnTo>
                    <a:pt x="257" y="249"/>
                  </a:lnTo>
                  <a:lnTo>
                    <a:pt x="257" y="256"/>
                  </a:lnTo>
                  <a:lnTo>
                    <a:pt x="255" y="260"/>
                  </a:lnTo>
                  <a:lnTo>
                    <a:pt x="252" y="263"/>
                  </a:lnTo>
                  <a:lnTo>
                    <a:pt x="246" y="265"/>
                  </a:lnTo>
                  <a:lnTo>
                    <a:pt x="241" y="267"/>
                  </a:lnTo>
                  <a:lnTo>
                    <a:pt x="232" y="267"/>
                  </a:lnTo>
                  <a:lnTo>
                    <a:pt x="224" y="266"/>
                  </a:lnTo>
                  <a:lnTo>
                    <a:pt x="216" y="264"/>
                  </a:lnTo>
                  <a:lnTo>
                    <a:pt x="205" y="262"/>
                  </a:lnTo>
                  <a:lnTo>
                    <a:pt x="196" y="258"/>
                  </a:lnTo>
                  <a:lnTo>
                    <a:pt x="188" y="254"/>
                  </a:lnTo>
                  <a:lnTo>
                    <a:pt x="179" y="249"/>
                  </a:lnTo>
                  <a:lnTo>
                    <a:pt x="172" y="245"/>
                  </a:lnTo>
                  <a:lnTo>
                    <a:pt x="166" y="243"/>
                  </a:lnTo>
                  <a:lnTo>
                    <a:pt x="169" y="248"/>
                  </a:lnTo>
                  <a:lnTo>
                    <a:pt x="173" y="254"/>
                  </a:lnTo>
                  <a:lnTo>
                    <a:pt x="175" y="259"/>
                  </a:lnTo>
                  <a:lnTo>
                    <a:pt x="175" y="265"/>
                  </a:lnTo>
                  <a:lnTo>
                    <a:pt x="174" y="269"/>
                  </a:lnTo>
                  <a:lnTo>
                    <a:pt x="173" y="273"/>
                  </a:lnTo>
                  <a:lnTo>
                    <a:pt x="169" y="276"/>
                  </a:lnTo>
                  <a:lnTo>
                    <a:pt x="163" y="279"/>
                  </a:lnTo>
                  <a:lnTo>
                    <a:pt x="155" y="279"/>
                  </a:lnTo>
                  <a:lnTo>
                    <a:pt x="146" y="277"/>
                  </a:lnTo>
                  <a:lnTo>
                    <a:pt x="135" y="274"/>
                  </a:lnTo>
                  <a:lnTo>
                    <a:pt x="124" y="270"/>
                  </a:lnTo>
                  <a:lnTo>
                    <a:pt x="114" y="266"/>
                  </a:lnTo>
                  <a:lnTo>
                    <a:pt x="106" y="262"/>
                  </a:lnTo>
                  <a:lnTo>
                    <a:pt x="98" y="258"/>
                  </a:lnTo>
                  <a:lnTo>
                    <a:pt x="93" y="254"/>
                  </a:lnTo>
                  <a:lnTo>
                    <a:pt x="97" y="261"/>
                  </a:lnTo>
                  <a:lnTo>
                    <a:pt x="100" y="267"/>
                  </a:lnTo>
                  <a:lnTo>
                    <a:pt x="102" y="273"/>
                  </a:lnTo>
                  <a:lnTo>
                    <a:pt x="102" y="278"/>
                  </a:lnTo>
                  <a:lnTo>
                    <a:pt x="100" y="281"/>
                  </a:lnTo>
                  <a:lnTo>
                    <a:pt x="97" y="284"/>
                  </a:lnTo>
                  <a:lnTo>
                    <a:pt x="92" y="286"/>
                  </a:lnTo>
                  <a:lnTo>
                    <a:pt x="87" y="286"/>
                  </a:lnTo>
                  <a:lnTo>
                    <a:pt x="78" y="284"/>
                  </a:lnTo>
                  <a:lnTo>
                    <a:pt x="68" y="282"/>
                  </a:lnTo>
                  <a:lnTo>
                    <a:pt x="56" y="278"/>
                  </a:lnTo>
                  <a:lnTo>
                    <a:pt x="44" y="273"/>
                  </a:lnTo>
                  <a:lnTo>
                    <a:pt x="33" y="268"/>
                  </a:lnTo>
                  <a:lnTo>
                    <a:pt x="24" y="263"/>
                  </a:lnTo>
                  <a:lnTo>
                    <a:pt x="14" y="257"/>
                  </a:lnTo>
                  <a:lnTo>
                    <a:pt x="6" y="248"/>
                  </a:lnTo>
                  <a:lnTo>
                    <a:pt x="0" y="242"/>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6320" y="262080"/>
              <a:ext cx="668160" cy="457200"/>
            </a:xfrm>
            <a:custGeom>
              <a:avLst/>
              <a:gdLst/>
              <a:ahLst/>
              <a:rect l="l" t="t" r="r" b="b"/>
              <a:pathLst>
                <a:path w="421" h="288">
                  <a:moveTo>
                    <a:pt x="420" y="243"/>
                  </a:moveTo>
                  <a:lnTo>
                    <a:pt x="420" y="92"/>
                  </a:lnTo>
                  <a:lnTo>
                    <a:pt x="407" y="92"/>
                  </a:lnTo>
                  <a:lnTo>
                    <a:pt x="404" y="96"/>
                  </a:lnTo>
                  <a:lnTo>
                    <a:pt x="400" y="100"/>
                  </a:lnTo>
                  <a:lnTo>
                    <a:pt x="397" y="102"/>
                  </a:lnTo>
                  <a:lnTo>
                    <a:pt x="394" y="105"/>
                  </a:lnTo>
                  <a:lnTo>
                    <a:pt x="390" y="108"/>
                  </a:lnTo>
                  <a:lnTo>
                    <a:pt x="385" y="110"/>
                  </a:lnTo>
                  <a:lnTo>
                    <a:pt x="380" y="111"/>
                  </a:lnTo>
                  <a:lnTo>
                    <a:pt x="375" y="111"/>
                  </a:lnTo>
                  <a:lnTo>
                    <a:pt x="370" y="110"/>
                  </a:lnTo>
                  <a:lnTo>
                    <a:pt x="364" y="107"/>
                  </a:lnTo>
                  <a:lnTo>
                    <a:pt x="359" y="104"/>
                  </a:lnTo>
                  <a:lnTo>
                    <a:pt x="354" y="100"/>
                  </a:lnTo>
                  <a:lnTo>
                    <a:pt x="349" y="95"/>
                  </a:lnTo>
                  <a:lnTo>
                    <a:pt x="344" y="89"/>
                  </a:lnTo>
                  <a:lnTo>
                    <a:pt x="341" y="84"/>
                  </a:lnTo>
                  <a:lnTo>
                    <a:pt x="336" y="76"/>
                  </a:lnTo>
                  <a:lnTo>
                    <a:pt x="333" y="69"/>
                  </a:lnTo>
                  <a:lnTo>
                    <a:pt x="330" y="62"/>
                  </a:lnTo>
                  <a:lnTo>
                    <a:pt x="328" y="55"/>
                  </a:lnTo>
                  <a:lnTo>
                    <a:pt x="324" y="44"/>
                  </a:lnTo>
                  <a:lnTo>
                    <a:pt x="322" y="34"/>
                  </a:lnTo>
                  <a:lnTo>
                    <a:pt x="319" y="24"/>
                  </a:lnTo>
                  <a:lnTo>
                    <a:pt x="316" y="16"/>
                  </a:lnTo>
                  <a:lnTo>
                    <a:pt x="312" y="10"/>
                  </a:lnTo>
                  <a:lnTo>
                    <a:pt x="305" y="3"/>
                  </a:lnTo>
                  <a:lnTo>
                    <a:pt x="300" y="1"/>
                  </a:lnTo>
                  <a:lnTo>
                    <a:pt x="294" y="0"/>
                  </a:lnTo>
                  <a:lnTo>
                    <a:pt x="287" y="0"/>
                  </a:lnTo>
                  <a:lnTo>
                    <a:pt x="281" y="3"/>
                  </a:lnTo>
                  <a:lnTo>
                    <a:pt x="276" y="6"/>
                  </a:lnTo>
                  <a:lnTo>
                    <a:pt x="270" y="11"/>
                  </a:lnTo>
                  <a:lnTo>
                    <a:pt x="264" y="17"/>
                  </a:lnTo>
                  <a:lnTo>
                    <a:pt x="226" y="61"/>
                  </a:lnTo>
                  <a:lnTo>
                    <a:pt x="216" y="73"/>
                  </a:lnTo>
                  <a:lnTo>
                    <a:pt x="207" y="85"/>
                  </a:lnTo>
                  <a:lnTo>
                    <a:pt x="198" y="96"/>
                  </a:lnTo>
                  <a:lnTo>
                    <a:pt x="187" y="109"/>
                  </a:lnTo>
                  <a:lnTo>
                    <a:pt x="174" y="123"/>
                  </a:lnTo>
                  <a:lnTo>
                    <a:pt x="161" y="135"/>
                  </a:lnTo>
                  <a:lnTo>
                    <a:pt x="149" y="144"/>
                  </a:lnTo>
                  <a:lnTo>
                    <a:pt x="137" y="153"/>
                  </a:lnTo>
                  <a:lnTo>
                    <a:pt x="127" y="158"/>
                  </a:lnTo>
                  <a:lnTo>
                    <a:pt x="117" y="164"/>
                  </a:lnTo>
                  <a:lnTo>
                    <a:pt x="107" y="169"/>
                  </a:lnTo>
                  <a:lnTo>
                    <a:pt x="95" y="174"/>
                  </a:lnTo>
                  <a:lnTo>
                    <a:pt x="82" y="180"/>
                  </a:lnTo>
                  <a:lnTo>
                    <a:pt x="67" y="184"/>
                  </a:lnTo>
                  <a:lnTo>
                    <a:pt x="53" y="187"/>
                  </a:lnTo>
                  <a:lnTo>
                    <a:pt x="41" y="188"/>
                  </a:lnTo>
                  <a:lnTo>
                    <a:pt x="29" y="191"/>
                  </a:lnTo>
                  <a:lnTo>
                    <a:pt x="17" y="192"/>
                  </a:lnTo>
                  <a:lnTo>
                    <a:pt x="8" y="192"/>
                  </a:lnTo>
                  <a:lnTo>
                    <a:pt x="0" y="191"/>
                  </a:lnTo>
                  <a:lnTo>
                    <a:pt x="4" y="199"/>
                  </a:lnTo>
                  <a:lnTo>
                    <a:pt x="9" y="208"/>
                  </a:lnTo>
                  <a:lnTo>
                    <a:pt x="15" y="217"/>
                  </a:lnTo>
                  <a:lnTo>
                    <a:pt x="22" y="224"/>
                  </a:lnTo>
                  <a:lnTo>
                    <a:pt x="31" y="232"/>
                  </a:lnTo>
                  <a:lnTo>
                    <a:pt x="44" y="238"/>
                  </a:lnTo>
                  <a:lnTo>
                    <a:pt x="57" y="241"/>
                  </a:lnTo>
                  <a:lnTo>
                    <a:pt x="68" y="240"/>
                  </a:lnTo>
                  <a:lnTo>
                    <a:pt x="79" y="236"/>
                  </a:lnTo>
                  <a:lnTo>
                    <a:pt x="87" y="228"/>
                  </a:lnTo>
                  <a:lnTo>
                    <a:pt x="93" y="222"/>
                  </a:lnTo>
                  <a:lnTo>
                    <a:pt x="100" y="211"/>
                  </a:lnTo>
                  <a:lnTo>
                    <a:pt x="97" y="220"/>
                  </a:lnTo>
                  <a:lnTo>
                    <a:pt x="94" y="228"/>
                  </a:lnTo>
                  <a:lnTo>
                    <a:pt x="91" y="237"/>
                  </a:lnTo>
                  <a:lnTo>
                    <a:pt x="90" y="244"/>
                  </a:lnTo>
                  <a:lnTo>
                    <a:pt x="91" y="249"/>
                  </a:lnTo>
                  <a:lnTo>
                    <a:pt x="93" y="254"/>
                  </a:lnTo>
                  <a:lnTo>
                    <a:pt x="97" y="257"/>
                  </a:lnTo>
                  <a:lnTo>
                    <a:pt x="102" y="259"/>
                  </a:lnTo>
                  <a:lnTo>
                    <a:pt x="111" y="258"/>
                  </a:lnTo>
                  <a:lnTo>
                    <a:pt x="121" y="256"/>
                  </a:lnTo>
                  <a:lnTo>
                    <a:pt x="131" y="254"/>
                  </a:lnTo>
                  <a:lnTo>
                    <a:pt x="144" y="249"/>
                  </a:lnTo>
                  <a:lnTo>
                    <a:pt x="158" y="244"/>
                  </a:lnTo>
                  <a:lnTo>
                    <a:pt x="169" y="239"/>
                  </a:lnTo>
                  <a:lnTo>
                    <a:pt x="166" y="245"/>
                  </a:lnTo>
                  <a:lnTo>
                    <a:pt x="163" y="250"/>
                  </a:lnTo>
                  <a:lnTo>
                    <a:pt x="162" y="257"/>
                  </a:lnTo>
                  <a:lnTo>
                    <a:pt x="164" y="260"/>
                  </a:lnTo>
                  <a:lnTo>
                    <a:pt x="168" y="264"/>
                  </a:lnTo>
                  <a:lnTo>
                    <a:pt x="173" y="266"/>
                  </a:lnTo>
                  <a:lnTo>
                    <a:pt x="178" y="268"/>
                  </a:lnTo>
                  <a:lnTo>
                    <a:pt x="187" y="268"/>
                  </a:lnTo>
                  <a:lnTo>
                    <a:pt x="195" y="267"/>
                  </a:lnTo>
                  <a:lnTo>
                    <a:pt x="203" y="265"/>
                  </a:lnTo>
                  <a:lnTo>
                    <a:pt x="214" y="263"/>
                  </a:lnTo>
                  <a:lnTo>
                    <a:pt x="223" y="259"/>
                  </a:lnTo>
                  <a:lnTo>
                    <a:pt x="231" y="254"/>
                  </a:lnTo>
                  <a:lnTo>
                    <a:pt x="240" y="250"/>
                  </a:lnTo>
                  <a:lnTo>
                    <a:pt x="247" y="246"/>
                  </a:lnTo>
                  <a:lnTo>
                    <a:pt x="253" y="243"/>
                  </a:lnTo>
                  <a:lnTo>
                    <a:pt x="250" y="249"/>
                  </a:lnTo>
                  <a:lnTo>
                    <a:pt x="247" y="255"/>
                  </a:lnTo>
                  <a:lnTo>
                    <a:pt x="244" y="260"/>
                  </a:lnTo>
                  <a:lnTo>
                    <a:pt x="244" y="266"/>
                  </a:lnTo>
                  <a:lnTo>
                    <a:pt x="245" y="270"/>
                  </a:lnTo>
                  <a:lnTo>
                    <a:pt x="247" y="274"/>
                  </a:lnTo>
                  <a:lnTo>
                    <a:pt x="250" y="277"/>
                  </a:lnTo>
                  <a:lnTo>
                    <a:pt x="257" y="280"/>
                  </a:lnTo>
                  <a:lnTo>
                    <a:pt x="264" y="280"/>
                  </a:lnTo>
                  <a:lnTo>
                    <a:pt x="273" y="278"/>
                  </a:lnTo>
                  <a:lnTo>
                    <a:pt x="284" y="275"/>
                  </a:lnTo>
                  <a:lnTo>
                    <a:pt x="295" y="271"/>
                  </a:lnTo>
                  <a:lnTo>
                    <a:pt x="305" y="267"/>
                  </a:lnTo>
                  <a:lnTo>
                    <a:pt x="313" y="263"/>
                  </a:lnTo>
                  <a:lnTo>
                    <a:pt x="321" y="259"/>
                  </a:lnTo>
                  <a:lnTo>
                    <a:pt x="326" y="255"/>
                  </a:lnTo>
                  <a:lnTo>
                    <a:pt x="322" y="261"/>
                  </a:lnTo>
                  <a:lnTo>
                    <a:pt x="319" y="268"/>
                  </a:lnTo>
                  <a:lnTo>
                    <a:pt x="317" y="274"/>
                  </a:lnTo>
                  <a:lnTo>
                    <a:pt x="317" y="279"/>
                  </a:lnTo>
                  <a:lnTo>
                    <a:pt x="319" y="282"/>
                  </a:lnTo>
                  <a:lnTo>
                    <a:pt x="322" y="285"/>
                  </a:lnTo>
                  <a:lnTo>
                    <a:pt x="328" y="285"/>
                  </a:lnTo>
                  <a:lnTo>
                    <a:pt x="333" y="287"/>
                  </a:lnTo>
                  <a:lnTo>
                    <a:pt x="341" y="285"/>
                  </a:lnTo>
                  <a:lnTo>
                    <a:pt x="351" y="283"/>
                  </a:lnTo>
                  <a:lnTo>
                    <a:pt x="363" y="279"/>
                  </a:lnTo>
                  <a:lnTo>
                    <a:pt x="375" y="274"/>
                  </a:lnTo>
                  <a:lnTo>
                    <a:pt x="386" y="269"/>
                  </a:lnTo>
                  <a:lnTo>
                    <a:pt x="395" y="264"/>
                  </a:lnTo>
                  <a:lnTo>
                    <a:pt x="405" y="258"/>
                  </a:lnTo>
                  <a:lnTo>
                    <a:pt x="413" y="249"/>
                  </a:lnTo>
                  <a:lnTo>
                    <a:pt x="420" y="243"/>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 name=""/>
          <p:cNvGrpSpPr/>
          <p:nvPr/>
        </p:nvGrpSpPr>
        <p:grpSpPr>
          <a:xfrm>
            <a:off x="312840" y="187200"/>
            <a:ext cx="861840" cy="1795680"/>
            <a:chOff x="312840" y="187200"/>
            <a:chExt cx="861840" cy="1795680"/>
          </a:xfrm>
        </p:grpSpPr>
        <p:sp>
          <p:nvSpPr>
            <p:cNvPr id="6" name=""/>
            <p:cNvSpPr/>
            <p:nvPr/>
          </p:nvSpPr>
          <p:spPr>
            <a:xfrm>
              <a:off x="312840" y="723960"/>
              <a:ext cx="714240" cy="1257120"/>
            </a:xfrm>
            <a:custGeom>
              <a:avLst/>
              <a:gdLst/>
              <a:ahLst/>
              <a:rect l="l" t="t" r="r" b="b"/>
              <a:pathLst>
                <a:path w="450" h="792">
                  <a:moveTo>
                    <a:pt x="237" y="19"/>
                  </a:moveTo>
                  <a:lnTo>
                    <a:pt x="235" y="16"/>
                  </a:lnTo>
                  <a:lnTo>
                    <a:pt x="231" y="12"/>
                  </a:lnTo>
                  <a:lnTo>
                    <a:pt x="226" y="7"/>
                  </a:lnTo>
                  <a:lnTo>
                    <a:pt x="220" y="3"/>
                  </a:lnTo>
                  <a:lnTo>
                    <a:pt x="214" y="1"/>
                  </a:lnTo>
                  <a:lnTo>
                    <a:pt x="208" y="0"/>
                  </a:lnTo>
                  <a:lnTo>
                    <a:pt x="202" y="0"/>
                  </a:lnTo>
                  <a:lnTo>
                    <a:pt x="194" y="1"/>
                  </a:lnTo>
                  <a:lnTo>
                    <a:pt x="187" y="3"/>
                  </a:lnTo>
                  <a:lnTo>
                    <a:pt x="178" y="8"/>
                  </a:lnTo>
                  <a:lnTo>
                    <a:pt x="168" y="13"/>
                  </a:lnTo>
                  <a:lnTo>
                    <a:pt x="157" y="18"/>
                  </a:lnTo>
                  <a:lnTo>
                    <a:pt x="141" y="23"/>
                  </a:lnTo>
                  <a:lnTo>
                    <a:pt x="129" y="28"/>
                  </a:lnTo>
                  <a:lnTo>
                    <a:pt x="115" y="33"/>
                  </a:lnTo>
                  <a:lnTo>
                    <a:pt x="103" y="37"/>
                  </a:lnTo>
                  <a:lnTo>
                    <a:pt x="89" y="43"/>
                  </a:lnTo>
                  <a:lnTo>
                    <a:pt x="78" y="47"/>
                  </a:lnTo>
                  <a:lnTo>
                    <a:pt x="65" y="54"/>
                  </a:lnTo>
                  <a:lnTo>
                    <a:pt x="49" y="61"/>
                  </a:lnTo>
                  <a:lnTo>
                    <a:pt x="32" y="70"/>
                  </a:lnTo>
                  <a:lnTo>
                    <a:pt x="22" y="76"/>
                  </a:lnTo>
                  <a:lnTo>
                    <a:pt x="11" y="85"/>
                  </a:lnTo>
                  <a:lnTo>
                    <a:pt x="6" y="92"/>
                  </a:lnTo>
                  <a:lnTo>
                    <a:pt x="3" y="99"/>
                  </a:lnTo>
                  <a:lnTo>
                    <a:pt x="0" y="109"/>
                  </a:lnTo>
                  <a:lnTo>
                    <a:pt x="0" y="118"/>
                  </a:lnTo>
                  <a:lnTo>
                    <a:pt x="0" y="128"/>
                  </a:lnTo>
                  <a:lnTo>
                    <a:pt x="2" y="139"/>
                  </a:lnTo>
                  <a:lnTo>
                    <a:pt x="5" y="148"/>
                  </a:lnTo>
                  <a:lnTo>
                    <a:pt x="10" y="158"/>
                  </a:lnTo>
                  <a:lnTo>
                    <a:pt x="16" y="165"/>
                  </a:lnTo>
                  <a:lnTo>
                    <a:pt x="22" y="171"/>
                  </a:lnTo>
                  <a:lnTo>
                    <a:pt x="31" y="177"/>
                  </a:lnTo>
                  <a:lnTo>
                    <a:pt x="39" y="182"/>
                  </a:lnTo>
                  <a:lnTo>
                    <a:pt x="54" y="187"/>
                  </a:lnTo>
                  <a:lnTo>
                    <a:pt x="72" y="191"/>
                  </a:lnTo>
                  <a:lnTo>
                    <a:pt x="91" y="195"/>
                  </a:lnTo>
                  <a:lnTo>
                    <a:pt x="117" y="200"/>
                  </a:lnTo>
                  <a:lnTo>
                    <a:pt x="140" y="204"/>
                  </a:lnTo>
                  <a:lnTo>
                    <a:pt x="162" y="209"/>
                  </a:lnTo>
                  <a:lnTo>
                    <a:pt x="205" y="217"/>
                  </a:lnTo>
                  <a:lnTo>
                    <a:pt x="260" y="229"/>
                  </a:lnTo>
                  <a:lnTo>
                    <a:pt x="306" y="241"/>
                  </a:lnTo>
                  <a:lnTo>
                    <a:pt x="343" y="249"/>
                  </a:lnTo>
                  <a:lnTo>
                    <a:pt x="358" y="252"/>
                  </a:lnTo>
                  <a:lnTo>
                    <a:pt x="374" y="258"/>
                  </a:lnTo>
                  <a:lnTo>
                    <a:pt x="384" y="263"/>
                  </a:lnTo>
                  <a:lnTo>
                    <a:pt x="390" y="269"/>
                  </a:lnTo>
                  <a:lnTo>
                    <a:pt x="398" y="276"/>
                  </a:lnTo>
                  <a:lnTo>
                    <a:pt x="404" y="285"/>
                  </a:lnTo>
                  <a:lnTo>
                    <a:pt x="410" y="297"/>
                  </a:lnTo>
                  <a:lnTo>
                    <a:pt x="414" y="310"/>
                  </a:lnTo>
                  <a:lnTo>
                    <a:pt x="417" y="321"/>
                  </a:lnTo>
                  <a:lnTo>
                    <a:pt x="418" y="334"/>
                  </a:lnTo>
                  <a:lnTo>
                    <a:pt x="419" y="348"/>
                  </a:lnTo>
                  <a:lnTo>
                    <a:pt x="417" y="364"/>
                  </a:lnTo>
                  <a:lnTo>
                    <a:pt x="415" y="376"/>
                  </a:lnTo>
                  <a:lnTo>
                    <a:pt x="410" y="386"/>
                  </a:lnTo>
                  <a:lnTo>
                    <a:pt x="402" y="397"/>
                  </a:lnTo>
                  <a:lnTo>
                    <a:pt x="392" y="408"/>
                  </a:lnTo>
                  <a:lnTo>
                    <a:pt x="378" y="419"/>
                  </a:lnTo>
                  <a:lnTo>
                    <a:pt x="363" y="431"/>
                  </a:lnTo>
                  <a:lnTo>
                    <a:pt x="348" y="442"/>
                  </a:lnTo>
                  <a:lnTo>
                    <a:pt x="333" y="454"/>
                  </a:lnTo>
                  <a:lnTo>
                    <a:pt x="321" y="463"/>
                  </a:lnTo>
                  <a:lnTo>
                    <a:pt x="308" y="474"/>
                  </a:lnTo>
                  <a:lnTo>
                    <a:pt x="295" y="485"/>
                  </a:lnTo>
                  <a:lnTo>
                    <a:pt x="278" y="497"/>
                  </a:lnTo>
                  <a:lnTo>
                    <a:pt x="266" y="507"/>
                  </a:lnTo>
                  <a:lnTo>
                    <a:pt x="258" y="515"/>
                  </a:lnTo>
                  <a:lnTo>
                    <a:pt x="250" y="524"/>
                  </a:lnTo>
                  <a:lnTo>
                    <a:pt x="243" y="533"/>
                  </a:lnTo>
                  <a:lnTo>
                    <a:pt x="235" y="544"/>
                  </a:lnTo>
                  <a:lnTo>
                    <a:pt x="228" y="555"/>
                  </a:lnTo>
                  <a:lnTo>
                    <a:pt x="222" y="567"/>
                  </a:lnTo>
                  <a:lnTo>
                    <a:pt x="215" y="582"/>
                  </a:lnTo>
                  <a:lnTo>
                    <a:pt x="210" y="596"/>
                  </a:lnTo>
                  <a:lnTo>
                    <a:pt x="205" y="609"/>
                  </a:lnTo>
                  <a:lnTo>
                    <a:pt x="201" y="623"/>
                  </a:lnTo>
                  <a:lnTo>
                    <a:pt x="199" y="635"/>
                  </a:lnTo>
                  <a:lnTo>
                    <a:pt x="198" y="649"/>
                  </a:lnTo>
                  <a:lnTo>
                    <a:pt x="197" y="663"/>
                  </a:lnTo>
                  <a:lnTo>
                    <a:pt x="199" y="676"/>
                  </a:lnTo>
                  <a:lnTo>
                    <a:pt x="201" y="689"/>
                  </a:lnTo>
                  <a:lnTo>
                    <a:pt x="203" y="702"/>
                  </a:lnTo>
                  <a:lnTo>
                    <a:pt x="208" y="715"/>
                  </a:lnTo>
                  <a:lnTo>
                    <a:pt x="213" y="726"/>
                  </a:lnTo>
                  <a:lnTo>
                    <a:pt x="219" y="737"/>
                  </a:lnTo>
                  <a:lnTo>
                    <a:pt x="225" y="745"/>
                  </a:lnTo>
                  <a:lnTo>
                    <a:pt x="233" y="755"/>
                  </a:lnTo>
                  <a:lnTo>
                    <a:pt x="240" y="763"/>
                  </a:lnTo>
                  <a:lnTo>
                    <a:pt x="245" y="769"/>
                  </a:lnTo>
                  <a:lnTo>
                    <a:pt x="249" y="775"/>
                  </a:lnTo>
                  <a:lnTo>
                    <a:pt x="255" y="784"/>
                  </a:lnTo>
                  <a:lnTo>
                    <a:pt x="258" y="791"/>
                  </a:lnTo>
                  <a:lnTo>
                    <a:pt x="260" y="788"/>
                  </a:lnTo>
                  <a:lnTo>
                    <a:pt x="260" y="782"/>
                  </a:lnTo>
                  <a:lnTo>
                    <a:pt x="259" y="776"/>
                  </a:lnTo>
                  <a:lnTo>
                    <a:pt x="255" y="767"/>
                  </a:lnTo>
                  <a:lnTo>
                    <a:pt x="248" y="755"/>
                  </a:lnTo>
                  <a:lnTo>
                    <a:pt x="241" y="745"/>
                  </a:lnTo>
                  <a:lnTo>
                    <a:pt x="234" y="735"/>
                  </a:lnTo>
                  <a:lnTo>
                    <a:pt x="228" y="724"/>
                  </a:lnTo>
                  <a:lnTo>
                    <a:pt x="222" y="710"/>
                  </a:lnTo>
                  <a:lnTo>
                    <a:pt x="217" y="696"/>
                  </a:lnTo>
                  <a:lnTo>
                    <a:pt x="215" y="684"/>
                  </a:lnTo>
                  <a:lnTo>
                    <a:pt x="213" y="669"/>
                  </a:lnTo>
                  <a:lnTo>
                    <a:pt x="213" y="655"/>
                  </a:lnTo>
                  <a:lnTo>
                    <a:pt x="214" y="641"/>
                  </a:lnTo>
                  <a:lnTo>
                    <a:pt x="215" y="630"/>
                  </a:lnTo>
                  <a:lnTo>
                    <a:pt x="218" y="616"/>
                  </a:lnTo>
                  <a:lnTo>
                    <a:pt x="223" y="604"/>
                  </a:lnTo>
                  <a:lnTo>
                    <a:pt x="228" y="593"/>
                  </a:lnTo>
                  <a:lnTo>
                    <a:pt x="235" y="581"/>
                  </a:lnTo>
                  <a:lnTo>
                    <a:pt x="245" y="567"/>
                  </a:lnTo>
                  <a:lnTo>
                    <a:pt x="254" y="556"/>
                  </a:lnTo>
                  <a:lnTo>
                    <a:pt x="263" y="544"/>
                  </a:lnTo>
                  <a:lnTo>
                    <a:pt x="274" y="534"/>
                  </a:lnTo>
                  <a:lnTo>
                    <a:pt x="285" y="525"/>
                  </a:lnTo>
                  <a:lnTo>
                    <a:pt x="300" y="515"/>
                  </a:lnTo>
                  <a:lnTo>
                    <a:pt x="315" y="503"/>
                  </a:lnTo>
                  <a:lnTo>
                    <a:pt x="331" y="492"/>
                  </a:lnTo>
                  <a:lnTo>
                    <a:pt x="345" y="483"/>
                  </a:lnTo>
                  <a:lnTo>
                    <a:pt x="358" y="473"/>
                  </a:lnTo>
                  <a:lnTo>
                    <a:pt x="371" y="462"/>
                  </a:lnTo>
                  <a:lnTo>
                    <a:pt x="385" y="451"/>
                  </a:lnTo>
                  <a:lnTo>
                    <a:pt x="395" y="443"/>
                  </a:lnTo>
                  <a:lnTo>
                    <a:pt x="403" y="436"/>
                  </a:lnTo>
                  <a:lnTo>
                    <a:pt x="410" y="429"/>
                  </a:lnTo>
                  <a:lnTo>
                    <a:pt x="418" y="421"/>
                  </a:lnTo>
                  <a:lnTo>
                    <a:pt x="426" y="412"/>
                  </a:lnTo>
                  <a:lnTo>
                    <a:pt x="433" y="401"/>
                  </a:lnTo>
                  <a:lnTo>
                    <a:pt x="438" y="391"/>
                  </a:lnTo>
                  <a:lnTo>
                    <a:pt x="442" y="381"/>
                  </a:lnTo>
                  <a:lnTo>
                    <a:pt x="445" y="368"/>
                  </a:lnTo>
                  <a:lnTo>
                    <a:pt x="447" y="353"/>
                  </a:lnTo>
                  <a:lnTo>
                    <a:pt x="448" y="335"/>
                  </a:lnTo>
                  <a:lnTo>
                    <a:pt x="449" y="323"/>
                  </a:lnTo>
                  <a:lnTo>
                    <a:pt x="447" y="306"/>
                  </a:lnTo>
                  <a:lnTo>
                    <a:pt x="444" y="294"/>
                  </a:lnTo>
                  <a:lnTo>
                    <a:pt x="439" y="280"/>
                  </a:lnTo>
                  <a:lnTo>
                    <a:pt x="431" y="267"/>
                  </a:lnTo>
                  <a:lnTo>
                    <a:pt x="425" y="254"/>
                  </a:lnTo>
                  <a:lnTo>
                    <a:pt x="415" y="243"/>
                  </a:lnTo>
                  <a:lnTo>
                    <a:pt x="403" y="232"/>
                  </a:lnTo>
                  <a:lnTo>
                    <a:pt x="392" y="224"/>
                  </a:lnTo>
                  <a:lnTo>
                    <a:pt x="379" y="219"/>
                  </a:lnTo>
                  <a:lnTo>
                    <a:pt x="361" y="214"/>
                  </a:lnTo>
                  <a:lnTo>
                    <a:pt x="328" y="208"/>
                  </a:lnTo>
                  <a:lnTo>
                    <a:pt x="291" y="199"/>
                  </a:lnTo>
                  <a:lnTo>
                    <a:pt x="244" y="189"/>
                  </a:lnTo>
                  <a:lnTo>
                    <a:pt x="201" y="179"/>
                  </a:lnTo>
                  <a:lnTo>
                    <a:pt x="166" y="172"/>
                  </a:lnTo>
                  <a:lnTo>
                    <a:pt x="148" y="167"/>
                  </a:lnTo>
                  <a:lnTo>
                    <a:pt x="114" y="159"/>
                  </a:lnTo>
                  <a:lnTo>
                    <a:pt x="90" y="153"/>
                  </a:lnTo>
                  <a:lnTo>
                    <a:pt x="75" y="150"/>
                  </a:lnTo>
                  <a:lnTo>
                    <a:pt x="62" y="147"/>
                  </a:lnTo>
                  <a:lnTo>
                    <a:pt x="51" y="144"/>
                  </a:lnTo>
                  <a:lnTo>
                    <a:pt x="45" y="141"/>
                  </a:lnTo>
                  <a:lnTo>
                    <a:pt x="41" y="138"/>
                  </a:lnTo>
                  <a:lnTo>
                    <a:pt x="39" y="133"/>
                  </a:lnTo>
                  <a:lnTo>
                    <a:pt x="37" y="128"/>
                  </a:lnTo>
                  <a:lnTo>
                    <a:pt x="37" y="123"/>
                  </a:lnTo>
                  <a:lnTo>
                    <a:pt x="37" y="116"/>
                  </a:lnTo>
                  <a:lnTo>
                    <a:pt x="40" y="112"/>
                  </a:lnTo>
                  <a:lnTo>
                    <a:pt x="45" y="108"/>
                  </a:lnTo>
                  <a:lnTo>
                    <a:pt x="51" y="104"/>
                  </a:lnTo>
                  <a:lnTo>
                    <a:pt x="62" y="100"/>
                  </a:lnTo>
                  <a:lnTo>
                    <a:pt x="71" y="96"/>
                  </a:lnTo>
                  <a:lnTo>
                    <a:pt x="82" y="92"/>
                  </a:lnTo>
                  <a:lnTo>
                    <a:pt x="94" y="87"/>
                  </a:lnTo>
                  <a:lnTo>
                    <a:pt x="107" y="82"/>
                  </a:lnTo>
                  <a:lnTo>
                    <a:pt x="124" y="76"/>
                  </a:lnTo>
                  <a:lnTo>
                    <a:pt x="143" y="70"/>
                  </a:lnTo>
                  <a:lnTo>
                    <a:pt x="158" y="64"/>
                  </a:lnTo>
                  <a:lnTo>
                    <a:pt x="177" y="57"/>
                  </a:lnTo>
                  <a:lnTo>
                    <a:pt x="189" y="53"/>
                  </a:lnTo>
                  <a:lnTo>
                    <a:pt x="200" y="50"/>
                  </a:lnTo>
                  <a:lnTo>
                    <a:pt x="207" y="46"/>
                  </a:lnTo>
                  <a:lnTo>
                    <a:pt x="215" y="43"/>
                  </a:lnTo>
                  <a:lnTo>
                    <a:pt x="223" y="40"/>
                  </a:lnTo>
                  <a:lnTo>
                    <a:pt x="230" y="38"/>
                  </a:lnTo>
                  <a:lnTo>
                    <a:pt x="233" y="37"/>
                  </a:lnTo>
                  <a:lnTo>
                    <a:pt x="235" y="35"/>
                  </a:lnTo>
                  <a:lnTo>
                    <a:pt x="235" y="32"/>
                  </a:lnTo>
                  <a:lnTo>
                    <a:pt x="234" y="30"/>
                  </a:lnTo>
                  <a:lnTo>
                    <a:pt x="226" y="29"/>
                  </a:lnTo>
                  <a:lnTo>
                    <a:pt x="235" y="28"/>
                  </a:lnTo>
                  <a:lnTo>
                    <a:pt x="237" y="26"/>
                  </a:lnTo>
                  <a:lnTo>
                    <a:pt x="238" y="23"/>
                  </a:lnTo>
                  <a:lnTo>
                    <a:pt x="238" y="20"/>
                  </a:lnTo>
                  <a:lnTo>
                    <a:pt x="237" y="19"/>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4800" y="747720"/>
              <a:ext cx="25560" cy="34920"/>
            </a:xfrm>
            <a:prstGeom prst="ellipse">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nvGrpSpPr>
            <p:cNvPr id="8" name=""/>
            <p:cNvGrpSpPr/>
            <p:nvPr/>
          </p:nvGrpSpPr>
          <p:grpSpPr>
            <a:xfrm>
              <a:off x="660240" y="187200"/>
              <a:ext cx="166680" cy="1793880"/>
              <a:chOff x="660240" y="187200"/>
              <a:chExt cx="166680" cy="1793880"/>
            </a:xfrm>
          </p:grpSpPr>
          <p:sp>
            <p:nvSpPr>
              <p:cNvPr id="9" name=""/>
              <p:cNvSpPr/>
              <p:nvPr/>
            </p:nvSpPr>
            <p:spPr>
              <a:xfrm>
                <a:off x="701640" y="365040"/>
                <a:ext cx="84240" cy="1616040"/>
              </a:xfrm>
              <a:custGeom>
                <a:avLst/>
                <a:gdLst/>
                <a:ahLst/>
                <a:rect l="l" t="t" r="r" b="b"/>
                <a:pathLst>
                  <a:path w="53" h="1018">
                    <a:moveTo>
                      <a:pt x="0" y="0"/>
                    </a:moveTo>
                    <a:lnTo>
                      <a:pt x="52" y="0"/>
                    </a:lnTo>
                    <a:lnTo>
                      <a:pt x="29" y="1017"/>
                    </a:lnTo>
                    <a:lnTo>
                      <a:pt x="22" y="1017"/>
                    </a:lnTo>
                    <a:lnTo>
                      <a:pt x="0" y="0"/>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60240" y="187200"/>
                <a:ext cx="166680" cy="233640"/>
              </a:xfrm>
              <a:prstGeom prst="ellipse">
                <a:avLst/>
              </a:prstGeom>
              <a:solidFill>
                <a:srgbClr val="500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 name=""/>
            <p:cNvSpPr/>
            <p:nvPr/>
          </p:nvSpPr>
          <p:spPr>
            <a:xfrm>
              <a:off x="460440" y="725400"/>
              <a:ext cx="714240" cy="1257480"/>
            </a:xfrm>
            <a:custGeom>
              <a:avLst/>
              <a:gdLst/>
              <a:ahLst/>
              <a:rect l="l" t="t" r="r" b="b"/>
              <a:pathLst>
                <a:path w="450" h="792">
                  <a:moveTo>
                    <a:pt x="211" y="19"/>
                  </a:moveTo>
                  <a:lnTo>
                    <a:pt x="213" y="16"/>
                  </a:lnTo>
                  <a:lnTo>
                    <a:pt x="216" y="12"/>
                  </a:lnTo>
                  <a:lnTo>
                    <a:pt x="222" y="7"/>
                  </a:lnTo>
                  <a:lnTo>
                    <a:pt x="228" y="3"/>
                  </a:lnTo>
                  <a:lnTo>
                    <a:pt x="234" y="1"/>
                  </a:lnTo>
                  <a:lnTo>
                    <a:pt x="240" y="0"/>
                  </a:lnTo>
                  <a:lnTo>
                    <a:pt x="246" y="0"/>
                  </a:lnTo>
                  <a:lnTo>
                    <a:pt x="254" y="1"/>
                  </a:lnTo>
                  <a:lnTo>
                    <a:pt x="261" y="3"/>
                  </a:lnTo>
                  <a:lnTo>
                    <a:pt x="270" y="7"/>
                  </a:lnTo>
                  <a:lnTo>
                    <a:pt x="279" y="13"/>
                  </a:lnTo>
                  <a:lnTo>
                    <a:pt x="291" y="18"/>
                  </a:lnTo>
                  <a:lnTo>
                    <a:pt x="307" y="23"/>
                  </a:lnTo>
                  <a:lnTo>
                    <a:pt x="319" y="28"/>
                  </a:lnTo>
                  <a:lnTo>
                    <a:pt x="333" y="33"/>
                  </a:lnTo>
                  <a:lnTo>
                    <a:pt x="345" y="37"/>
                  </a:lnTo>
                  <a:lnTo>
                    <a:pt x="359" y="43"/>
                  </a:lnTo>
                  <a:lnTo>
                    <a:pt x="370" y="47"/>
                  </a:lnTo>
                  <a:lnTo>
                    <a:pt x="383" y="54"/>
                  </a:lnTo>
                  <a:lnTo>
                    <a:pt x="399" y="61"/>
                  </a:lnTo>
                  <a:lnTo>
                    <a:pt x="416" y="70"/>
                  </a:lnTo>
                  <a:lnTo>
                    <a:pt x="426" y="76"/>
                  </a:lnTo>
                  <a:lnTo>
                    <a:pt x="437" y="85"/>
                  </a:lnTo>
                  <a:lnTo>
                    <a:pt x="442" y="92"/>
                  </a:lnTo>
                  <a:lnTo>
                    <a:pt x="445" y="99"/>
                  </a:lnTo>
                  <a:lnTo>
                    <a:pt x="448" y="109"/>
                  </a:lnTo>
                  <a:lnTo>
                    <a:pt x="449" y="118"/>
                  </a:lnTo>
                  <a:lnTo>
                    <a:pt x="448" y="128"/>
                  </a:lnTo>
                  <a:lnTo>
                    <a:pt x="446" y="139"/>
                  </a:lnTo>
                  <a:lnTo>
                    <a:pt x="443" y="147"/>
                  </a:lnTo>
                  <a:lnTo>
                    <a:pt x="438" y="158"/>
                  </a:lnTo>
                  <a:lnTo>
                    <a:pt x="432" y="165"/>
                  </a:lnTo>
                  <a:lnTo>
                    <a:pt x="426" y="171"/>
                  </a:lnTo>
                  <a:lnTo>
                    <a:pt x="417" y="177"/>
                  </a:lnTo>
                  <a:lnTo>
                    <a:pt x="408" y="182"/>
                  </a:lnTo>
                  <a:lnTo>
                    <a:pt x="394" y="187"/>
                  </a:lnTo>
                  <a:lnTo>
                    <a:pt x="376" y="191"/>
                  </a:lnTo>
                  <a:lnTo>
                    <a:pt x="357" y="195"/>
                  </a:lnTo>
                  <a:lnTo>
                    <a:pt x="331" y="200"/>
                  </a:lnTo>
                  <a:lnTo>
                    <a:pt x="308" y="204"/>
                  </a:lnTo>
                  <a:lnTo>
                    <a:pt x="286" y="208"/>
                  </a:lnTo>
                  <a:lnTo>
                    <a:pt x="242" y="217"/>
                  </a:lnTo>
                  <a:lnTo>
                    <a:pt x="188" y="229"/>
                  </a:lnTo>
                  <a:lnTo>
                    <a:pt x="142" y="240"/>
                  </a:lnTo>
                  <a:lnTo>
                    <a:pt x="105" y="249"/>
                  </a:lnTo>
                  <a:lnTo>
                    <a:pt x="90" y="252"/>
                  </a:lnTo>
                  <a:lnTo>
                    <a:pt x="74" y="258"/>
                  </a:lnTo>
                  <a:lnTo>
                    <a:pt x="64" y="263"/>
                  </a:lnTo>
                  <a:lnTo>
                    <a:pt x="58" y="269"/>
                  </a:lnTo>
                  <a:lnTo>
                    <a:pt x="50" y="276"/>
                  </a:lnTo>
                  <a:lnTo>
                    <a:pt x="44" y="285"/>
                  </a:lnTo>
                  <a:lnTo>
                    <a:pt x="38" y="297"/>
                  </a:lnTo>
                  <a:lnTo>
                    <a:pt x="34" y="310"/>
                  </a:lnTo>
                  <a:lnTo>
                    <a:pt x="32" y="321"/>
                  </a:lnTo>
                  <a:lnTo>
                    <a:pt x="30" y="334"/>
                  </a:lnTo>
                  <a:lnTo>
                    <a:pt x="29" y="348"/>
                  </a:lnTo>
                  <a:lnTo>
                    <a:pt x="31" y="364"/>
                  </a:lnTo>
                  <a:lnTo>
                    <a:pt x="34" y="376"/>
                  </a:lnTo>
                  <a:lnTo>
                    <a:pt x="38" y="386"/>
                  </a:lnTo>
                  <a:lnTo>
                    <a:pt x="46" y="397"/>
                  </a:lnTo>
                  <a:lnTo>
                    <a:pt x="56" y="408"/>
                  </a:lnTo>
                  <a:lnTo>
                    <a:pt x="70" y="419"/>
                  </a:lnTo>
                  <a:lnTo>
                    <a:pt x="85" y="431"/>
                  </a:lnTo>
                  <a:lnTo>
                    <a:pt x="100" y="442"/>
                  </a:lnTo>
                  <a:lnTo>
                    <a:pt x="115" y="454"/>
                  </a:lnTo>
                  <a:lnTo>
                    <a:pt x="127" y="463"/>
                  </a:lnTo>
                  <a:lnTo>
                    <a:pt x="140" y="474"/>
                  </a:lnTo>
                  <a:lnTo>
                    <a:pt x="153" y="485"/>
                  </a:lnTo>
                  <a:lnTo>
                    <a:pt x="170" y="497"/>
                  </a:lnTo>
                  <a:lnTo>
                    <a:pt x="182" y="507"/>
                  </a:lnTo>
                  <a:lnTo>
                    <a:pt x="190" y="515"/>
                  </a:lnTo>
                  <a:lnTo>
                    <a:pt x="198" y="524"/>
                  </a:lnTo>
                  <a:lnTo>
                    <a:pt x="206" y="533"/>
                  </a:lnTo>
                  <a:lnTo>
                    <a:pt x="213" y="544"/>
                  </a:lnTo>
                  <a:lnTo>
                    <a:pt x="220" y="555"/>
                  </a:lnTo>
                  <a:lnTo>
                    <a:pt x="226" y="567"/>
                  </a:lnTo>
                  <a:lnTo>
                    <a:pt x="233" y="582"/>
                  </a:lnTo>
                  <a:lnTo>
                    <a:pt x="238" y="596"/>
                  </a:lnTo>
                  <a:lnTo>
                    <a:pt x="243" y="608"/>
                  </a:lnTo>
                  <a:lnTo>
                    <a:pt x="247" y="623"/>
                  </a:lnTo>
                  <a:lnTo>
                    <a:pt x="249" y="635"/>
                  </a:lnTo>
                  <a:lnTo>
                    <a:pt x="250" y="649"/>
                  </a:lnTo>
                  <a:lnTo>
                    <a:pt x="250" y="663"/>
                  </a:lnTo>
                  <a:lnTo>
                    <a:pt x="249" y="676"/>
                  </a:lnTo>
                  <a:lnTo>
                    <a:pt x="247" y="689"/>
                  </a:lnTo>
                  <a:lnTo>
                    <a:pt x="244" y="702"/>
                  </a:lnTo>
                  <a:lnTo>
                    <a:pt x="240" y="715"/>
                  </a:lnTo>
                  <a:lnTo>
                    <a:pt x="235" y="726"/>
                  </a:lnTo>
                  <a:lnTo>
                    <a:pt x="229" y="737"/>
                  </a:lnTo>
                  <a:lnTo>
                    <a:pt x="223" y="745"/>
                  </a:lnTo>
                  <a:lnTo>
                    <a:pt x="215" y="755"/>
                  </a:lnTo>
                  <a:lnTo>
                    <a:pt x="208" y="763"/>
                  </a:lnTo>
                  <a:lnTo>
                    <a:pt x="203" y="769"/>
                  </a:lnTo>
                  <a:lnTo>
                    <a:pt x="199" y="775"/>
                  </a:lnTo>
                  <a:lnTo>
                    <a:pt x="193" y="784"/>
                  </a:lnTo>
                  <a:lnTo>
                    <a:pt x="190" y="791"/>
                  </a:lnTo>
                  <a:lnTo>
                    <a:pt x="188" y="788"/>
                  </a:lnTo>
                  <a:lnTo>
                    <a:pt x="188" y="782"/>
                  </a:lnTo>
                  <a:lnTo>
                    <a:pt x="189" y="776"/>
                  </a:lnTo>
                  <a:lnTo>
                    <a:pt x="193" y="767"/>
                  </a:lnTo>
                  <a:lnTo>
                    <a:pt x="200" y="755"/>
                  </a:lnTo>
                  <a:lnTo>
                    <a:pt x="207" y="745"/>
                  </a:lnTo>
                  <a:lnTo>
                    <a:pt x="213" y="735"/>
                  </a:lnTo>
                  <a:lnTo>
                    <a:pt x="220" y="724"/>
                  </a:lnTo>
                  <a:lnTo>
                    <a:pt x="226" y="710"/>
                  </a:lnTo>
                  <a:lnTo>
                    <a:pt x="231" y="696"/>
                  </a:lnTo>
                  <a:lnTo>
                    <a:pt x="233" y="684"/>
                  </a:lnTo>
                  <a:lnTo>
                    <a:pt x="235" y="669"/>
                  </a:lnTo>
                  <a:lnTo>
                    <a:pt x="235" y="655"/>
                  </a:lnTo>
                  <a:lnTo>
                    <a:pt x="235" y="641"/>
                  </a:lnTo>
                  <a:lnTo>
                    <a:pt x="233" y="630"/>
                  </a:lnTo>
                  <a:lnTo>
                    <a:pt x="229" y="616"/>
                  </a:lnTo>
                  <a:lnTo>
                    <a:pt x="225" y="604"/>
                  </a:lnTo>
                  <a:lnTo>
                    <a:pt x="220" y="593"/>
                  </a:lnTo>
                  <a:lnTo>
                    <a:pt x="213" y="581"/>
                  </a:lnTo>
                  <a:lnTo>
                    <a:pt x="203" y="567"/>
                  </a:lnTo>
                  <a:lnTo>
                    <a:pt x="194" y="556"/>
                  </a:lnTo>
                  <a:lnTo>
                    <a:pt x="185" y="544"/>
                  </a:lnTo>
                  <a:lnTo>
                    <a:pt x="174" y="534"/>
                  </a:lnTo>
                  <a:lnTo>
                    <a:pt x="163" y="525"/>
                  </a:lnTo>
                  <a:lnTo>
                    <a:pt x="149" y="515"/>
                  </a:lnTo>
                  <a:lnTo>
                    <a:pt x="133" y="503"/>
                  </a:lnTo>
                  <a:lnTo>
                    <a:pt x="117" y="492"/>
                  </a:lnTo>
                  <a:lnTo>
                    <a:pt x="103" y="483"/>
                  </a:lnTo>
                  <a:lnTo>
                    <a:pt x="90" y="473"/>
                  </a:lnTo>
                  <a:lnTo>
                    <a:pt x="77" y="462"/>
                  </a:lnTo>
                  <a:lnTo>
                    <a:pt x="63" y="450"/>
                  </a:lnTo>
                  <a:lnTo>
                    <a:pt x="53" y="443"/>
                  </a:lnTo>
                  <a:lnTo>
                    <a:pt x="45" y="436"/>
                  </a:lnTo>
                  <a:lnTo>
                    <a:pt x="38" y="429"/>
                  </a:lnTo>
                  <a:lnTo>
                    <a:pt x="30" y="421"/>
                  </a:lnTo>
                  <a:lnTo>
                    <a:pt x="22" y="412"/>
                  </a:lnTo>
                  <a:lnTo>
                    <a:pt x="15" y="401"/>
                  </a:lnTo>
                  <a:lnTo>
                    <a:pt x="10" y="391"/>
                  </a:lnTo>
                  <a:lnTo>
                    <a:pt x="6" y="381"/>
                  </a:lnTo>
                  <a:lnTo>
                    <a:pt x="3" y="368"/>
                  </a:lnTo>
                  <a:lnTo>
                    <a:pt x="1" y="353"/>
                  </a:lnTo>
                  <a:lnTo>
                    <a:pt x="0" y="335"/>
                  </a:lnTo>
                  <a:lnTo>
                    <a:pt x="0" y="322"/>
                  </a:lnTo>
                  <a:lnTo>
                    <a:pt x="1" y="306"/>
                  </a:lnTo>
                  <a:lnTo>
                    <a:pt x="4" y="294"/>
                  </a:lnTo>
                  <a:lnTo>
                    <a:pt x="9" y="280"/>
                  </a:lnTo>
                  <a:lnTo>
                    <a:pt x="17" y="267"/>
                  </a:lnTo>
                  <a:lnTo>
                    <a:pt x="23" y="254"/>
                  </a:lnTo>
                  <a:lnTo>
                    <a:pt x="33" y="243"/>
                  </a:lnTo>
                  <a:lnTo>
                    <a:pt x="45" y="232"/>
                  </a:lnTo>
                  <a:lnTo>
                    <a:pt x="56" y="224"/>
                  </a:lnTo>
                  <a:lnTo>
                    <a:pt x="69" y="219"/>
                  </a:lnTo>
                  <a:lnTo>
                    <a:pt x="87" y="214"/>
                  </a:lnTo>
                  <a:lnTo>
                    <a:pt x="120" y="208"/>
                  </a:lnTo>
                  <a:lnTo>
                    <a:pt x="157" y="199"/>
                  </a:lnTo>
                  <a:lnTo>
                    <a:pt x="204" y="189"/>
                  </a:lnTo>
                  <a:lnTo>
                    <a:pt x="247" y="179"/>
                  </a:lnTo>
                  <a:lnTo>
                    <a:pt x="282" y="172"/>
                  </a:lnTo>
                  <a:lnTo>
                    <a:pt x="300" y="167"/>
                  </a:lnTo>
                  <a:lnTo>
                    <a:pt x="334" y="159"/>
                  </a:lnTo>
                  <a:lnTo>
                    <a:pt x="358" y="153"/>
                  </a:lnTo>
                  <a:lnTo>
                    <a:pt x="372" y="150"/>
                  </a:lnTo>
                  <a:lnTo>
                    <a:pt x="386" y="147"/>
                  </a:lnTo>
                  <a:lnTo>
                    <a:pt x="397" y="144"/>
                  </a:lnTo>
                  <a:lnTo>
                    <a:pt x="403" y="141"/>
                  </a:lnTo>
                  <a:lnTo>
                    <a:pt x="406" y="138"/>
                  </a:lnTo>
                  <a:lnTo>
                    <a:pt x="409" y="133"/>
                  </a:lnTo>
                  <a:lnTo>
                    <a:pt x="411" y="128"/>
                  </a:lnTo>
                  <a:lnTo>
                    <a:pt x="412" y="123"/>
                  </a:lnTo>
                  <a:lnTo>
                    <a:pt x="411" y="116"/>
                  </a:lnTo>
                  <a:lnTo>
                    <a:pt x="408" y="112"/>
                  </a:lnTo>
                  <a:lnTo>
                    <a:pt x="403" y="108"/>
                  </a:lnTo>
                  <a:lnTo>
                    <a:pt x="397" y="104"/>
                  </a:lnTo>
                  <a:lnTo>
                    <a:pt x="385" y="100"/>
                  </a:lnTo>
                  <a:lnTo>
                    <a:pt x="377" y="96"/>
                  </a:lnTo>
                  <a:lnTo>
                    <a:pt x="366" y="92"/>
                  </a:lnTo>
                  <a:lnTo>
                    <a:pt x="354" y="87"/>
                  </a:lnTo>
                  <a:lnTo>
                    <a:pt x="341" y="82"/>
                  </a:lnTo>
                  <a:lnTo>
                    <a:pt x="324" y="76"/>
                  </a:lnTo>
                  <a:lnTo>
                    <a:pt x="305" y="70"/>
                  </a:lnTo>
                  <a:lnTo>
                    <a:pt x="290" y="64"/>
                  </a:lnTo>
                  <a:lnTo>
                    <a:pt x="271" y="57"/>
                  </a:lnTo>
                  <a:lnTo>
                    <a:pt x="258" y="53"/>
                  </a:lnTo>
                  <a:lnTo>
                    <a:pt x="248" y="50"/>
                  </a:lnTo>
                  <a:lnTo>
                    <a:pt x="241" y="46"/>
                  </a:lnTo>
                  <a:lnTo>
                    <a:pt x="233" y="43"/>
                  </a:lnTo>
                  <a:lnTo>
                    <a:pt x="225" y="40"/>
                  </a:lnTo>
                  <a:lnTo>
                    <a:pt x="218" y="38"/>
                  </a:lnTo>
                  <a:lnTo>
                    <a:pt x="215" y="37"/>
                  </a:lnTo>
                  <a:lnTo>
                    <a:pt x="213" y="35"/>
                  </a:lnTo>
                  <a:lnTo>
                    <a:pt x="213" y="32"/>
                  </a:lnTo>
                  <a:lnTo>
                    <a:pt x="214" y="30"/>
                  </a:lnTo>
                  <a:lnTo>
                    <a:pt x="222" y="29"/>
                  </a:lnTo>
                  <a:lnTo>
                    <a:pt x="213" y="28"/>
                  </a:lnTo>
                  <a:lnTo>
                    <a:pt x="211" y="26"/>
                  </a:lnTo>
                  <a:lnTo>
                    <a:pt x="210" y="23"/>
                  </a:lnTo>
                  <a:lnTo>
                    <a:pt x="210" y="20"/>
                  </a:lnTo>
                  <a:lnTo>
                    <a:pt x="211" y="19"/>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53920" y="754200"/>
              <a:ext cx="320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 name=""/>
          <p:cNvGrpSpPr/>
          <p:nvPr/>
        </p:nvGrpSpPr>
        <p:grpSpPr>
          <a:xfrm>
            <a:off x="1311120" y="339840"/>
            <a:ext cx="6348600" cy="6145200"/>
            <a:chOff x="1311120" y="339840"/>
            <a:chExt cx="6348600" cy="6145200"/>
          </a:xfrm>
        </p:grpSpPr>
        <p:grpSp>
          <p:nvGrpSpPr>
            <p:cNvPr id="57" name=""/>
            <p:cNvGrpSpPr/>
            <p:nvPr/>
          </p:nvGrpSpPr>
          <p:grpSpPr>
            <a:xfrm>
              <a:off x="1311120" y="603360"/>
              <a:ext cx="6348600" cy="1568520"/>
              <a:chOff x="1311120" y="603360"/>
              <a:chExt cx="6348600" cy="1568520"/>
            </a:xfrm>
          </p:grpSpPr>
          <p:sp>
            <p:nvSpPr>
              <p:cNvPr id="58" name=""/>
              <p:cNvSpPr/>
              <p:nvPr/>
            </p:nvSpPr>
            <p:spPr>
              <a:xfrm>
                <a:off x="4483080" y="603360"/>
                <a:ext cx="3176640" cy="1565280"/>
              </a:xfrm>
              <a:custGeom>
                <a:avLst/>
                <a:gdLst/>
                <a:ahLst/>
                <a:rect l="l" t="t" r="r" b="b"/>
                <a:pathLst>
                  <a:path w="2001" h="986">
                    <a:moveTo>
                      <a:pt x="0" y="836"/>
                    </a:moveTo>
                    <a:lnTo>
                      <a:pt x="0" y="316"/>
                    </a:lnTo>
                    <a:lnTo>
                      <a:pt x="60" y="316"/>
                    </a:lnTo>
                    <a:lnTo>
                      <a:pt x="77" y="330"/>
                    </a:lnTo>
                    <a:lnTo>
                      <a:pt x="93" y="343"/>
                    </a:lnTo>
                    <a:lnTo>
                      <a:pt x="106" y="352"/>
                    </a:lnTo>
                    <a:lnTo>
                      <a:pt x="122" y="363"/>
                    </a:lnTo>
                    <a:lnTo>
                      <a:pt x="142" y="372"/>
                    </a:lnTo>
                    <a:lnTo>
                      <a:pt x="164" y="378"/>
                    </a:lnTo>
                    <a:lnTo>
                      <a:pt x="187" y="381"/>
                    </a:lnTo>
                    <a:lnTo>
                      <a:pt x="211" y="383"/>
                    </a:lnTo>
                    <a:lnTo>
                      <a:pt x="238" y="378"/>
                    </a:lnTo>
                    <a:lnTo>
                      <a:pt x="264" y="370"/>
                    </a:lnTo>
                    <a:lnTo>
                      <a:pt x="287" y="359"/>
                    </a:lnTo>
                    <a:lnTo>
                      <a:pt x="315" y="345"/>
                    </a:lnTo>
                    <a:lnTo>
                      <a:pt x="336" y="327"/>
                    </a:lnTo>
                    <a:lnTo>
                      <a:pt x="358" y="309"/>
                    </a:lnTo>
                    <a:lnTo>
                      <a:pt x="376" y="289"/>
                    </a:lnTo>
                    <a:lnTo>
                      <a:pt x="396" y="263"/>
                    </a:lnTo>
                    <a:lnTo>
                      <a:pt x="411" y="239"/>
                    </a:lnTo>
                    <a:lnTo>
                      <a:pt x="426" y="214"/>
                    </a:lnTo>
                    <a:lnTo>
                      <a:pt x="436" y="190"/>
                    </a:lnTo>
                    <a:lnTo>
                      <a:pt x="453" y="152"/>
                    </a:lnTo>
                    <a:lnTo>
                      <a:pt x="466" y="118"/>
                    </a:lnTo>
                    <a:lnTo>
                      <a:pt x="478" y="83"/>
                    </a:lnTo>
                    <a:lnTo>
                      <a:pt x="495" y="56"/>
                    </a:lnTo>
                    <a:lnTo>
                      <a:pt x="513" y="36"/>
                    </a:lnTo>
                    <a:lnTo>
                      <a:pt x="544" y="12"/>
                    </a:lnTo>
                    <a:lnTo>
                      <a:pt x="569" y="3"/>
                    </a:lnTo>
                    <a:lnTo>
                      <a:pt x="598" y="0"/>
                    </a:lnTo>
                    <a:lnTo>
                      <a:pt x="629" y="1"/>
                    </a:lnTo>
                    <a:lnTo>
                      <a:pt x="660" y="10"/>
                    </a:lnTo>
                    <a:lnTo>
                      <a:pt x="686" y="21"/>
                    </a:lnTo>
                    <a:lnTo>
                      <a:pt x="711" y="38"/>
                    </a:lnTo>
                    <a:lnTo>
                      <a:pt x="740" y="59"/>
                    </a:lnTo>
                    <a:lnTo>
                      <a:pt x="920" y="210"/>
                    </a:lnTo>
                    <a:lnTo>
                      <a:pt x="967" y="250"/>
                    </a:lnTo>
                    <a:lnTo>
                      <a:pt x="1015" y="292"/>
                    </a:lnTo>
                    <a:lnTo>
                      <a:pt x="1055" y="330"/>
                    </a:lnTo>
                    <a:lnTo>
                      <a:pt x="1107" y="374"/>
                    </a:lnTo>
                    <a:lnTo>
                      <a:pt x="1169" y="425"/>
                    </a:lnTo>
                    <a:lnTo>
                      <a:pt x="1229" y="465"/>
                    </a:lnTo>
                    <a:lnTo>
                      <a:pt x="1289" y="498"/>
                    </a:lnTo>
                    <a:lnTo>
                      <a:pt x="1344" y="525"/>
                    </a:lnTo>
                    <a:lnTo>
                      <a:pt x="1391" y="543"/>
                    </a:lnTo>
                    <a:lnTo>
                      <a:pt x="1440" y="563"/>
                    </a:lnTo>
                    <a:lnTo>
                      <a:pt x="1487" y="581"/>
                    </a:lnTo>
                    <a:lnTo>
                      <a:pt x="1544" y="599"/>
                    </a:lnTo>
                    <a:lnTo>
                      <a:pt x="1609" y="619"/>
                    </a:lnTo>
                    <a:lnTo>
                      <a:pt x="1678" y="634"/>
                    </a:lnTo>
                    <a:lnTo>
                      <a:pt x="1744" y="643"/>
                    </a:lnTo>
                    <a:lnTo>
                      <a:pt x="1802" y="648"/>
                    </a:lnTo>
                    <a:lnTo>
                      <a:pt x="1862" y="656"/>
                    </a:lnTo>
                    <a:lnTo>
                      <a:pt x="1916" y="659"/>
                    </a:lnTo>
                    <a:lnTo>
                      <a:pt x="1960" y="661"/>
                    </a:lnTo>
                    <a:lnTo>
                      <a:pt x="2000" y="656"/>
                    </a:lnTo>
                    <a:lnTo>
                      <a:pt x="1980" y="687"/>
                    </a:lnTo>
                    <a:lnTo>
                      <a:pt x="1954" y="716"/>
                    </a:lnTo>
                    <a:lnTo>
                      <a:pt x="1925" y="745"/>
                    </a:lnTo>
                    <a:lnTo>
                      <a:pt x="1893" y="770"/>
                    </a:lnTo>
                    <a:lnTo>
                      <a:pt x="1849" y="799"/>
                    </a:lnTo>
                    <a:lnTo>
                      <a:pt x="1787" y="819"/>
                    </a:lnTo>
                    <a:lnTo>
                      <a:pt x="1725" y="830"/>
                    </a:lnTo>
                    <a:lnTo>
                      <a:pt x="1673" y="825"/>
                    </a:lnTo>
                    <a:lnTo>
                      <a:pt x="1624" y="810"/>
                    </a:lnTo>
                    <a:lnTo>
                      <a:pt x="1582" y="785"/>
                    </a:lnTo>
                    <a:lnTo>
                      <a:pt x="1554" y="763"/>
                    </a:lnTo>
                    <a:lnTo>
                      <a:pt x="1522" y="727"/>
                    </a:lnTo>
                    <a:lnTo>
                      <a:pt x="1538" y="756"/>
                    </a:lnTo>
                    <a:lnTo>
                      <a:pt x="1551" y="783"/>
                    </a:lnTo>
                    <a:lnTo>
                      <a:pt x="1562" y="814"/>
                    </a:lnTo>
                    <a:lnTo>
                      <a:pt x="1567" y="839"/>
                    </a:lnTo>
                    <a:lnTo>
                      <a:pt x="1564" y="857"/>
                    </a:lnTo>
                    <a:lnTo>
                      <a:pt x="1554" y="872"/>
                    </a:lnTo>
                    <a:lnTo>
                      <a:pt x="1538" y="883"/>
                    </a:lnTo>
                    <a:lnTo>
                      <a:pt x="1514" y="890"/>
                    </a:lnTo>
                    <a:lnTo>
                      <a:pt x="1469" y="888"/>
                    </a:lnTo>
                    <a:lnTo>
                      <a:pt x="1420" y="881"/>
                    </a:lnTo>
                    <a:lnTo>
                      <a:pt x="1373" y="872"/>
                    </a:lnTo>
                    <a:lnTo>
                      <a:pt x="1311" y="856"/>
                    </a:lnTo>
                    <a:lnTo>
                      <a:pt x="1247" y="839"/>
                    </a:lnTo>
                    <a:lnTo>
                      <a:pt x="1193" y="821"/>
                    </a:lnTo>
                    <a:lnTo>
                      <a:pt x="1209" y="841"/>
                    </a:lnTo>
                    <a:lnTo>
                      <a:pt x="1224" y="861"/>
                    </a:lnTo>
                    <a:lnTo>
                      <a:pt x="1227" y="883"/>
                    </a:lnTo>
                    <a:lnTo>
                      <a:pt x="1216" y="896"/>
                    </a:lnTo>
                    <a:lnTo>
                      <a:pt x="1200" y="907"/>
                    </a:lnTo>
                    <a:lnTo>
                      <a:pt x="1176" y="916"/>
                    </a:lnTo>
                    <a:lnTo>
                      <a:pt x="1149" y="921"/>
                    </a:lnTo>
                    <a:lnTo>
                      <a:pt x="1107" y="921"/>
                    </a:lnTo>
                    <a:lnTo>
                      <a:pt x="1069" y="917"/>
                    </a:lnTo>
                    <a:lnTo>
                      <a:pt x="1029" y="912"/>
                    </a:lnTo>
                    <a:lnTo>
                      <a:pt x="980" y="903"/>
                    </a:lnTo>
                    <a:lnTo>
                      <a:pt x="938" y="890"/>
                    </a:lnTo>
                    <a:lnTo>
                      <a:pt x="896" y="876"/>
                    </a:lnTo>
                    <a:lnTo>
                      <a:pt x="855" y="859"/>
                    </a:lnTo>
                    <a:lnTo>
                      <a:pt x="820" y="847"/>
                    </a:lnTo>
                    <a:lnTo>
                      <a:pt x="795" y="837"/>
                    </a:lnTo>
                    <a:lnTo>
                      <a:pt x="809" y="857"/>
                    </a:lnTo>
                    <a:lnTo>
                      <a:pt x="824" y="877"/>
                    </a:lnTo>
                    <a:lnTo>
                      <a:pt x="835" y="894"/>
                    </a:lnTo>
                    <a:lnTo>
                      <a:pt x="838" y="914"/>
                    </a:lnTo>
                    <a:lnTo>
                      <a:pt x="833" y="928"/>
                    </a:lnTo>
                    <a:lnTo>
                      <a:pt x="824" y="941"/>
                    </a:lnTo>
                    <a:lnTo>
                      <a:pt x="809" y="952"/>
                    </a:lnTo>
                    <a:lnTo>
                      <a:pt x="778" y="963"/>
                    </a:lnTo>
                    <a:lnTo>
                      <a:pt x="740" y="963"/>
                    </a:lnTo>
                    <a:lnTo>
                      <a:pt x="698" y="957"/>
                    </a:lnTo>
                    <a:lnTo>
                      <a:pt x="647" y="947"/>
                    </a:lnTo>
                    <a:lnTo>
                      <a:pt x="595" y="932"/>
                    </a:lnTo>
                    <a:lnTo>
                      <a:pt x="544" y="917"/>
                    </a:lnTo>
                    <a:lnTo>
                      <a:pt x="507" y="905"/>
                    </a:lnTo>
                    <a:lnTo>
                      <a:pt x="469" y="890"/>
                    </a:lnTo>
                    <a:lnTo>
                      <a:pt x="446" y="877"/>
                    </a:lnTo>
                    <a:lnTo>
                      <a:pt x="464" y="899"/>
                    </a:lnTo>
                    <a:lnTo>
                      <a:pt x="480" y="923"/>
                    </a:lnTo>
                    <a:lnTo>
                      <a:pt x="487" y="941"/>
                    </a:lnTo>
                    <a:lnTo>
                      <a:pt x="487" y="959"/>
                    </a:lnTo>
                    <a:lnTo>
                      <a:pt x="480" y="970"/>
                    </a:lnTo>
                    <a:lnTo>
                      <a:pt x="464" y="979"/>
                    </a:lnTo>
                    <a:lnTo>
                      <a:pt x="440" y="985"/>
                    </a:lnTo>
                    <a:lnTo>
                      <a:pt x="415" y="985"/>
                    </a:lnTo>
                    <a:lnTo>
                      <a:pt x="375" y="981"/>
                    </a:lnTo>
                    <a:lnTo>
                      <a:pt x="326" y="972"/>
                    </a:lnTo>
                    <a:lnTo>
                      <a:pt x="271" y="959"/>
                    </a:lnTo>
                    <a:lnTo>
                      <a:pt x="213" y="943"/>
                    </a:lnTo>
                    <a:lnTo>
                      <a:pt x="158" y="925"/>
                    </a:lnTo>
                    <a:lnTo>
                      <a:pt x="115" y="908"/>
                    </a:lnTo>
                    <a:lnTo>
                      <a:pt x="71" y="887"/>
                    </a:lnTo>
                    <a:lnTo>
                      <a:pt x="29" y="857"/>
                    </a:lnTo>
                    <a:lnTo>
                      <a:pt x="0" y="836"/>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11120" y="604800"/>
                <a:ext cx="3176640" cy="1567080"/>
              </a:xfrm>
              <a:custGeom>
                <a:avLst/>
                <a:gdLst/>
                <a:ahLst/>
                <a:rect l="l" t="t" r="r" b="b"/>
                <a:pathLst>
                  <a:path w="2001" h="987">
                    <a:moveTo>
                      <a:pt x="2000" y="836"/>
                    </a:moveTo>
                    <a:lnTo>
                      <a:pt x="2000" y="317"/>
                    </a:lnTo>
                    <a:lnTo>
                      <a:pt x="1940" y="317"/>
                    </a:lnTo>
                    <a:lnTo>
                      <a:pt x="1924" y="331"/>
                    </a:lnTo>
                    <a:lnTo>
                      <a:pt x="1907" y="344"/>
                    </a:lnTo>
                    <a:lnTo>
                      <a:pt x="1895" y="353"/>
                    </a:lnTo>
                    <a:lnTo>
                      <a:pt x="1878" y="364"/>
                    </a:lnTo>
                    <a:lnTo>
                      <a:pt x="1858" y="373"/>
                    </a:lnTo>
                    <a:lnTo>
                      <a:pt x="1836" y="378"/>
                    </a:lnTo>
                    <a:lnTo>
                      <a:pt x="1813" y="382"/>
                    </a:lnTo>
                    <a:lnTo>
                      <a:pt x="1789" y="384"/>
                    </a:lnTo>
                    <a:lnTo>
                      <a:pt x="1762" y="378"/>
                    </a:lnTo>
                    <a:lnTo>
                      <a:pt x="1736" y="371"/>
                    </a:lnTo>
                    <a:lnTo>
                      <a:pt x="1713" y="360"/>
                    </a:lnTo>
                    <a:lnTo>
                      <a:pt x="1686" y="346"/>
                    </a:lnTo>
                    <a:lnTo>
                      <a:pt x="1664" y="328"/>
                    </a:lnTo>
                    <a:lnTo>
                      <a:pt x="1642" y="309"/>
                    </a:lnTo>
                    <a:lnTo>
                      <a:pt x="1624" y="289"/>
                    </a:lnTo>
                    <a:lnTo>
                      <a:pt x="1604" y="264"/>
                    </a:lnTo>
                    <a:lnTo>
                      <a:pt x="1589" y="240"/>
                    </a:lnTo>
                    <a:lnTo>
                      <a:pt x="1575" y="215"/>
                    </a:lnTo>
                    <a:lnTo>
                      <a:pt x="1564" y="191"/>
                    </a:lnTo>
                    <a:lnTo>
                      <a:pt x="1547" y="153"/>
                    </a:lnTo>
                    <a:lnTo>
                      <a:pt x="1535" y="118"/>
                    </a:lnTo>
                    <a:lnTo>
                      <a:pt x="1522" y="84"/>
                    </a:lnTo>
                    <a:lnTo>
                      <a:pt x="1506" y="57"/>
                    </a:lnTo>
                    <a:lnTo>
                      <a:pt x="1487" y="37"/>
                    </a:lnTo>
                    <a:lnTo>
                      <a:pt x="1456" y="13"/>
                    </a:lnTo>
                    <a:lnTo>
                      <a:pt x="1431" y="4"/>
                    </a:lnTo>
                    <a:lnTo>
                      <a:pt x="1402" y="0"/>
                    </a:lnTo>
                    <a:lnTo>
                      <a:pt x="1371" y="2"/>
                    </a:lnTo>
                    <a:lnTo>
                      <a:pt x="1340" y="11"/>
                    </a:lnTo>
                    <a:lnTo>
                      <a:pt x="1315" y="22"/>
                    </a:lnTo>
                    <a:lnTo>
                      <a:pt x="1289" y="38"/>
                    </a:lnTo>
                    <a:lnTo>
                      <a:pt x="1260" y="60"/>
                    </a:lnTo>
                    <a:lnTo>
                      <a:pt x="1080" y="211"/>
                    </a:lnTo>
                    <a:lnTo>
                      <a:pt x="1033" y="251"/>
                    </a:lnTo>
                    <a:lnTo>
                      <a:pt x="986" y="293"/>
                    </a:lnTo>
                    <a:lnTo>
                      <a:pt x="946" y="331"/>
                    </a:lnTo>
                    <a:lnTo>
                      <a:pt x="893" y="375"/>
                    </a:lnTo>
                    <a:lnTo>
                      <a:pt x="831" y="426"/>
                    </a:lnTo>
                    <a:lnTo>
                      <a:pt x="771" y="466"/>
                    </a:lnTo>
                    <a:lnTo>
                      <a:pt x="711" y="498"/>
                    </a:lnTo>
                    <a:lnTo>
                      <a:pt x="657" y="526"/>
                    </a:lnTo>
                    <a:lnTo>
                      <a:pt x="609" y="544"/>
                    </a:lnTo>
                    <a:lnTo>
                      <a:pt x="560" y="564"/>
                    </a:lnTo>
                    <a:lnTo>
                      <a:pt x="513" y="582"/>
                    </a:lnTo>
                    <a:lnTo>
                      <a:pt x="457" y="600"/>
                    </a:lnTo>
                    <a:lnTo>
                      <a:pt x="391" y="620"/>
                    </a:lnTo>
                    <a:lnTo>
                      <a:pt x="322" y="635"/>
                    </a:lnTo>
                    <a:lnTo>
                      <a:pt x="257" y="644"/>
                    </a:lnTo>
                    <a:lnTo>
                      <a:pt x="199" y="649"/>
                    </a:lnTo>
                    <a:lnTo>
                      <a:pt x="139" y="657"/>
                    </a:lnTo>
                    <a:lnTo>
                      <a:pt x="84" y="660"/>
                    </a:lnTo>
                    <a:lnTo>
                      <a:pt x="40" y="662"/>
                    </a:lnTo>
                    <a:lnTo>
                      <a:pt x="0" y="657"/>
                    </a:lnTo>
                    <a:lnTo>
                      <a:pt x="20" y="687"/>
                    </a:lnTo>
                    <a:lnTo>
                      <a:pt x="46" y="716"/>
                    </a:lnTo>
                    <a:lnTo>
                      <a:pt x="75" y="746"/>
                    </a:lnTo>
                    <a:lnTo>
                      <a:pt x="108" y="771"/>
                    </a:lnTo>
                    <a:lnTo>
                      <a:pt x="151" y="800"/>
                    </a:lnTo>
                    <a:lnTo>
                      <a:pt x="213" y="820"/>
                    </a:lnTo>
                    <a:lnTo>
                      <a:pt x="275" y="831"/>
                    </a:lnTo>
                    <a:lnTo>
                      <a:pt x="328" y="826"/>
                    </a:lnTo>
                    <a:lnTo>
                      <a:pt x="377" y="811"/>
                    </a:lnTo>
                    <a:lnTo>
                      <a:pt x="418" y="786"/>
                    </a:lnTo>
                    <a:lnTo>
                      <a:pt x="446" y="764"/>
                    </a:lnTo>
                    <a:lnTo>
                      <a:pt x="478" y="727"/>
                    </a:lnTo>
                    <a:lnTo>
                      <a:pt x="462" y="756"/>
                    </a:lnTo>
                    <a:lnTo>
                      <a:pt x="449" y="784"/>
                    </a:lnTo>
                    <a:lnTo>
                      <a:pt x="438" y="815"/>
                    </a:lnTo>
                    <a:lnTo>
                      <a:pt x="433" y="840"/>
                    </a:lnTo>
                    <a:lnTo>
                      <a:pt x="437" y="858"/>
                    </a:lnTo>
                    <a:lnTo>
                      <a:pt x="446" y="873"/>
                    </a:lnTo>
                    <a:lnTo>
                      <a:pt x="462" y="884"/>
                    </a:lnTo>
                    <a:lnTo>
                      <a:pt x="486" y="891"/>
                    </a:lnTo>
                    <a:lnTo>
                      <a:pt x="531" y="889"/>
                    </a:lnTo>
                    <a:lnTo>
                      <a:pt x="580" y="882"/>
                    </a:lnTo>
                    <a:lnTo>
                      <a:pt x="628" y="873"/>
                    </a:lnTo>
                    <a:lnTo>
                      <a:pt x="689" y="856"/>
                    </a:lnTo>
                    <a:lnTo>
                      <a:pt x="753" y="840"/>
                    </a:lnTo>
                    <a:lnTo>
                      <a:pt x="807" y="822"/>
                    </a:lnTo>
                    <a:lnTo>
                      <a:pt x="791" y="842"/>
                    </a:lnTo>
                    <a:lnTo>
                      <a:pt x="777" y="862"/>
                    </a:lnTo>
                    <a:lnTo>
                      <a:pt x="773" y="884"/>
                    </a:lnTo>
                    <a:lnTo>
                      <a:pt x="784" y="896"/>
                    </a:lnTo>
                    <a:lnTo>
                      <a:pt x="800" y="907"/>
                    </a:lnTo>
                    <a:lnTo>
                      <a:pt x="824" y="916"/>
                    </a:lnTo>
                    <a:lnTo>
                      <a:pt x="851" y="922"/>
                    </a:lnTo>
                    <a:lnTo>
                      <a:pt x="893" y="922"/>
                    </a:lnTo>
                    <a:lnTo>
                      <a:pt x="931" y="918"/>
                    </a:lnTo>
                    <a:lnTo>
                      <a:pt x="971" y="913"/>
                    </a:lnTo>
                    <a:lnTo>
                      <a:pt x="1020" y="904"/>
                    </a:lnTo>
                    <a:lnTo>
                      <a:pt x="1062" y="891"/>
                    </a:lnTo>
                    <a:lnTo>
                      <a:pt x="1104" y="876"/>
                    </a:lnTo>
                    <a:lnTo>
                      <a:pt x="1146" y="860"/>
                    </a:lnTo>
                    <a:lnTo>
                      <a:pt x="1180" y="847"/>
                    </a:lnTo>
                    <a:lnTo>
                      <a:pt x="1206" y="838"/>
                    </a:lnTo>
                    <a:lnTo>
                      <a:pt x="1191" y="858"/>
                    </a:lnTo>
                    <a:lnTo>
                      <a:pt x="1177" y="878"/>
                    </a:lnTo>
                    <a:lnTo>
                      <a:pt x="1166" y="895"/>
                    </a:lnTo>
                    <a:lnTo>
                      <a:pt x="1162" y="915"/>
                    </a:lnTo>
                    <a:lnTo>
                      <a:pt x="1167" y="929"/>
                    </a:lnTo>
                    <a:lnTo>
                      <a:pt x="1177" y="942"/>
                    </a:lnTo>
                    <a:lnTo>
                      <a:pt x="1191" y="953"/>
                    </a:lnTo>
                    <a:lnTo>
                      <a:pt x="1226" y="962"/>
                    </a:lnTo>
                    <a:lnTo>
                      <a:pt x="1260" y="964"/>
                    </a:lnTo>
                    <a:lnTo>
                      <a:pt x="1302" y="958"/>
                    </a:lnTo>
                    <a:lnTo>
                      <a:pt x="1353" y="947"/>
                    </a:lnTo>
                    <a:lnTo>
                      <a:pt x="1406" y="933"/>
                    </a:lnTo>
                    <a:lnTo>
                      <a:pt x="1456" y="918"/>
                    </a:lnTo>
                    <a:lnTo>
                      <a:pt x="1493" y="906"/>
                    </a:lnTo>
                    <a:lnTo>
                      <a:pt x="1531" y="891"/>
                    </a:lnTo>
                    <a:lnTo>
                      <a:pt x="1555" y="878"/>
                    </a:lnTo>
                    <a:lnTo>
                      <a:pt x="1536" y="900"/>
                    </a:lnTo>
                    <a:lnTo>
                      <a:pt x="1520" y="924"/>
                    </a:lnTo>
                    <a:lnTo>
                      <a:pt x="1513" y="942"/>
                    </a:lnTo>
                    <a:lnTo>
                      <a:pt x="1513" y="960"/>
                    </a:lnTo>
                    <a:lnTo>
                      <a:pt x="1520" y="971"/>
                    </a:lnTo>
                    <a:lnTo>
                      <a:pt x="1536" y="980"/>
                    </a:lnTo>
                    <a:lnTo>
                      <a:pt x="1562" y="982"/>
                    </a:lnTo>
                    <a:lnTo>
                      <a:pt x="1586" y="986"/>
                    </a:lnTo>
                    <a:lnTo>
                      <a:pt x="1626" y="982"/>
                    </a:lnTo>
                    <a:lnTo>
                      <a:pt x="1675" y="973"/>
                    </a:lnTo>
                    <a:lnTo>
                      <a:pt x="1729" y="960"/>
                    </a:lnTo>
                    <a:lnTo>
                      <a:pt x="1787" y="944"/>
                    </a:lnTo>
                    <a:lnTo>
                      <a:pt x="1842" y="926"/>
                    </a:lnTo>
                    <a:lnTo>
                      <a:pt x="1885" y="909"/>
                    </a:lnTo>
                    <a:lnTo>
                      <a:pt x="1929" y="887"/>
                    </a:lnTo>
                    <a:lnTo>
                      <a:pt x="1971" y="858"/>
                    </a:lnTo>
                    <a:lnTo>
                      <a:pt x="2000" y="836"/>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 name=""/>
            <p:cNvGrpSpPr/>
            <p:nvPr/>
          </p:nvGrpSpPr>
          <p:grpSpPr>
            <a:xfrm>
              <a:off x="4065480" y="339840"/>
              <a:ext cx="844560" cy="6141960"/>
              <a:chOff x="4065480" y="339840"/>
              <a:chExt cx="844560" cy="6141960"/>
            </a:xfrm>
          </p:grpSpPr>
          <p:sp>
            <p:nvSpPr>
              <p:cNvPr id="61" name=""/>
              <p:cNvSpPr/>
              <p:nvPr/>
            </p:nvSpPr>
            <p:spPr>
              <a:xfrm>
                <a:off x="4287960" y="968400"/>
                <a:ext cx="390240" cy="5513400"/>
              </a:xfrm>
              <a:custGeom>
                <a:avLst/>
                <a:gdLst/>
                <a:ahLst/>
                <a:rect l="l" t="t" r="r" b="b"/>
                <a:pathLst>
                  <a:path w="246" h="3473">
                    <a:moveTo>
                      <a:pt x="0" y="0"/>
                    </a:moveTo>
                    <a:lnTo>
                      <a:pt x="245" y="2"/>
                    </a:lnTo>
                    <a:lnTo>
                      <a:pt x="140" y="3472"/>
                    </a:lnTo>
                    <a:lnTo>
                      <a:pt x="105" y="3472"/>
                    </a:lnTo>
                    <a:lnTo>
                      <a:pt x="0" y="0"/>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4065480" y="339840"/>
                <a:ext cx="844560" cy="825480"/>
              </a:xfrm>
              <a:prstGeom prst="ellipse">
                <a:avLst/>
              </a:prstGeom>
              <a:solidFill>
                <a:srgbClr val="50009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 name=""/>
            <p:cNvSpPr/>
            <p:nvPr/>
          </p:nvSpPr>
          <p:spPr>
            <a:xfrm>
              <a:off x="2435400" y="2189160"/>
              <a:ext cx="3390840" cy="4292640"/>
            </a:xfrm>
            <a:custGeom>
              <a:avLst/>
              <a:gdLst/>
              <a:ahLst/>
              <a:rect l="l" t="t" r="r" b="b"/>
              <a:pathLst>
                <a:path w="2136" h="2704">
                  <a:moveTo>
                    <a:pt x="1130" y="67"/>
                  </a:moveTo>
                  <a:lnTo>
                    <a:pt x="1121" y="57"/>
                  </a:lnTo>
                  <a:lnTo>
                    <a:pt x="1103" y="42"/>
                  </a:lnTo>
                  <a:lnTo>
                    <a:pt x="1077" y="26"/>
                  </a:lnTo>
                  <a:lnTo>
                    <a:pt x="1050" y="13"/>
                  </a:lnTo>
                  <a:lnTo>
                    <a:pt x="1021" y="4"/>
                  </a:lnTo>
                  <a:lnTo>
                    <a:pt x="992" y="0"/>
                  </a:lnTo>
                  <a:lnTo>
                    <a:pt x="961" y="2"/>
                  </a:lnTo>
                  <a:lnTo>
                    <a:pt x="925" y="6"/>
                  </a:lnTo>
                  <a:lnTo>
                    <a:pt x="892" y="13"/>
                  </a:lnTo>
                  <a:lnTo>
                    <a:pt x="848" y="28"/>
                  </a:lnTo>
                  <a:lnTo>
                    <a:pt x="803" y="46"/>
                  </a:lnTo>
                  <a:lnTo>
                    <a:pt x="747" y="62"/>
                  </a:lnTo>
                  <a:lnTo>
                    <a:pt x="672" y="80"/>
                  </a:lnTo>
                  <a:lnTo>
                    <a:pt x="614" y="97"/>
                  </a:lnTo>
                  <a:lnTo>
                    <a:pt x="550" y="113"/>
                  </a:lnTo>
                  <a:lnTo>
                    <a:pt x="490" y="129"/>
                  </a:lnTo>
                  <a:lnTo>
                    <a:pt x="427" y="147"/>
                  </a:lnTo>
                  <a:lnTo>
                    <a:pt x="374" y="164"/>
                  </a:lnTo>
                  <a:lnTo>
                    <a:pt x="312" y="186"/>
                  </a:lnTo>
                  <a:lnTo>
                    <a:pt x="234" y="211"/>
                  </a:lnTo>
                  <a:lnTo>
                    <a:pt x="154" y="240"/>
                  </a:lnTo>
                  <a:lnTo>
                    <a:pt x="105" y="262"/>
                  </a:lnTo>
                  <a:lnTo>
                    <a:pt x="56" y="293"/>
                  </a:lnTo>
                  <a:lnTo>
                    <a:pt x="32" y="317"/>
                  </a:lnTo>
                  <a:lnTo>
                    <a:pt x="18" y="340"/>
                  </a:lnTo>
                  <a:lnTo>
                    <a:pt x="3" y="375"/>
                  </a:lnTo>
                  <a:lnTo>
                    <a:pt x="0" y="406"/>
                  </a:lnTo>
                  <a:lnTo>
                    <a:pt x="1" y="438"/>
                  </a:lnTo>
                  <a:lnTo>
                    <a:pt x="12" y="476"/>
                  </a:lnTo>
                  <a:lnTo>
                    <a:pt x="25" y="506"/>
                  </a:lnTo>
                  <a:lnTo>
                    <a:pt x="49" y="540"/>
                  </a:lnTo>
                  <a:lnTo>
                    <a:pt x="78" y="566"/>
                  </a:lnTo>
                  <a:lnTo>
                    <a:pt x="109" y="587"/>
                  </a:lnTo>
                  <a:lnTo>
                    <a:pt x="149" y="607"/>
                  </a:lnTo>
                  <a:lnTo>
                    <a:pt x="190" y="624"/>
                  </a:lnTo>
                  <a:lnTo>
                    <a:pt x="258" y="640"/>
                  </a:lnTo>
                  <a:lnTo>
                    <a:pt x="345" y="655"/>
                  </a:lnTo>
                  <a:lnTo>
                    <a:pt x="434" y="667"/>
                  </a:lnTo>
                  <a:lnTo>
                    <a:pt x="558" y="686"/>
                  </a:lnTo>
                  <a:lnTo>
                    <a:pt x="667" y="700"/>
                  </a:lnTo>
                  <a:lnTo>
                    <a:pt x="772" y="715"/>
                  </a:lnTo>
                  <a:lnTo>
                    <a:pt x="979" y="744"/>
                  </a:lnTo>
                  <a:lnTo>
                    <a:pt x="1239" y="784"/>
                  </a:lnTo>
                  <a:lnTo>
                    <a:pt x="1457" y="824"/>
                  </a:lnTo>
                  <a:lnTo>
                    <a:pt x="1632" y="851"/>
                  </a:lnTo>
                  <a:lnTo>
                    <a:pt x="1706" y="862"/>
                  </a:lnTo>
                  <a:lnTo>
                    <a:pt x="1783" y="882"/>
                  </a:lnTo>
                  <a:lnTo>
                    <a:pt x="1826" y="902"/>
                  </a:lnTo>
                  <a:lnTo>
                    <a:pt x="1859" y="920"/>
                  </a:lnTo>
                  <a:lnTo>
                    <a:pt x="1894" y="945"/>
                  </a:lnTo>
                  <a:lnTo>
                    <a:pt x="1923" y="975"/>
                  </a:lnTo>
                  <a:lnTo>
                    <a:pt x="1950" y="1016"/>
                  </a:lnTo>
                  <a:lnTo>
                    <a:pt x="1970" y="1062"/>
                  </a:lnTo>
                  <a:lnTo>
                    <a:pt x="1983" y="1098"/>
                  </a:lnTo>
                  <a:lnTo>
                    <a:pt x="1992" y="1142"/>
                  </a:lnTo>
                  <a:lnTo>
                    <a:pt x="1996" y="1191"/>
                  </a:lnTo>
                  <a:lnTo>
                    <a:pt x="1986" y="1245"/>
                  </a:lnTo>
                  <a:lnTo>
                    <a:pt x="1974" y="1285"/>
                  </a:lnTo>
                  <a:lnTo>
                    <a:pt x="1952" y="1322"/>
                  </a:lnTo>
                  <a:lnTo>
                    <a:pt x="1916" y="1360"/>
                  </a:lnTo>
                  <a:lnTo>
                    <a:pt x="1865" y="1396"/>
                  </a:lnTo>
                  <a:lnTo>
                    <a:pt x="1801" y="1434"/>
                  </a:lnTo>
                  <a:lnTo>
                    <a:pt x="1730" y="1474"/>
                  </a:lnTo>
                  <a:lnTo>
                    <a:pt x="1659" y="1513"/>
                  </a:lnTo>
                  <a:lnTo>
                    <a:pt x="1585" y="1554"/>
                  </a:lnTo>
                  <a:lnTo>
                    <a:pt x="1530" y="1585"/>
                  </a:lnTo>
                  <a:lnTo>
                    <a:pt x="1467" y="1622"/>
                  </a:lnTo>
                  <a:lnTo>
                    <a:pt x="1403" y="1658"/>
                  </a:lnTo>
                  <a:lnTo>
                    <a:pt x="1325" y="1700"/>
                  </a:lnTo>
                  <a:lnTo>
                    <a:pt x="1267" y="1734"/>
                  </a:lnTo>
                  <a:lnTo>
                    <a:pt x="1228" y="1762"/>
                  </a:lnTo>
                  <a:lnTo>
                    <a:pt x="1192" y="1791"/>
                  </a:lnTo>
                  <a:lnTo>
                    <a:pt x="1156" y="1823"/>
                  </a:lnTo>
                  <a:lnTo>
                    <a:pt x="1121" y="1860"/>
                  </a:lnTo>
                  <a:lnTo>
                    <a:pt x="1087" y="1898"/>
                  </a:lnTo>
                  <a:lnTo>
                    <a:pt x="1059" y="1938"/>
                  </a:lnTo>
                  <a:lnTo>
                    <a:pt x="1025" y="1991"/>
                  </a:lnTo>
                  <a:lnTo>
                    <a:pt x="999" y="2038"/>
                  </a:lnTo>
                  <a:lnTo>
                    <a:pt x="978" y="2082"/>
                  </a:lnTo>
                  <a:lnTo>
                    <a:pt x="959" y="2131"/>
                  </a:lnTo>
                  <a:lnTo>
                    <a:pt x="948" y="2171"/>
                  </a:lnTo>
                  <a:lnTo>
                    <a:pt x="943" y="2221"/>
                  </a:lnTo>
                  <a:lnTo>
                    <a:pt x="941" y="2267"/>
                  </a:lnTo>
                  <a:lnTo>
                    <a:pt x="947" y="2312"/>
                  </a:lnTo>
                  <a:lnTo>
                    <a:pt x="958" y="2356"/>
                  </a:lnTo>
                  <a:lnTo>
                    <a:pt x="970" y="2400"/>
                  </a:lnTo>
                  <a:lnTo>
                    <a:pt x="990" y="2445"/>
                  </a:lnTo>
                  <a:lnTo>
                    <a:pt x="1014" y="2481"/>
                  </a:lnTo>
                  <a:lnTo>
                    <a:pt x="1043" y="2520"/>
                  </a:lnTo>
                  <a:lnTo>
                    <a:pt x="1072" y="2549"/>
                  </a:lnTo>
                  <a:lnTo>
                    <a:pt x="1112" y="2581"/>
                  </a:lnTo>
                  <a:lnTo>
                    <a:pt x="1145" y="2609"/>
                  </a:lnTo>
                  <a:lnTo>
                    <a:pt x="1168" y="2629"/>
                  </a:lnTo>
                  <a:lnTo>
                    <a:pt x="1187" y="2650"/>
                  </a:lnTo>
                  <a:lnTo>
                    <a:pt x="1214" y="2681"/>
                  </a:lnTo>
                  <a:lnTo>
                    <a:pt x="1230" y="2703"/>
                  </a:lnTo>
                  <a:lnTo>
                    <a:pt x="1237" y="2696"/>
                  </a:lnTo>
                  <a:lnTo>
                    <a:pt x="1239" y="2674"/>
                  </a:lnTo>
                  <a:lnTo>
                    <a:pt x="1232" y="2652"/>
                  </a:lnTo>
                  <a:lnTo>
                    <a:pt x="1214" y="2623"/>
                  </a:lnTo>
                  <a:lnTo>
                    <a:pt x="1183" y="2583"/>
                  </a:lnTo>
                  <a:lnTo>
                    <a:pt x="1150" y="2549"/>
                  </a:lnTo>
                  <a:lnTo>
                    <a:pt x="1117" y="2514"/>
                  </a:lnTo>
                  <a:lnTo>
                    <a:pt x="1087" y="2476"/>
                  </a:lnTo>
                  <a:lnTo>
                    <a:pt x="1057" y="2427"/>
                  </a:lnTo>
                  <a:lnTo>
                    <a:pt x="1036" y="2381"/>
                  </a:lnTo>
                  <a:lnTo>
                    <a:pt x="1023" y="2340"/>
                  </a:lnTo>
                  <a:lnTo>
                    <a:pt x="1016" y="2287"/>
                  </a:lnTo>
                  <a:lnTo>
                    <a:pt x="1014" y="2240"/>
                  </a:lnTo>
                  <a:lnTo>
                    <a:pt x="1018" y="2192"/>
                  </a:lnTo>
                  <a:lnTo>
                    <a:pt x="1027" y="2154"/>
                  </a:lnTo>
                  <a:lnTo>
                    <a:pt x="1041" y="2107"/>
                  </a:lnTo>
                  <a:lnTo>
                    <a:pt x="1063" y="2067"/>
                  </a:lnTo>
                  <a:lnTo>
                    <a:pt x="1087" y="2029"/>
                  </a:lnTo>
                  <a:lnTo>
                    <a:pt x="1119" y="1987"/>
                  </a:lnTo>
                  <a:lnTo>
                    <a:pt x="1168" y="1938"/>
                  </a:lnTo>
                  <a:lnTo>
                    <a:pt x="1210" y="1900"/>
                  </a:lnTo>
                  <a:lnTo>
                    <a:pt x="1254" y="1862"/>
                  </a:lnTo>
                  <a:lnTo>
                    <a:pt x="1305" y="1827"/>
                  </a:lnTo>
                  <a:lnTo>
                    <a:pt x="1356" y="1796"/>
                  </a:lnTo>
                  <a:lnTo>
                    <a:pt x="1427" y="1760"/>
                  </a:lnTo>
                  <a:lnTo>
                    <a:pt x="1499" y="1722"/>
                  </a:lnTo>
                  <a:lnTo>
                    <a:pt x="1577" y="1683"/>
                  </a:lnTo>
                  <a:lnTo>
                    <a:pt x="1643" y="1651"/>
                  </a:lnTo>
                  <a:lnTo>
                    <a:pt x="1705" y="1618"/>
                  </a:lnTo>
                  <a:lnTo>
                    <a:pt x="1768" y="1580"/>
                  </a:lnTo>
                  <a:lnTo>
                    <a:pt x="1834" y="1542"/>
                  </a:lnTo>
                  <a:lnTo>
                    <a:pt x="1881" y="1514"/>
                  </a:lnTo>
                  <a:lnTo>
                    <a:pt x="1919" y="1493"/>
                  </a:lnTo>
                  <a:lnTo>
                    <a:pt x="1954" y="1469"/>
                  </a:lnTo>
                  <a:lnTo>
                    <a:pt x="1992" y="1440"/>
                  </a:lnTo>
                  <a:lnTo>
                    <a:pt x="2026" y="1409"/>
                  </a:lnTo>
                  <a:lnTo>
                    <a:pt x="2063" y="1371"/>
                  </a:lnTo>
                  <a:lnTo>
                    <a:pt x="2086" y="1338"/>
                  </a:lnTo>
                  <a:lnTo>
                    <a:pt x="2105" y="1302"/>
                  </a:lnTo>
                  <a:lnTo>
                    <a:pt x="2117" y="1260"/>
                  </a:lnTo>
                  <a:lnTo>
                    <a:pt x="2128" y="1207"/>
                  </a:lnTo>
                  <a:lnTo>
                    <a:pt x="2134" y="1147"/>
                  </a:lnTo>
                  <a:lnTo>
                    <a:pt x="2135" y="1104"/>
                  </a:lnTo>
                  <a:lnTo>
                    <a:pt x="2126" y="1049"/>
                  </a:lnTo>
                  <a:lnTo>
                    <a:pt x="2114" y="1007"/>
                  </a:lnTo>
                  <a:lnTo>
                    <a:pt x="2088" y="960"/>
                  </a:lnTo>
                  <a:lnTo>
                    <a:pt x="2054" y="913"/>
                  </a:lnTo>
                  <a:lnTo>
                    <a:pt x="2021" y="871"/>
                  </a:lnTo>
                  <a:lnTo>
                    <a:pt x="1976" y="833"/>
                  </a:lnTo>
                  <a:lnTo>
                    <a:pt x="1917" y="793"/>
                  </a:lnTo>
                  <a:lnTo>
                    <a:pt x="1865" y="767"/>
                  </a:lnTo>
                  <a:lnTo>
                    <a:pt x="1806" y="751"/>
                  </a:lnTo>
                  <a:lnTo>
                    <a:pt x="1717" y="733"/>
                  </a:lnTo>
                  <a:lnTo>
                    <a:pt x="1561" y="711"/>
                  </a:lnTo>
                  <a:lnTo>
                    <a:pt x="1385" y="682"/>
                  </a:lnTo>
                  <a:lnTo>
                    <a:pt x="1163" y="647"/>
                  </a:lnTo>
                  <a:lnTo>
                    <a:pt x="959" y="615"/>
                  </a:lnTo>
                  <a:lnTo>
                    <a:pt x="790" y="589"/>
                  </a:lnTo>
                  <a:lnTo>
                    <a:pt x="705" y="571"/>
                  </a:lnTo>
                  <a:lnTo>
                    <a:pt x="543" y="546"/>
                  </a:lnTo>
                  <a:lnTo>
                    <a:pt x="429" y="526"/>
                  </a:lnTo>
                  <a:lnTo>
                    <a:pt x="361" y="515"/>
                  </a:lnTo>
                  <a:lnTo>
                    <a:pt x="298" y="504"/>
                  </a:lnTo>
                  <a:lnTo>
                    <a:pt x="247" y="493"/>
                  </a:lnTo>
                  <a:lnTo>
                    <a:pt x="214" y="484"/>
                  </a:lnTo>
                  <a:lnTo>
                    <a:pt x="199" y="473"/>
                  </a:lnTo>
                  <a:lnTo>
                    <a:pt x="189" y="456"/>
                  </a:lnTo>
                  <a:lnTo>
                    <a:pt x="179" y="440"/>
                  </a:lnTo>
                  <a:lnTo>
                    <a:pt x="176" y="422"/>
                  </a:lnTo>
                  <a:lnTo>
                    <a:pt x="179" y="398"/>
                  </a:lnTo>
                  <a:lnTo>
                    <a:pt x="194" y="384"/>
                  </a:lnTo>
                  <a:lnTo>
                    <a:pt x="216" y="371"/>
                  </a:lnTo>
                  <a:lnTo>
                    <a:pt x="247" y="358"/>
                  </a:lnTo>
                  <a:lnTo>
                    <a:pt x="299" y="342"/>
                  </a:lnTo>
                  <a:lnTo>
                    <a:pt x="341" y="329"/>
                  </a:lnTo>
                  <a:lnTo>
                    <a:pt x="392" y="315"/>
                  </a:lnTo>
                  <a:lnTo>
                    <a:pt x="449" y="298"/>
                  </a:lnTo>
                  <a:lnTo>
                    <a:pt x="510" y="282"/>
                  </a:lnTo>
                  <a:lnTo>
                    <a:pt x="590" y="262"/>
                  </a:lnTo>
                  <a:lnTo>
                    <a:pt x="681" y="240"/>
                  </a:lnTo>
                  <a:lnTo>
                    <a:pt x="752" y="222"/>
                  </a:lnTo>
                  <a:lnTo>
                    <a:pt x="845" y="198"/>
                  </a:lnTo>
                  <a:lnTo>
                    <a:pt x="903" y="184"/>
                  </a:lnTo>
                  <a:lnTo>
                    <a:pt x="954" y="171"/>
                  </a:lnTo>
                  <a:lnTo>
                    <a:pt x="988" y="160"/>
                  </a:lnTo>
                  <a:lnTo>
                    <a:pt x="1027" y="147"/>
                  </a:lnTo>
                  <a:lnTo>
                    <a:pt x="1063" y="138"/>
                  </a:lnTo>
                  <a:lnTo>
                    <a:pt x="1096" y="133"/>
                  </a:lnTo>
                  <a:lnTo>
                    <a:pt x="1108" y="129"/>
                  </a:lnTo>
                  <a:lnTo>
                    <a:pt x="1119" y="122"/>
                  </a:lnTo>
                  <a:lnTo>
                    <a:pt x="1121" y="111"/>
                  </a:lnTo>
                  <a:lnTo>
                    <a:pt x="1116" y="104"/>
                  </a:lnTo>
                  <a:lnTo>
                    <a:pt x="1077" y="100"/>
                  </a:lnTo>
                  <a:lnTo>
                    <a:pt x="1121" y="97"/>
                  </a:lnTo>
                  <a:lnTo>
                    <a:pt x="1130" y="91"/>
                  </a:lnTo>
                  <a:lnTo>
                    <a:pt x="1136" y="80"/>
                  </a:lnTo>
                  <a:lnTo>
                    <a:pt x="1132" y="69"/>
                  </a:lnTo>
                  <a:lnTo>
                    <a:pt x="1130" y="67"/>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3141720" y="2192400"/>
              <a:ext cx="3392280" cy="4292640"/>
            </a:xfrm>
            <a:custGeom>
              <a:avLst/>
              <a:gdLst/>
              <a:ahLst/>
              <a:rect l="l" t="t" r="r" b="b"/>
              <a:pathLst>
                <a:path w="2137" h="2704">
                  <a:moveTo>
                    <a:pt x="1005" y="67"/>
                  </a:moveTo>
                  <a:lnTo>
                    <a:pt x="1014" y="56"/>
                  </a:lnTo>
                  <a:lnTo>
                    <a:pt x="1032" y="42"/>
                  </a:lnTo>
                  <a:lnTo>
                    <a:pt x="1058" y="26"/>
                  </a:lnTo>
                  <a:lnTo>
                    <a:pt x="1085" y="13"/>
                  </a:lnTo>
                  <a:lnTo>
                    <a:pt x="1114" y="4"/>
                  </a:lnTo>
                  <a:lnTo>
                    <a:pt x="1143" y="0"/>
                  </a:lnTo>
                  <a:lnTo>
                    <a:pt x="1174" y="2"/>
                  </a:lnTo>
                  <a:lnTo>
                    <a:pt x="1211" y="6"/>
                  </a:lnTo>
                  <a:lnTo>
                    <a:pt x="1243" y="13"/>
                  </a:lnTo>
                  <a:lnTo>
                    <a:pt x="1287" y="27"/>
                  </a:lnTo>
                  <a:lnTo>
                    <a:pt x="1332" y="46"/>
                  </a:lnTo>
                  <a:lnTo>
                    <a:pt x="1389" y="62"/>
                  </a:lnTo>
                  <a:lnTo>
                    <a:pt x="1463" y="80"/>
                  </a:lnTo>
                  <a:lnTo>
                    <a:pt x="1521" y="96"/>
                  </a:lnTo>
                  <a:lnTo>
                    <a:pt x="1585" y="113"/>
                  </a:lnTo>
                  <a:lnTo>
                    <a:pt x="1645" y="129"/>
                  </a:lnTo>
                  <a:lnTo>
                    <a:pt x="1709" y="147"/>
                  </a:lnTo>
                  <a:lnTo>
                    <a:pt x="1761" y="164"/>
                  </a:lnTo>
                  <a:lnTo>
                    <a:pt x="1823" y="185"/>
                  </a:lnTo>
                  <a:lnTo>
                    <a:pt x="1901" y="211"/>
                  </a:lnTo>
                  <a:lnTo>
                    <a:pt x="1981" y="240"/>
                  </a:lnTo>
                  <a:lnTo>
                    <a:pt x="2030" y="262"/>
                  </a:lnTo>
                  <a:lnTo>
                    <a:pt x="2080" y="293"/>
                  </a:lnTo>
                  <a:lnTo>
                    <a:pt x="2103" y="316"/>
                  </a:lnTo>
                  <a:lnTo>
                    <a:pt x="2118" y="340"/>
                  </a:lnTo>
                  <a:lnTo>
                    <a:pt x="2132" y="375"/>
                  </a:lnTo>
                  <a:lnTo>
                    <a:pt x="2136" y="405"/>
                  </a:lnTo>
                  <a:lnTo>
                    <a:pt x="2134" y="438"/>
                  </a:lnTo>
                  <a:lnTo>
                    <a:pt x="2123" y="476"/>
                  </a:lnTo>
                  <a:lnTo>
                    <a:pt x="2110" y="505"/>
                  </a:lnTo>
                  <a:lnTo>
                    <a:pt x="2087" y="540"/>
                  </a:lnTo>
                  <a:lnTo>
                    <a:pt x="2058" y="565"/>
                  </a:lnTo>
                  <a:lnTo>
                    <a:pt x="2027" y="587"/>
                  </a:lnTo>
                  <a:lnTo>
                    <a:pt x="1987" y="607"/>
                  </a:lnTo>
                  <a:lnTo>
                    <a:pt x="1945" y="624"/>
                  </a:lnTo>
                  <a:lnTo>
                    <a:pt x="1878" y="640"/>
                  </a:lnTo>
                  <a:lnTo>
                    <a:pt x="1790" y="654"/>
                  </a:lnTo>
                  <a:lnTo>
                    <a:pt x="1701" y="667"/>
                  </a:lnTo>
                  <a:lnTo>
                    <a:pt x="1578" y="685"/>
                  </a:lnTo>
                  <a:lnTo>
                    <a:pt x="1469" y="700"/>
                  </a:lnTo>
                  <a:lnTo>
                    <a:pt x="1363" y="714"/>
                  </a:lnTo>
                  <a:lnTo>
                    <a:pt x="1156" y="744"/>
                  </a:lnTo>
                  <a:lnTo>
                    <a:pt x="896" y="783"/>
                  </a:lnTo>
                  <a:lnTo>
                    <a:pt x="678" y="823"/>
                  </a:lnTo>
                  <a:lnTo>
                    <a:pt x="503" y="851"/>
                  </a:lnTo>
                  <a:lnTo>
                    <a:pt x="429" y="862"/>
                  </a:lnTo>
                  <a:lnTo>
                    <a:pt x="353" y="882"/>
                  </a:lnTo>
                  <a:lnTo>
                    <a:pt x="309" y="902"/>
                  </a:lnTo>
                  <a:lnTo>
                    <a:pt x="276" y="920"/>
                  </a:lnTo>
                  <a:lnTo>
                    <a:pt x="242" y="945"/>
                  </a:lnTo>
                  <a:lnTo>
                    <a:pt x="213" y="974"/>
                  </a:lnTo>
                  <a:lnTo>
                    <a:pt x="185" y="1016"/>
                  </a:lnTo>
                  <a:lnTo>
                    <a:pt x="165" y="1062"/>
                  </a:lnTo>
                  <a:lnTo>
                    <a:pt x="153" y="1098"/>
                  </a:lnTo>
                  <a:lnTo>
                    <a:pt x="143" y="1142"/>
                  </a:lnTo>
                  <a:lnTo>
                    <a:pt x="140" y="1191"/>
                  </a:lnTo>
                  <a:lnTo>
                    <a:pt x="149" y="1245"/>
                  </a:lnTo>
                  <a:lnTo>
                    <a:pt x="162" y="1285"/>
                  </a:lnTo>
                  <a:lnTo>
                    <a:pt x="183" y="1322"/>
                  </a:lnTo>
                  <a:lnTo>
                    <a:pt x="220" y="1360"/>
                  </a:lnTo>
                  <a:lnTo>
                    <a:pt x="271" y="1396"/>
                  </a:lnTo>
                  <a:lnTo>
                    <a:pt x="334" y="1434"/>
                  </a:lnTo>
                  <a:lnTo>
                    <a:pt x="405" y="1474"/>
                  </a:lnTo>
                  <a:lnTo>
                    <a:pt x="476" y="1512"/>
                  </a:lnTo>
                  <a:lnTo>
                    <a:pt x="551" y="1554"/>
                  </a:lnTo>
                  <a:lnTo>
                    <a:pt x="605" y="1585"/>
                  </a:lnTo>
                  <a:lnTo>
                    <a:pt x="669" y="1621"/>
                  </a:lnTo>
                  <a:lnTo>
                    <a:pt x="732" y="1658"/>
                  </a:lnTo>
                  <a:lnTo>
                    <a:pt x="811" y="1700"/>
                  </a:lnTo>
                  <a:lnTo>
                    <a:pt x="869" y="1734"/>
                  </a:lnTo>
                  <a:lnTo>
                    <a:pt x="907" y="1761"/>
                  </a:lnTo>
                  <a:lnTo>
                    <a:pt x="943" y="1791"/>
                  </a:lnTo>
                  <a:lnTo>
                    <a:pt x="980" y="1823"/>
                  </a:lnTo>
                  <a:lnTo>
                    <a:pt x="1014" y="1860"/>
                  </a:lnTo>
                  <a:lnTo>
                    <a:pt x="1049" y="1898"/>
                  </a:lnTo>
                  <a:lnTo>
                    <a:pt x="1076" y="1938"/>
                  </a:lnTo>
                  <a:lnTo>
                    <a:pt x="1111" y="1990"/>
                  </a:lnTo>
                  <a:lnTo>
                    <a:pt x="1136" y="2038"/>
                  </a:lnTo>
                  <a:lnTo>
                    <a:pt x="1158" y="2081"/>
                  </a:lnTo>
                  <a:lnTo>
                    <a:pt x="1176" y="2130"/>
                  </a:lnTo>
                  <a:lnTo>
                    <a:pt x="1187" y="2170"/>
                  </a:lnTo>
                  <a:lnTo>
                    <a:pt x="1192" y="2221"/>
                  </a:lnTo>
                  <a:lnTo>
                    <a:pt x="1194" y="2267"/>
                  </a:lnTo>
                  <a:lnTo>
                    <a:pt x="1189" y="2312"/>
                  </a:lnTo>
                  <a:lnTo>
                    <a:pt x="1178" y="2356"/>
                  </a:lnTo>
                  <a:lnTo>
                    <a:pt x="1165" y="2399"/>
                  </a:lnTo>
                  <a:lnTo>
                    <a:pt x="1145" y="2445"/>
                  </a:lnTo>
                  <a:lnTo>
                    <a:pt x="1121" y="2481"/>
                  </a:lnTo>
                  <a:lnTo>
                    <a:pt x="1092" y="2519"/>
                  </a:lnTo>
                  <a:lnTo>
                    <a:pt x="1063" y="2548"/>
                  </a:lnTo>
                  <a:lnTo>
                    <a:pt x="1023" y="2581"/>
                  </a:lnTo>
                  <a:lnTo>
                    <a:pt x="991" y="2608"/>
                  </a:lnTo>
                  <a:lnTo>
                    <a:pt x="967" y="2628"/>
                  </a:lnTo>
                  <a:lnTo>
                    <a:pt x="949" y="2650"/>
                  </a:lnTo>
                  <a:lnTo>
                    <a:pt x="922" y="2681"/>
                  </a:lnTo>
                  <a:lnTo>
                    <a:pt x="905" y="2703"/>
                  </a:lnTo>
                  <a:lnTo>
                    <a:pt x="898" y="2696"/>
                  </a:lnTo>
                  <a:lnTo>
                    <a:pt x="896" y="2674"/>
                  </a:lnTo>
                  <a:lnTo>
                    <a:pt x="903" y="2652"/>
                  </a:lnTo>
                  <a:lnTo>
                    <a:pt x="922" y="2623"/>
                  </a:lnTo>
                  <a:lnTo>
                    <a:pt x="952" y="2583"/>
                  </a:lnTo>
                  <a:lnTo>
                    <a:pt x="985" y="2548"/>
                  </a:lnTo>
                  <a:lnTo>
                    <a:pt x="1018" y="2514"/>
                  </a:lnTo>
                  <a:lnTo>
                    <a:pt x="1049" y="2476"/>
                  </a:lnTo>
                  <a:lnTo>
                    <a:pt x="1078" y="2427"/>
                  </a:lnTo>
                  <a:lnTo>
                    <a:pt x="1100" y="2381"/>
                  </a:lnTo>
                  <a:lnTo>
                    <a:pt x="1112" y="2339"/>
                  </a:lnTo>
                  <a:lnTo>
                    <a:pt x="1120" y="2287"/>
                  </a:lnTo>
                  <a:lnTo>
                    <a:pt x="1121" y="2239"/>
                  </a:lnTo>
                  <a:lnTo>
                    <a:pt x="1118" y="2192"/>
                  </a:lnTo>
                  <a:lnTo>
                    <a:pt x="1109" y="2154"/>
                  </a:lnTo>
                  <a:lnTo>
                    <a:pt x="1094" y="2107"/>
                  </a:lnTo>
                  <a:lnTo>
                    <a:pt x="1072" y="2067"/>
                  </a:lnTo>
                  <a:lnTo>
                    <a:pt x="1049" y="2029"/>
                  </a:lnTo>
                  <a:lnTo>
                    <a:pt x="1016" y="1987"/>
                  </a:lnTo>
                  <a:lnTo>
                    <a:pt x="967" y="1938"/>
                  </a:lnTo>
                  <a:lnTo>
                    <a:pt x="925" y="1900"/>
                  </a:lnTo>
                  <a:lnTo>
                    <a:pt x="882" y="1861"/>
                  </a:lnTo>
                  <a:lnTo>
                    <a:pt x="831" y="1827"/>
                  </a:lnTo>
                  <a:lnTo>
                    <a:pt x="780" y="1796"/>
                  </a:lnTo>
                  <a:lnTo>
                    <a:pt x="709" y="1760"/>
                  </a:lnTo>
                  <a:lnTo>
                    <a:pt x="636" y="1721"/>
                  </a:lnTo>
                  <a:lnTo>
                    <a:pt x="558" y="1683"/>
                  </a:lnTo>
                  <a:lnTo>
                    <a:pt x="493" y="1651"/>
                  </a:lnTo>
                  <a:lnTo>
                    <a:pt x="431" y="1618"/>
                  </a:lnTo>
                  <a:lnTo>
                    <a:pt x="367" y="1580"/>
                  </a:lnTo>
                  <a:lnTo>
                    <a:pt x="302" y="1541"/>
                  </a:lnTo>
                  <a:lnTo>
                    <a:pt x="254" y="1514"/>
                  </a:lnTo>
                  <a:lnTo>
                    <a:pt x="216" y="1492"/>
                  </a:lnTo>
                  <a:lnTo>
                    <a:pt x="182" y="1469"/>
                  </a:lnTo>
                  <a:lnTo>
                    <a:pt x="143" y="1440"/>
                  </a:lnTo>
                  <a:lnTo>
                    <a:pt x="109" y="1409"/>
                  </a:lnTo>
                  <a:lnTo>
                    <a:pt x="73" y="1371"/>
                  </a:lnTo>
                  <a:lnTo>
                    <a:pt x="49" y="1338"/>
                  </a:lnTo>
                  <a:lnTo>
                    <a:pt x="31" y="1302"/>
                  </a:lnTo>
                  <a:lnTo>
                    <a:pt x="18" y="1260"/>
                  </a:lnTo>
                  <a:lnTo>
                    <a:pt x="7" y="1207"/>
                  </a:lnTo>
                  <a:lnTo>
                    <a:pt x="2" y="1147"/>
                  </a:lnTo>
                  <a:lnTo>
                    <a:pt x="0" y="1103"/>
                  </a:lnTo>
                  <a:lnTo>
                    <a:pt x="9" y="1049"/>
                  </a:lnTo>
                  <a:lnTo>
                    <a:pt x="22" y="1007"/>
                  </a:lnTo>
                  <a:lnTo>
                    <a:pt x="47" y="960"/>
                  </a:lnTo>
                  <a:lnTo>
                    <a:pt x="82" y="913"/>
                  </a:lnTo>
                  <a:lnTo>
                    <a:pt x="114" y="871"/>
                  </a:lnTo>
                  <a:lnTo>
                    <a:pt x="160" y="833"/>
                  </a:lnTo>
                  <a:lnTo>
                    <a:pt x="218" y="793"/>
                  </a:lnTo>
                  <a:lnTo>
                    <a:pt x="271" y="767"/>
                  </a:lnTo>
                  <a:lnTo>
                    <a:pt x="329" y="751"/>
                  </a:lnTo>
                  <a:lnTo>
                    <a:pt x="418" y="733"/>
                  </a:lnTo>
                  <a:lnTo>
                    <a:pt x="574" y="711"/>
                  </a:lnTo>
                  <a:lnTo>
                    <a:pt x="751" y="682"/>
                  </a:lnTo>
                  <a:lnTo>
                    <a:pt x="972" y="647"/>
                  </a:lnTo>
                  <a:lnTo>
                    <a:pt x="1176" y="614"/>
                  </a:lnTo>
                  <a:lnTo>
                    <a:pt x="1345" y="589"/>
                  </a:lnTo>
                  <a:lnTo>
                    <a:pt x="1431" y="571"/>
                  </a:lnTo>
                  <a:lnTo>
                    <a:pt x="1592" y="545"/>
                  </a:lnTo>
                  <a:lnTo>
                    <a:pt x="1707" y="525"/>
                  </a:lnTo>
                  <a:lnTo>
                    <a:pt x="1774" y="514"/>
                  </a:lnTo>
                  <a:lnTo>
                    <a:pt x="1838" y="504"/>
                  </a:lnTo>
                  <a:lnTo>
                    <a:pt x="1889" y="493"/>
                  </a:lnTo>
                  <a:lnTo>
                    <a:pt x="1921" y="484"/>
                  </a:lnTo>
                  <a:lnTo>
                    <a:pt x="1936" y="473"/>
                  </a:lnTo>
                  <a:lnTo>
                    <a:pt x="1947" y="456"/>
                  </a:lnTo>
                  <a:lnTo>
                    <a:pt x="1956" y="440"/>
                  </a:lnTo>
                  <a:lnTo>
                    <a:pt x="1960" y="422"/>
                  </a:lnTo>
                  <a:lnTo>
                    <a:pt x="1956" y="398"/>
                  </a:lnTo>
                  <a:lnTo>
                    <a:pt x="1941" y="384"/>
                  </a:lnTo>
                  <a:lnTo>
                    <a:pt x="1920" y="371"/>
                  </a:lnTo>
                  <a:lnTo>
                    <a:pt x="1889" y="358"/>
                  </a:lnTo>
                  <a:lnTo>
                    <a:pt x="1836" y="342"/>
                  </a:lnTo>
                  <a:lnTo>
                    <a:pt x="1794" y="329"/>
                  </a:lnTo>
                  <a:lnTo>
                    <a:pt x="1743" y="315"/>
                  </a:lnTo>
                  <a:lnTo>
                    <a:pt x="1687" y="298"/>
                  </a:lnTo>
                  <a:lnTo>
                    <a:pt x="1625" y="282"/>
                  </a:lnTo>
                  <a:lnTo>
                    <a:pt x="1545" y="262"/>
                  </a:lnTo>
                  <a:lnTo>
                    <a:pt x="1454" y="240"/>
                  </a:lnTo>
                  <a:lnTo>
                    <a:pt x="1383" y="222"/>
                  </a:lnTo>
                  <a:lnTo>
                    <a:pt x="1291" y="198"/>
                  </a:lnTo>
                  <a:lnTo>
                    <a:pt x="1232" y="184"/>
                  </a:lnTo>
                  <a:lnTo>
                    <a:pt x="1181" y="171"/>
                  </a:lnTo>
                  <a:lnTo>
                    <a:pt x="1147" y="160"/>
                  </a:lnTo>
                  <a:lnTo>
                    <a:pt x="1109" y="147"/>
                  </a:lnTo>
                  <a:lnTo>
                    <a:pt x="1072" y="138"/>
                  </a:lnTo>
                  <a:lnTo>
                    <a:pt x="1040" y="133"/>
                  </a:lnTo>
                  <a:lnTo>
                    <a:pt x="1027" y="129"/>
                  </a:lnTo>
                  <a:lnTo>
                    <a:pt x="1016" y="122"/>
                  </a:lnTo>
                  <a:lnTo>
                    <a:pt x="1014" y="111"/>
                  </a:lnTo>
                  <a:lnTo>
                    <a:pt x="1020" y="104"/>
                  </a:lnTo>
                  <a:lnTo>
                    <a:pt x="1058" y="100"/>
                  </a:lnTo>
                  <a:lnTo>
                    <a:pt x="1014" y="96"/>
                  </a:lnTo>
                  <a:lnTo>
                    <a:pt x="1005" y="91"/>
                  </a:lnTo>
                  <a:lnTo>
                    <a:pt x="1000" y="80"/>
                  </a:lnTo>
                  <a:lnTo>
                    <a:pt x="1003" y="69"/>
                  </a:lnTo>
                  <a:lnTo>
                    <a:pt x="1005" y="67"/>
                  </a:lnTo>
                </a:path>
              </a:pathLst>
            </a:custGeom>
            <a:solidFill>
              <a:srgbClr val="5000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 name="PlaceHolder 1"/>
          <p:cNvSpPr>
            <a:spLocks noGrp="1"/>
          </p:cNvSpPr>
          <p:nvPr>
            <p:ph type="title"/>
          </p:nvPr>
        </p:nvSpPr>
        <p:spPr>
          <a:xfrm>
            <a:off x="760320" y="2133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ealth Effects of Lead</a:t>
            </a:r>
            <a:endParaRPr b="0" i="1" lang="en-US" sz="4400" spc="-1" strike="noStrike">
              <a:solidFill>
                <a:srgbClr val="00cccc"/>
              </a:solidFill>
              <a:latin typeface="Times New Roman"/>
            </a:endParaRPr>
          </a:p>
        </p:txBody>
      </p:sp>
      <p:sp>
        <p:nvSpPr>
          <p:cNvPr id="66" name="PlaceHolder 2"/>
          <p:cNvSpPr>
            <a:spLocks noGrp="1"/>
          </p:cNvSpPr>
          <p:nvPr>
            <p:ph type="subTitle"/>
          </p:nvPr>
        </p:nvSpPr>
        <p:spPr>
          <a:xfrm>
            <a:off x="1371600" y="41148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2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 Abatemen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Workers Course</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145" name="PlaceHolder 1"/>
          <p:cNvSpPr>
            <a:spLocks noGrp="1"/>
          </p:cNvSpPr>
          <p:nvPr>
            <p:ph type="title"/>
          </p:nvPr>
        </p:nvSpPr>
        <p:spPr>
          <a:xfrm>
            <a:off x="914040" y="475920"/>
            <a:ext cx="807732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46"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all doses of lead are dangerou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dlers (1-3 years) especially at risk because they crawl on floors and put things in mouth</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affect ability to lear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muscle and bone development</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rdination problem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ch and language problems</a:t>
            </a:r>
            <a:endParaRPr b="0" lang="en-US" sz="2800" spc="-1" strike="noStrike">
              <a:solidFill>
                <a:srgbClr val="ffffff"/>
              </a:solidFill>
              <a:latin typeface="Times New Roman"/>
            </a:endParaRPr>
          </a:p>
        </p:txBody>
      </p:sp>
      <p:graphicFrame>
        <p:nvGraphicFramePr>
          <p:cNvPr id="147" name=""/>
          <p:cNvGraphicFramePr/>
          <p:nvPr/>
        </p:nvGraphicFramePr>
        <p:xfrm>
          <a:off x="7072200" y="4114800"/>
          <a:ext cx="1540080" cy="2044800"/>
        </p:xfrm>
        <a:graphic>
          <a:graphicData uri="http://schemas.openxmlformats.org/presentationml/2006/ole">
            <p:oleObj r:id="rId1" spid="">
              <p:embed/>
              <p:pic>
                <p:nvPicPr>
                  <p:cNvPr id="148" name="" descr=""/>
                  <p:cNvPicPr/>
                  <p:nvPr/>
                </p:nvPicPr>
                <p:blipFill>
                  <a:blip r:embed="rId2"/>
                  <a:stretch/>
                </p:blipFill>
                <p:spPr>
                  <a:xfrm>
                    <a:off x="7072200" y="4114800"/>
                    <a:ext cx="1540080" cy="20448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Signs of Lead Poisoning</a:t>
            </a:r>
            <a:endParaRPr b="0" i="1" lang="en-US" sz="4400" spc="-1" strike="noStrike">
              <a:solidFill>
                <a:srgbClr val="00cccc"/>
              </a:solidFill>
              <a:latin typeface="Times New Roman"/>
            </a:endParaRPr>
          </a:p>
        </p:txBody>
      </p:sp>
      <p:sp>
        <p:nvSpPr>
          <p:cNvPr id="155" name="PlaceHolder 2"/>
          <p:cNvSpPr>
            <a:spLocks noGrp="1"/>
          </p:cNvSpPr>
          <p:nvPr>
            <p:ph/>
          </p:nvPr>
        </p:nvSpPr>
        <p:spPr>
          <a:xfrm>
            <a:off x="1080720" y="1949400"/>
            <a:ext cx="380988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red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eep problem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zzi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itability</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rvous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ache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iculty concentrating</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ressio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getful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ity (childre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ness</a:t>
            </a:r>
            <a:endParaRPr b="0" lang="en-US" sz="2400" spc="-1" strike="noStrike">
              <a:solidFill>
                <a:srgbClr val="ffffff"/>
              </a:solidFill>
              <a:latin typeface="Times New Roman"/>
            </a:endParaRPr>
          </a:p>
        </p:txBody>
      </p:sp>
      <p:sp>
        <p:nvSpPr>
          <p:cNvPr id="156" name="PlaceHolder 3"/>
          <p:cNvSpPr>
            <a:spLocks noGrp="1"/>
          </p:cNvSpPr>
          <p:nvPr>
            <p:ph/>
          </p:nvPr>
        </p:nvSpPr>
        <p:spPr>
          <a:xfrm>
            <a:off x="4968720" y="1963800"/>
            <a:ext cx="381024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st or foot drop</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ak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umsines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 and muscle pai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miting</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s of Appetite</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mach aches</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ipation</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 taste in mouth</a:t>
            </a:r>
            <a:endParaRPr b="0" lang="en-US" sz="2400" spc="-1" strike="noStrike">
              <a:solidFill>
                <a:srgbClr val="ffffff"/>
              </a:solidFill>
              <a:latin typeface="Times New Roman"/>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s having healthy children</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1174320" y="475920"/>
            <a:ext cx="769644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ealth Effects of Lead Poisoning</a:t>
            </a:r>
            <a:endParaRPr b="0" i="1" lang="en-US" sz="4400" spc="-1" strike="noStrike">
              <a:solidFill>
                <a:srgbClr val="00cccc"/>
              </a:solidFill>
              <a:latin typeface="Times New Roman"/>
            </a:endParaRPr>
          </a:p>
        </p:txBody>
      </p:sp>
      <p:sp>
        <p:nvSpPr>
          <p:cNvPr id="163" name="PlaceHolder 2"/>
          <p:cNvSpPr>
            <a:spLocks noGrp="1"/>
          </p:cNvSpPr>
          <p:nvPr>
            <p:ph/>
          </p:nvPr>
        </p:nvSpPr>
        <p:spPr>
          <a:xfrm>
            <a:off x="1157040" y="2284200"/>
            <a:ext cx="3809880" cy="304956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emia</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blood pressure</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to blood cell formation</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ney disease</a:t>
            </a:r>
            <a:endParaRPr b="0" lang="en-US" sz="2800" spc="-1" strike="noStrike">
              <a:solidFill>
                <a:srgbClr val="ffffff"/>
              </a:solidFill>
              <a:latin typeface="Times New Roman"/>
            </a:endParaRPr>
          </a:p>
        </p:txBody>
      </p:sp>
      <p:sp>
        <p:nvSpPr>
          <p:cNvPr id="164" name="PlaceHolder 3"/>
          <p:cNvSpPr>
            <a:spLocks noGrp="1"/>
          </p:cNvSpPr>
          <p:nvPr>
            <p:ph/>
          </p:nvPr>
        </p:nvSpPr>
        <p:spPr>
          <a:xfrm>
            <a:off x="4892400" y="2346120"/>
            <a:ext cx="3809880" cy="298764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damage</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rve damage</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fertility</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mature births</a:t>
            </a:r>
            <a:endParaRPr b="0" lang="en-US" sz="28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carriages</a:t>
            </a:r>
            <a:endParaRPr b="0" lang="en-US" sz="2800" spc="-1" strike="noStrike">
              <a:solidFill>
                <a:srgbClr val="ffffff"/>
              </a:solidFill>
              <a:latin typeface="Times New Roman"/>
            </a:endParaRPr>
          </a:p>
        </p:txBody>
      </p:sp>
      <p:sp>
        <p:nvSpPr>
          <p:cNvPr id="165" name=""/>
          <p:cNvSpPr/>
          <p:nvPr/>
        </p:nvSpPr>
        <p:spPr>
          <a:xfrm>
            <a:off x="687600" y="5334120"/>
            <a:ext cx="77497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ome health effects of lead poisoning are reversible (suc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s kidney damage, others are permanent (such as wrist drop).</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esting for Lead in the Body</a:t>
            </a:r>
            <a:endParaRPr b="0" i="1" lang="en-US" sz="4400" spc="-1" strike="noStrike">
              <a:solidFill>
                <a:srgbClr val="00cccc"/>
              </a:solidFill>
              <a:latin typeface="Times New Roman"/>
            </a:endParaRPr>
          </a:p>
        </p:txBody>
      </p:sp>
      <p:sp>
        <p:nvSpPr>
          <p:cNvPr id="172" name="PlaceHolder 2"/>
          <p:cNvSpPr>
            <a:spLocks noGrp="1"/>
          </p:cNvSpPr>
          <p:nvPr>
            <p:ph/>
          </p:nvPr>
        </p:nvSpPr>
        <p:spPr>
          <a:xfrm>
            <a:off x="611280" y="2055960"/>
            <a:ext cx="807696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lead level - amount of lead in the blood</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lead level (BLL) test</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inc protporphyrin (ZPP) test</a:t>
            </a:r>
            <a:endParaRPr b="0" lang="en-US" sz="28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L test shows exposure within last 6-8 weeks (</a:t>
            </a:r>
            <a:r>
              <a:rPr b="0" lang="en-US" sz="3200" spc="-1" strike="noStrike">
                <a:solidFill>
                  <a:srgbClr val="ffffff"/>
                </a:solidFill>
                <a:latin typeface="Symbol"/>
                <a:ea typeface="Symbol"/>
              </a:rPr>
              <a:t></a:t>
            </a:r>
            <a:r>
              <a:rPr b="0" lang="en-US" sz="3200" spc="-1" strike="noStrike">
                <a:solidFill>
                  <a:srgbClr val="ffffff"/>
                </a:solidFill>
                <a:latin typeface="Times New Roman"/>
              </a:rPr>
              <a:t>g/dL)</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PP is produced when lead blocks formation of blood (not as accurate as BLL test)</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178"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Understanding Units</a:t>
            </a:r>
            <a:endParaRPr b="0" i="1" lang="en-US" sz="4400" spc="-1" strike="noStrike">
              <a:solidFill>
                <a:srgbClr val="00cccc"/>
              </a:solidFill>
              <a:latin typeface="Times New Roman"/>
            </a:endParaRPr>
          </a:p>
        </p:txBody>
      </p:sp>
      <p:sp>
        <p:nvSpPr>
          <p:cNvPr id="179"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i="1" lang="en-US" sz="2800" spc="-1" strike="noStrike">
                <a:solidFill>
                  <a:srgbClr val="ffffff"/>
                </a:solidFill>
                <a:latin typeface="Times New Roman"/>
              </a:rPr>
              <a:t>microgram</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g) is a measure of weight.</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0 </a:t>
            </a:r>
            <a:r>
              <a:rPr b="0" lang="en-US" sz="2400" spc="-1" strike="noStrike">
                <a:solidFill>
                  <a:srgbClr val="ffffff"/>
                </a:solidFill>
                <a:latin typeface="Symbol"/>
                <a:ea typeface="Symbol"/>
              </a:rPr>
              <a:t></a:t>
            </a:r>
            <a:r>
              <a:rPr b="0" lang="en-US" sz="2400" spc="-1" strike="noStrike">
                <a:solidFill>
                  <a:srgbClr val="ffffff"/>
                </a:solidFill>
                <a:latin typeface="Times New Roman"/>
              </a:rPr>
              <a:t>g = 1 gram (g)</a:t>
            </a:r>
            <a:endParaRPr b="0" lang="en-US" sz="24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enny weighs about 2 grams</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 penny is cut into 2 million pieces, one piece would weigh 1 </a:t>
            </a:r>
            <a:r>
              <a:rPr b="0" lang="en-US" sz="2400" spc="-1" strike="noStrike">
                <a:solidFill>
                  <a:srgbClr val="ffffff"/>
                </a:solidFill>
                <a:latin typeface="Symbol"/>
                <a:ea typeface="Symbol"/>
              </a:rPr>
              <a:t></a:t>
            </a:r>
            <a:r>
              <a:rPr b="0" lang="en-US" sz="2400" spc="-1" strike="noStrike">
                <a:solidFill>
                  <a:srgbClr val="ffffff"/>
                </a:solidFill>
                <a:latin typeface="Times New Roman"/>
              </a:rPr>
              <a:t>g</a:t>
            </a:r>
            <a:endParaRPr b="0" lang="en-US" sz="2400" spc="-1" strike="noStrike">
              <a:solidFill>
                <a:srgbClr val="ffffff"/>
              </a:solidFill>
              <a:latin typeface="Times New Roman"/>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i="1" lang="en-US" sz="2800" spc="-1" strike="noStrike">
                <a:solidFill>
                  <a:srgbClr val="ffffff"/>
                </a:solidFill>
                <a:latin typeface="Times New Roman"/>
              </a:rPr>
              <a:t>deciliter</a:t>
            </a:r>
            <a:r>
              <a:rPr b="0" lang="en-US" sz="2800" spc="-1" strike="noStrike">
                <a:solidFill>
                  <a:srgbClr val="ffffff"/>
                </a:solidFill>
                <a:latin typeface="Times New Roman"/>
              </a:rPr>
              <a:t> (dL) is a measure of volume.</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L = about 1/2 cup</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erson weighing 165 pounds has about</a:t>
            </a:r>
            <a:br>
              <a:rPr sz="2400"/>
            </a:br>
            <a:r>
              <a:rPr b="0" lang="en-US" sz="2400" spc="-1" strike="noStrike">
                <a:solidFill>
                  <a:srgbClr val="ffffff"/>
                </a:solidFill>
                <a:latin typeface="Times New Roman"/>
              </a:rPr>
              <a:t>60 deciliters of blood</a:t>
            </a:r>
            <a:endParaRPr b="0" lang="en-US" sz="2400" spc="-1" strike="noStrike">
              <a:solidFill>
                <a:srgbClr val="ffffff"/>
              </a:solidFill>
              <a:latin typeface="Times New Roman"/>
            </a:endParaRPr>
          </a:p>
        </p:txBody>
      </p:sp>
      <p:graphicFrame>
        <p:nvGraphicFramePr>
          <p:cNvPr id="180" name=""/>
          <p:cNvGraphicFramePr/>
          <p:nvPr/>
        </p:nvGraphicFramePr>
        <p:xfrm>
          <a:off x="6610320" y="2693880"/>
          <a:ext cx="825480" cy="822600"/>
        </p:xfrm>
        <a:graphic>
          <a:graphicData uri="http://schemas.openxmlformats.org/presentationml/2006/ole">
            <p:oleObj r:id="rId1" spid="">
              <p:embed/>
              <p:pic>
                <p:nvPicPr>
                  <p:cNvPr id="181" name="" descr=""/>
                  <p:cNvPicPr/>
                  <p:nvPr/>
                </p:nvPicPr>
                <p:blipFill>
                  <a:blip r:embed="rId2"/>
                  <a:stretch/>
                </p:blipFill>
                <p:spPr>
                  <a:xfrm>
                    <a:off x="6610320" y="2693880"/>
                    <a:ext cx="825480" cy="822600"/>
                  </a:xfrm>
                  <a:prstGeom prst="rect">
                    <a:avLst/>
                  </a:prstGeom>
                  <a:ln w="0">
                    <a:noFill/>
                  </a:ln>
                </p:spPr>
              </p:pic>
            </p:oleObj>
          </a:graphicData>
        </a:graphic>
      </p:graphicFrame>
      <p:grpSp>
        <p:nvGrpSpPr>
          <p:cNvPr id="182" name=""/>
          <p:cNvGrpSpPr/>
          <p:nvPr/>
        </p:nvGrpSpPr>
        <p:grpSpPr>
          <a:xfrm>
            <a:off x="7467480" y="4038480"/>
            <a:ext cx="1359000" cy="2212920"/>
            <a:chOff x="7467480" y="4038480"/>
            <a:chExt cx="1359000" cy="2212920"/>
          </a:xfrm>
        </p:grpSpPr>
        <p:graphicFrame>
          <p:nvGraphicFramePr>
            <p:cNvPr id="183" name=""/>
            <p:cNvGraphicFramePr/>
            <p:nvPr/>
          </p:nvGraphicFramePr>
          <p:xfrm>
            <a:off x="7872480" y="4057560"/>
            <a:ext cx="954000" cy="2193840"/>
          </p:xfrm>
          <a:graphic>
            <a:graphicData uri="http://schemas.openxmlformats.org/presentationml/2006/ole">
              <p:oleObj r:id="rId3" spid="">
                <p:embed/>
                <p:pic>
                  <p:nvPicPr>
                    <p:cNvPr id="184" name="" descr=""/>
                    <p:cNvPicPr/>
                    <p:nvPr/>
                  </p:nvPicPr>
                  <p:blipFill>
                    <a:blip r:embed="rId4"/>
                    <a:stretch/>
                  </p:blipFill>
                  <p:spPr>
                    <a:xfrm>
                      <a:off x="7872480" y="4057560"/>
                      <a:ext cx="954000" cy="2193840"/>
                    </a:xfrm>
                    <a:prstGeom prst="rect">
                      <a:avLst/>
                    </a:prstGeom>
                    <a:ln w="0">
                      <a:noFill/>
                    </a:ln>
                  </p:spPr>
                </p:pic>
              </p:oleObj>
            </a:graphicData>
          </a:graphic>
        </p:graphicFrame>
        <p:sp>
          <p:nvSpPr>
            <p:cNvPr id="185" name=""/>
            <p:cNvSpPr/>
            <p:nvPr/>
          </p:nvSpPr>
          <p:spPr>
            <a:xfrm>
              <a:off x="7467480" y="4038480"/>
              <a:ext cx="559080" cy="190440"/>
            </a:xfrm>
            <a:prstGeom prst="rightArrow">
              <a:avLst>
                <a:gd name="adj1" fmla="val 75000"/>
                <a:gd name="adj2" fmla="val 146908"/>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PlaceHolder 1"/>
          <p:cNvSpPr>
            <a:spLocks noGrp="1"/>
          </p:cNvSpPr>
          <p:nvPr>
            <p:ph/>
          </p:nvPr>
        </p:nvSpPr>
        <p:spPr>
          <a:xfrm>
            <a:off x="3687480" y="2165400"/>
            <a:ext cx="5105160" cy="4114800"/>
          </a:xfrm>
          <a:prstGeom prst="rect">
            <a:avLst/>
          </a:prstGeom>
          <a:noFill/>
          <a:ln w="0">
            <a:noFill/>
          </a:ln>
        </p:spPr>
        <p:txBody>
          <a:bodyPr lIns="90360" rIns="90360" tIns="44280" bIns="44280" anchor="t">
            <a:normAutofit fontScale="95000"/>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 in blood pressure; harmful effects on fetus; joint and muscle aches</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oductive problems</a:t>
            </a:r>
            <a:endParaRPr b="0" lang="en-US" sz="2400" spc="-1" strike="noStrike">
              <a:solidFill>
                <a:srgbClr val="ffffff"/>
              </a:solidFill>
              <a:latin typeface="Times New Roman"/>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dney damage; damage to blood formation</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emia; nerve damage; constipation; stomach pains; irritability and fatigue; memory and concentration problems; clumsiness; sleep problems</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ue line on gums; uncontrollable shaking of hands; wrist and foot drop; hallucinations; brain damage; coma; death</a:t>
            </a:r>
            <a:endParaRPr b="0" lang="en-US" sz="2400" spc="-1" strike="noStrike">
              <a:solidFill>
                <a:srgbClr val="ffffff"/>
              </a:solidFill>
              <a:latin typeface="Times New Roman"/>
            </a:endParaRPr>
          </a:p>
        </p:txBody>
      </p:sp>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192" name="PlaceHolder 2"/>
          <p:cNvSpPr>
            <a:spLocks noGrp="1"/>
          </p:cNvSpPr>
          <p:nvPr>
            <p:ph type="title"/>
          </p:nvPr>
        </p:nvSpPr>
        <p:spPr>
          <a:xfrm>
            <a:off x="990360" y="171360"/>
            <a:ext cx="7086600" cy="1276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ult Reactions to Lead</a:t>
            </a:r>
            <a:endParaRPr b="0" i="1" lang="en-US" sz="4400" spc="-1" strike="noStrike">
              <a:solidFill>
                <a:srgbClr val="00cccc"/>
              </a:solidFill>
              <a:latin typeface="Times New Roman"/>
            </a:endParaRPr>
          </a:p>
        </p:txBody>
      </p:sp>
      <p:sp>
        <p:nvSpPr>
          <p:cNvPr id="193" name="PlaceHolder 3"/>
          <p:cNvSpPr>
            <a:spLocks noGrp="1"/>
          </p:cNvSpPr>
          <p:nvPr>
            <p:ph/>
          </p:nvPr>
        </p:nvSpPr>
        <p:spPr>
          <a:xfrm>
            <a:off x="231480" y="2122560"/>
            <a:ext cx="3103560" cy="4114800"/>
          </a:xfrm>
          <a:prstGeom prst="rect">
            <a:avLst/>
          </a:prstGeom>
          <a:noFill/>
          <a:ln w="0">
            <a:noFill/>
          </a:ln>
        </p:spPr>
        <p:txBody>
          <a:bodyPr lIns="90360" rIns="90360" tIns="44280" bIns="44280" anchor="t">
            <a:normAutofit/>
          </a:bodyPr>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over</a:t>
            </a:r>
            <a:endParaRPr b="0" lang="en-US" sz="2800" spc="-1" strike="noStrike">
              <a:solidFill>
                <a:srgbClr val="ffffff"/>
              </a:solidFill>
              <a:latin typeface="Times New Roman"/>
            </a:endParaRPr>
          </a:p>
        </p:txBody>
      </p:sp>
      <p:grpSp>
        <p:nvGrpSpPr>
          <p:cNvPr id="194" name=""/>
          <p:cNvGrpSpPr/>
          <p:nvPr/>
        </p:nvGrpSpPr>
        <p:grpSpPr>
          <a:xfrm>
            <a:off x="2697120" y="2373480"/>
            <a:ext cx="973080" cy="3065400"/>
            <a:chOff x="2697120" y="2373480"/>
            <a:chExt cx="973080" cy="3065400"/>
          </a:xfrm>
        </p:grpSpPr>
        <p:sp>
          <p:nvSpPr>
            <p:cNvPr id="195" name=""/>
            <p:cNvSpPr/>
            <p:nvPr/>
          </p:nvSpPr>
          <p:spPr>
            <a:xfrm>
              <a:off x="2708280" y="237348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717640" y="300996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2716200" y="353052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717640" y="417996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697120" y="543888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0" name=""/>
          <p:cNvSpPr/>
          <p:nvPr/>
        </p:nvSpPr>
        <p:spPr>
          <a:xfrm>
            <a:off x="935280" y="1238400"/>
            <a:ext cx="1629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o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ad Level</a:t>
            </a:r>
            <a:endParaRPr b="0" lang="en-US" sz="2400" spc="-1" strike="noStrike">
              <a:solidFill>
                <a:srgbClr val="ffffff"/>
              </a:solidFill>
              <a:latin typeface="Times New Roman"/>
            </a:endParaRPr>
          </a:p>
        </p:txBody>
      </p:sp>
      <p:sp>
        <p:nvSpPr>
          <p:cNvPr id="201" name=""/>
          <p:cNvSpPr/>
          <p:nvPr/>
        </p:nvSpPr>
        <p:spPr>
          <a:xfrm>
            <a:off x="4429800" y="1500120"/>
            <a:ext cx="3166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ible Health Effects</a:t>
            </a:r>
            <a:endParaRPr b="0" lang="en-US" sz="2400" spc="-1" strike="noStrike">
              <a:solidFill>
                <a:srgbClr val="ffffff"/>
              </a:solidFill>
              <a:latin typeface="Times New Roman"/>
            </a:endParaRPr>
          </a:p>
        </p:txBody>
      </p:sp>
      <p:sp>
        <p:nvSpPr>
          <p:cNvPr id="202" name=""/>
          <p:cNvSpPr/>
          <p:nvPr/>
        </p:nvSpPr>
        <p:spPr>
          <a:xfrm>
            <a:off x="973080" y="2025720"/>
            <a:ext cx="758520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208" name=""/>
          <p:cNvSpPr/>
          <p:nvPr/>
        </p:nvSpPr>
        <p:spPr>
          <a:xfrm>
            <a:off x="93600" y="1957320"/>
            <a:ext cx="263052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10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10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10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a:t>
            </a:r>
            <a:r>
              <a:rPr b="0" lang="en-US" sz="2800" spc="-1" strike="noStrike">
                <a:solidFill>
                  <a:srgbClr val="ffffff"/>
                </a:solidFill>
                <a:latin typeface="Symbol"/>
                <a:ea typeface="Symbol"/>
              </a:rPr>
              <a:t></a:t>
            </a:r>
            <a:r>
              <a:rPr b="0" lang="en-US" sz="2800" spc="-1" strike="noStrike">
                <a:solidFill>
                  <a:srgbClr val="ffffff"/>
                </a:solidFill>
                <a:latin typeface="Times New Roman"/>
              </a:rPr>
              <a:t>g/dL</a:t>
            </a:r>
            <a:endParaRPr b="0" lang="en-US" sz="2800" spc="-1" strike="noStrike">
              <a:solidFill>
                <a:srgbClr val="ffffff"/>
              </a:solidFill>
              <a:latin typeface="Times New Roman"/>
            </a:endParaRPr>
          </a:p>
          <a:p>
            <a:pPr marL="343080" indent="-34308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over</a:t>
            </a:r>
            <a:endParaRPr b="0" lang="en-US" sz="2800" spc="-1" strike="noStrike">
              <a:solidFill>
                <a:srgbClr val="ffffff"/>
              </a:solidFill>
              <a:latin typeface="Times New Roman"/>
            </a:endParaRPr>
          </a:p>
        </p:txBody>
      </p:sp>
      <p:grpSp>
        <p:nvGrpSpPr>
          <p:cNvPr id="209" name=""/>
          <p:cNvGrpSpPr/>
          <p:nvPr/>
        </p:nvGrpSpPr>
        <p:grpSpPr>
          <a:xfrm>
            <a:off x="2282760" y="2224080"/>
            <a:ext cx="978120" cy="3838680"/>
            <a:chOff x="2282760" y="2224080"/>
            <a:chExt cx="978120" cy="3838680"/>
          </a:xfrm>
        </p:grpSpPr>
        <p:sp>
          <p:nvSpPr>
            <p:cNvPr id="210" name=""/>
            <p:cNvSpPr/>
            <p:nvPr/>
          </p:nvSpPr>
          <p:spPr>
            <a:xfrm>
              <a:off x="2282760" y="222408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292480" y="2949480"/>
              <a:ext cx="95220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308320" y="535932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292480" y="4086360"/>
              <a:ext cx="95220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289240" y="6062760"/>
              <a:ext cx="952560" cy="0"/>
            </a:xfrm>
            <a:prstGeom prst="line">
              <a:avLst/>
            </a:prstGeom>
            <a:ln w="12600">
              <a:solidFill>
                <a:srgbClr val="00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5" name=""/>
          <p:cNvSpPr/>
          <p:nvPr/>
        </p:nvSpPr>
        <p:spPr>
          <a:xfrm>
            <a:off x="3259080" y="2052720"/>
            <a:ext cx="5612040" cy="4114800"/>
          </a:xfrm>
          <a:prstGeom prst="rect">
            <a:avLst/>
          </a:prstGeom>
          <a:noFill/>
          <a:ln w="0">
            <a:noFill/>
          </a:ln>
        </p:spPr>
        <p:style>
          <a:lnRef idx="0"/>
          <a:fillRef idx="0"/>
          <a:effectRef idx="0"/>
          <a:fontRef idx="minor"/>
        </p:style>
        <p:txBody>
          <a:bodyPr lIns="90360" rIns="90360" tIns="44280" bIns="4428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ght loss in IQ; hearing and growth problem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rate loss in IQ; hyperactivity; poor attention span; difficulty learning; language and speech problems; slower reflexe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or bone and muscle development; clumsiness; lack of coordination; early anemia; decreased red blood cells; tiredness; drowsines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mach aches and cramps; anemia; destruction of red blood cells; brain damage</a:t>
            </a:r>
            <a:endParaRPr b="0" lang="en-US" sz="2400" spc="-1" strike="noStrike">
              <a:solidFill>
                <a:srgbClr val="ffffff"/>
              </a:solidFill>
              <a:latin typeface="Times New Roman"/>
            </a:endParaRPr>
          </a:p>
          <a:p>
            <a:pP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lling of brain; seizures; coma; death</a:t>
            </a:r>
            <a:endParaRPr b="0" lang="en-US" sz="2400" spc="-1" strike="noStrike">
              <a:solidFill>
                <a:srgbClr val="ffffff"/>
              </a:solidFill>
              <a:latin typeface="Times New Roman"/>
            </a:endParaRPr>
          </a:p>
        </p:txBody>
      </p:sp>
      <p:sp>
        <p:nvSpPr>
          <p:cNvPr id="216" name=""/>
          <p:cNvSpPr/>
          <p:nvPr/>
        </p:nvSpPr>
        <p:spPr>
          <a:xfrm>
            <a:off x="990720" y="171360"/>
            <a:ext cx="7086600" cy="1276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Child Reactions to Lead</a:t>
            </a:r>
            <a:endParaRPr b="0" lang="en-US" sz="4400" spc="-1" strike="noStrike">
              <a:solidFill>
                <a:srgbClr val="ffffff"/>
              </a:solidFill>
              <a:latin typeface="Times New Roman"/>
            </a:endParaRPr>
          </a:p>
        </p:txBody>
      </p:sp>
      <p:sp>
        <p:nvSpPr>
          <p:cNvPr id="217" name=""/>
          <p:cNvSpPr/>
          <p:nvPr/>
        </p:nvSpPr>
        <p:spPr>
          <a:xfrm>
            <a:off x="886320" y="1117440"/>
            <a:ext cx="1629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o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ad Level</a:t>
            </a:r>
            <a:endParaRPr b="0" lang="en-US" sz="2400" spc="-1" strike="noStrike">
              <a:solidFill>
                <a:srgbClr val="ffffff"/>
              </a:solidFill>
              <a:latin typeface="Times New Roman"/>
            </a:endParaRPr>
          </a:p>
        </p:txBody>
      </p:sp>
      <p:sp>
        <p:nvSpPr>
          <p:cNvPr id="218" name=""/>
          <p:cNvSpPr/>
          <p:nvPr/>
        </p:nvSpPr>
        <p:spPr>
          <a:xfrm>
            <a:off x="4261680" y="1362240"/>
            <a:ext cx="31669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ible Health Effects</a:t>
            </a:r>
            <a:endParaRPr b="0" lang="en-US" sz="2400" spc="-1" strike="noStrike">
              <a:solidFill>
                <a:srgbClr val="ffffff"/>
              </a:solidFill>
              <a:latin typeface="Times New Roman"/>
            </a:endParaRPr>
          </a:p>
        </p:txBody>
      </p:sp>
      <p:sp>
        <p:nvSpPr>
          <p:cNvPr id="219" name=""/>
          <p:cNvSpPr/>
          <p:nvPr/>
        </p:nvSpPr>
        <p:spPr>
          <a:xfrm>
            <a:off x="896760" y="1889280"/>
            <a:ext cx="761544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Preventing Lead Poisoning</a:t>
            </a:r>
            <a:endParaRPr b="0" i="1" lang="en-US" sz="4400" spc="-1" strike="noStrike">
              <a:solidFill>
                <a:srgbClr val="00cccc"/>
              </a:solidFill>
              <a:latin typeface="Times New Roman"/>
            </a:endParaRPr>
          </a:p>
        </p:txBody>
      </p:sp>
      <p:sp>
        <p:nvSpPr>
          <p:cNvPr id="226"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batement—</a:t>
            </a:r>
            <a:r>
              <a:rPr b="0" lang="en-US" sz="3200" spc="-1" strike="noStrike">
                <a:solidFill>
                  <a:srgbClr val="ffffff"/>
                </a:solidFill>
                <a:latin typeface="Times New Roman"/>
              </a:rPr>
              <a:t>remove the lead hazard permanently</a:t>
            </a:r>
            <a:endParaRPr b="0" lang="en-US" sz="3200" spc="-1" strike="noStrike">
              <a:solidFill>
                <a:srgbClr val="ffffff"/>
              </a:solidFill>
              <a:latin typeface="Times New Roman"/>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Interim controls</a:t>
            </a:r>
            <a:r>
              <a:rPr b="0" lang="en-US" sz="3200" spc="-1" strike="noStrike">
                <a:solidFill>
                  <a:srgbClr val="ffffff"/>
                </a:solidFill>
                <a:latin typeface="Times New Roman"/>
              </a:rPr>
              <a:t>—control the lead hazard until abatement</a:t>
            </a:r>
            <a:endParaRPr b="0" lang="en-US" sz="3200" spc="-1" strike="noStrike">
              <a:solidFill>
                <a:srgbClr val="ffffff"/>
              </a:solidFill>
              <a:latin typeface="Times New Roman"/>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safe work practices during a lead abatement projec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create a lead hazard while you work</a:t>
            </a:r>
            <a:endParaRPr b="0" lang="en-US" sz="2800" spc="-1" strike="noStrike">
              <a:solidFill>
                <a:srgbClr val="ffffff"/>
              </a:solidFill>
              <a:latin typeface="Times New Roman"/>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 balanced diet</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Good Nutrition</a:t>
            </a:r>
            <a:endParaRPr b="0" i="1" lang="en-US" sz="4400" spc="-1" strike="noStrike">
              <a:solidFill>
                <a:srgbClr val="00cccc"/>
              </a:solidFill>
              <a:latin typeface="Times New Roman"/>
            </a:endParaRPr>
          </a:p>
        </p:txBody>
      </p:sp>
      <p:sp>
        <p:nvSpPr>
          <p:cNvPr id="233"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s high in iron and calcium can reduce lead absorption by the body</a:t>
            </a:r>
            <a:endParaRPr b="0" lang="en-US" sz="3200" spc="-1" strike="noStrike">
              <a:solidFill>
                <a:srgbClr val="ffffff"/>
              </a:solidFill>
              <a:latin typeface="Times New Roman"/>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foods high in iron</a:t>
            </a:r>
            <a:endParaRPr b="0" lang="en-US" sz="3200" spc="-1" strike="noStrike">
              <a:solidFill>
                <a:srgbClr val="ffffff"/>
              </a:solidFill>
              <a:latin typeface="Times New Roman"/>
            </a:endParaRPr>
          </a:p>
          <a:p>
            <a:pPr lvl="1" marL="735480" indent="-28296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ese, fish, meat, eggs, spinach, beans, raisins, almonds, etc.</a:t>
            </a:r>
            <a:endParaRPr b="0" lang="en-US" sz="2800" spc="-1" strike="noStrike">
              <a:solidFill>
                <a:srgbClr val="ffffff"/>
              </a:solidFill>
              <a:latin typeface="Times New Roman"/>
            </a:endParaRPr>
          </a:p>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foods high in calcium</a:t>
            </a:r>
            <a:endParaRPr b="0" lang="en-US" sz="3200" spc="-1" strike="noStrike">
              <a:solidFill>
                <a:srgbClr val="ffffff"/>
              </a:solidFill>
              <a:latin typeface="Times New Roman"/>
            </a:endParaRPr>
          </a:p>
          <a:p>
            <a:pPr lvl="1" marL="735480" indent="-28296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k, cheese, ice cream, yogurt, bread, fish, meat, beans, broccoli, fruits, nuts, etc.</a:t>
            </a:r>
            <a:endParaRPr b="0" lang="en-US" sz="2800" spc="-1" strike="noStrike">
              <a:solidFill>
                <a:srgbClr val="ffffff"/>
              </a:solidFill>
              <a:latin typeface="Times New Roman"/>
            </a:endParaRPr>
          </a:p>
        </p:txBody>
      </p:sp>
      <p:graphicFrame>
        <p:nvGraphicFramePr>
          <p:cNvPr id="234" name=""/>
          <p:cNvGraphicFramePr/>
          <p:nvPr/>
        </p:nvGraphicFramePr>
        <p:xfrm>
          <a:off x="5867280" y="4419720"/>
          <a:ext cx="723960" cy="647640"/>
        </p:xfrm>
        <a:graphic>
          <a:graphicData uri="http://schemas.openxmlformats.org/presentationml/2006/ole">
            <p:oleObj r:id="rId1" spid="">
              <p:embed/>
              <p:pic>
                <p:nvPicPr>
                  <p:cNvPr id="235" name="" descr=""/>
                  <p:cNvPicPr/>
                  <p:nvPr/>
                </p:nvPicPr>
                <p:blipFill>
                  <a:blip r:embed="rId2"/>
                  <a:stretch/>
                </p:blipFill>
                <p:spPr>
                  <a:xfrm>
                    <a:off x="5867280" y="4419720"/>
                    <a:ext cx="723960" cy="647640"/>
                  </a:xfrm>
                  <a:prstGeom prst="rect">
                    <a:avLst/>
                  </a:prstGeom>
                  <a:ln w="0">
                    <a:noFill/>
                  </a:ln>
                </p:spPr>
              </p:pic>
            </p:oleObj>
          </a:graphicData>
        </a:graphic>
      </p:graphicFrame>
      <p:graphicFrame>
        <p:nvGraphicFramePr>
          <p:cNvPr id="236" name=""/>
          <p:cNvGraphicFramePr/>
          <p:nvPr/>
        </p:nvGraphicFramePr>
        <p:xfrm>
          <a:off x="336600" y="5232240"/>
          <a:ext cx="685800" cy="1181160"/>
        </p:xfrm>
        <a:graphic>
          <a:graphicData uri="http://schemas.openxmlformats.org/presentationml/2006/ole">
            <p:oleObj r:id="rId3" spid="">
              <p:embed/>
              <p:pic>
                <p:nvPicPr>
                  <p:cNvPr id="237" name="" descr=""/>
                  <p:cNvPicPr/>
                  <p:nvPr/>
                </p:nvPicPr>
                <p:blipFill>
                  <a:blip r:embed="rId4"/>
                  <a:stretch/>
                </p:blipFill>
                <p:spPr>
                  <a:xfrm>
                    <a:off x="336600" y="5232240"/>
                    <a:ext cx="685800" cy="1181160"/>
                  </a:xfrm>
                  <a:prstGeom prst="rect">
                    <a:avLst/>
                  </a:prstGeom>
                  <a:ln w="0">
                    <a:noFill/>
                  </a:ln>
                </p:spPr>
              </p:pic>
            </p:oleObj>
          </a:graphicData>
        </a:graphic>
      </p:graphicFrame>
      <p:graphicFrame>
        <p:nvGraphicFramePr>
          <p:cNvPr id="238" name=""/>
          <p:cNvGraphicFramePr/>
          <p:nvPr/>
        </p:nvGraphicFramePr>
        <p:xfrm>
          <a:off x="6629400" y="2743200"/>
          <a:ext cx="1854360" cy="762120"/>
        </p:xfrm>
        <a:graphic>
          <a:graphicData uri="http://schemas.openxmlformats.org/presentationml/2006/ole">
            <p:oleObj r:id="rId5" spid="">
              <p:embed/>
              <p:pic>
                <p:nvPicPr>
                  <p:cNvPr id="239" name="" descr=""/>
                  <p:cNvPicPr/>
                  <p:nvPr/>
                </p:nvPicPr>
                <p:blipFill>
                  <a:blip r:embed="rId6"/>
                  <a:stretch/>
                </p:blipFill>
                <p:spPr>
                  <a:xfrm>
                    <a:off x="6629400" y="2743200"/>
                    <a:ext cx="1854360" cy="7621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Summary</a:t>
            </a:r>
            <a:endParaRPr b="0" i="1" lang="en-US" sz="4400" spc="-1" strike="noStrike">
              <a:solidFill>
                <a:srgbClr val="00cccc"/>
              </a:solidFill>
              <a:latin typeface="Times New Roman"/>
            </a:endParaRPr>
          </a:p>
        </p:txBody>
      </p:sp>
      <p:sp>
        <p:nvSpPr>
          <p:cNvPr id="241"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lead enter our bodies?</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lead harm a child?</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lead harm an adult?</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doctors or nurses measure for lead in our bodies?</a:t>
            </a:r>
            <a:endParaRPr b="0" lang="en-US" sz="32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you prevent lead poison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72"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Learning Objectives</a:t>
            </a:r>
            <a:endParaRPr b="0" i="1" lang="en-US" sz="4400" spc="-1" strike="noStrike">
              <a:solidFill>
                <a:srgbClr val="00cccc"/>
              </a:solidFill>
              <a:latin typeface="Times New Roman"/>
            </a:endParaRPr>
          </a:p>
        </p:txBody>
      </p:sp>
      <p:sp>
        <p:nvSpPr>
          <p:cNvPr id="73" name="PlaceHolder 2"/>
          <p:cNvSpPr>
            <a:spLocks noGrp="1"/>
          </p:cNvSpPr>
          <p:nvPr>
            <p:ph/>
          </p:nvPr>
        </p:nvSpPr>
        <p:spPr>
          <a:xfrm>
            <a:off x="609480" y="205740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is section you will lear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lead enters the bod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hildren are affected by lea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lead levels in the body are measure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lead poisoning can be prevented</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79" name="PlaceHolder 1"/>
          <p:cNvSpPr>
            <a:spLocks noGrp="1"/>
          </p:cNvSpPr>
          <p:nvPr>
            <p:ph type="title"/>
          </p:nvPr>
        </p:nvSpPr>
        <p:spPr>
          <a:xfrm>
            <a:off x="990360" y="475920"/>
            <a:ext cx="70866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Routes of Exposure to Lead</a:t>
            </a:r>
            <a:endParaRPr b="0" i="1" lang="en-US" sz="4400" spc="-1" strike="noStrike">
              <a:solidFill>
                <a:srgbClr val="00cccc"/>
              </a:solidFill>
              <a:latin typeface="Times New Roman"/>
            </a:endParaRPr>
          </a:p>
        </p:txBody>
      </p:sp>
      <p:sp>
        <p:nvSpPr>
          <p:cNvPr id="80" name="PlaceHolder 2"/>
          <p:cNvSpPr>
            <a:spLocks noGrp="1"/>
          </p:cNvSpPr>
          <p:nvPr>
            <p:ph/>
          </p:nvPr>
        </p:nvSpPr>
        <p:spPr>
          <a:xfrm>
            <a:off x="609480" y="2057400"/>
            <a:ext cx="601992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ing (Ingestio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particles on hands transferred to food, drinks, cigarettes</a:t>
            </a:r>
            <a:endParaRPr b="0" lang="en-US" sz="2800" spc="-1" strike="noStrike">
              <a:solidFill>
                <a:srgbClr val="ffffff"/>
              </a:solidFill>
              <a:latin typeface="Times New Roman"/>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thing (Inhalation)</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particles in the air</a:t>
            </a:r>
            <a:endParaRPr b="0" lang="en-US" sz="2800" spc="-1" strike="noStrike">
              <a:solidFill>
                <a:srgbClr val="ffffff"/>
              </a:solidFill>
              <a:latin typeface="Times New Roman"/>
            </a:endParaRPr>
          </a:p>
        </p:txBody>
      </p:sp>
      <p:graphicFrame>
        <p:nvGraphicFramePr>
          <p:cNvPr id="81" name=""/>
          <p:cNvGraphicFramePr/>
          <p:nvPr/>
        </p:nvGraphicFramePr>
        <p:xfrm>
          <a:off x="6858000" y="1905120"/>
          <a:ext cx="1920960" cy="1547640"/>
        </p:xfrm>
        <a:graphic>
          <a:graphicData uri="http://schemas.openxmlformats.org/presentationml/2006/ole">
            <p:oleObj r:id="rId1" spid="">
              <p:embed/>
              <p:pic>
                <p:nvPicPr>
                  <p:cNvPr id="82" name="" descr=""/>
                  <p:cNvPicPr/>
                  <p:nvPr/>
                </p:nvPicPr>
                <p:blipFill>
                  <a:blip r:embed="rId2"/>
                  <a:stretch/>
                </p:blipFill>
                <p:spPr>
                  <a:xfrm>
                    <a:off x="6858000" y="1905120"/>
                    <a:ext cx="1920960" cy="1547640"/>
                  </a:xfrm>
                  <a:prstGeom prst="rect">
                    <a:avLst/>
                  </a:prstGeom>
                  <a:ln w="0">
                    <a:noFill/>
                  </a:ln>
                </p:spPr>
              </p:pic>
            </p:oleObj>
          </a:graphicData>
        </a:graphic>
      </p:graphicFrame>
      <p:pic>
        <p:nvPicPr>
          <p:cNvPr id="83" name="" descr=""/>
          <p:cNvPicPr/>
          <p:nvPr/>
        </p:nvPicPr>
        <p:blipFill>
          <a:blip r:embed="rId3"/>
          <a:stretch/>
        </p:blipFill>
        <p:spPr>
          <a:xfrm>
            <a:off x="5562720" y="4114800"/>
            <a:ext cx="1663560" cy="2031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89" name="PlaceHolder 1"/>
          <p:cNvSpPr>
            <a:spLocks noGrp="1"/>
          </p:cNvSpPr>
          <p:nvPr>
            <p:ph type="title"/>
          </p:nvPr>
        </p:nvSpPr>
        <p:spPr>
          <a:xfrm>
            <a:off x="747720" y="491760"/>
            <a:ext cx="815328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90" name="PlaceHolder 2"/>
          <p:cNvSpPr>
            <a:spLocks noGrp="1"/>
          </p:cNvSpPr>
          <p:nvPr>
            <p:ph/>
          </p:nvPr>
        </p:nvSpPr>
        <p:spPr>
          <a:xfrm>
            <a:off x="6094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and Blood System</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attaches to red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s cells from carrying oxygen</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s the red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s ability to make more red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cause high blood pressure</a:t>
            </a:r>
            <a:endParaRPr b="0" lang="en-US" sz="2800" spc="-1" strike="noStrike">
              <a:solidFill>
                <a:srgbClr val="ffffff"/>
              </a:solidFill>
              <a:latin typeface="Times New Roman"/>
            </a:endParaRPr>
          </a:p>
        </p:txBody>
      </p:sp>
      <p:graphicFrame>
        <p:nvGraphicFramePr>
          <p:cNvPr id="91" name=""/>
          <p:cNvGraphicFramePr/>
          <p:nvPr/>
        </p:nvGraphicFramePr>
        <p:xfrm>
          <a:off x="7238880" y="1523880"/>
          <a:ext cx="1433520" cy="2603520"/>
        </p:xfrm>
        <a:graphic>
          <a:graphicData uri="http://schemas.openxmlformats.org/presentationml/2006/ole">
            <p:oleObj r:id="rId1" spid="">
              <p:embed/>
              <p:pic>
                <p:nvPicPr>
                  <p:cNvPr id="92" name="" descr=""/>
                  <p:cNvPicPr/>
                  <p:nvPr/>
                </p:nvPicPr>
                <p:blipFill>
                  <a:blip r:embed="rId2"/>
                  <a:stretch/>
                </p:blipFill>
                <p:spPr>
                  <a:xfrm>
                    <a:off x="7238880" y="1523880"/>
                    <a:ext cx="1433520" cy="26035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98" name="PlaceHolder 1"/>
          <p:cNvSpPr>
            <a:spLocks noGrp="1"/>
          </p:cNvSpPr>
          <p:nvPr>
            <p:ph type="title"/>
          </p:nvPr>
        </p:nvSpPr>
        <p:spPr>
          <a:xfrm>
            <a:off x="791640" y="475920"/>
            <a:ext cx="807732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99"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ney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5% of lead in blood is filtered in kidney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can damage kidney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damage is not detected until it’s too late</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ause kidney failure</a:t>
            </a:r>
            <a:endParaRPr b="0" lang="en-US" sz="2800" spc="-1" strike="noStrike">
              <a:solidFill>
                <a:srgbClr val="ffffff"/>
              </a:solidFill>
              <a:latin typeface="Times New Roman"/>
            </a:endParaRPr>
          </a:p>
        </p:txBody>
      </p:sp>
      <p:graphicFrame>
        <p:nvGraphicFramePr>
          <p:cNvPr id="100" name=""/>
          <p:cNvGraphicFramePr/>
          <p:nvPr/>
        </p:nvGraphicFramePr>
        <p:xfrm>
          <a:off x="6405480" y="4343400"/>
          <a:ext cx="1328760" cy="2004840"/>
        </p:xfrm>
        <a:graphic>
          <a:graphicData uri="http://schemas.openxmlformats.org/presentationml/2006/ole">
            <p:oleObj r:id="rId1" spid="">
              <p:embed/>
              <p:pic>
                <p:nvPicPr>
                  <p:cNvPr id="101" name="" descr=""/>
                  <p:cNvPicPr/>
                  <p:nvPr/>
                </p:nvPicPr>
                <p:blipFill>
                  <a:blip r:embed="rId2"/>
                  <a:stretch/>
                </p:blipFill>
                <p:spPr>
                  <a:xfrm>
                    <a:off x="6405480" y="4343400"/>
                    <a:ext cx="1328760" cy="20048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823680" y="460080"/>
            <a:ext cx="800100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08"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rvous System</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affected by lea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can be perman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can damage the brain and destroy</a:t>
            </a:r>
            <a:br>
              <a:rPr sz="2800"/>
            </a:br>
            <a:r>
              <a:rPr b="0" lang="en-US" sz="2800" spc="-1" strike="noStrike">
                <a:solidFill>
                  <a:srgbClr val="ffffff"/>
                </a:solidFill>
                <a:latin typeface="Times New Roman"/>
              </a:rPr>
              <a:t>brain cell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can result in depression, irritability, forgetfulness, clumsiness, learning disabili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exposure can result in hallucinations, coma, and even death</a:t>
            </a:r>
            <a:endParaRPr b="0" lang="en-US" sz="2800" spc="-1" strike="noStrike">
              <a:solidFill>
                <a:srgbClr val="ffffff"/>
              </a:solidFill>
              <a:latin typeface="Times New Roman"/>
            </a:endParaRPr>
          </a:p>
        </p:txBody>
      </p:sp>
      <p:graphicFrame>
        <p:nvGraphicFramePr>
          <p:cNvPr id="109" name=""/>
          <p:cNvGraphicFramePr/>
          <p:nvPr/>
        </p:nvGraphicFramePr>
        <p:xfrm>
          <a:off x="7404120" y="1600200"/>
          <a:ext cx="1612800" cy="3646440"/>
        </p:xfrm>
        <a:graphic>
          <a:graphicData uri="http://schemas.openxmlformats.org/presentationml/2006/ole">
            <p:oleObj r:id="rId1" spid="">
              <p:embed/>
              <p:pic>
                <p:nvPicPr>
                  <p:cNvPr id="110" name="" descr=""/>
                  <p:cNvPicPr/>
                  <p:nvPr/>
                </p:nvPicPr>
                <p:blipFill>
                  <a:blip r:embed="rId2"/>
                  <a:stretch/>
                </p:blipFill>
                <p:spPr>
                  <a:xfrm>
                    <a:off x="7404120" y="1600200"/>
                    <a:ext cx="1612800" cy="36464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914040" y="475920"/>
            <a:ext cx="792468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17"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ne Tissue</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d from blood is deposited in bone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s calcium release into bloo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cks production of new blood cell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nes and teeth store 95% of lead in bod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d in bone tissues for over 30 year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stress, lead is released from bone tissue</a:t>
            </a:r>
            <a:endParaRPr b="0" lang="en-US" sz="2800" spc="-1" strike="noStrike">
              <a:solidFill>
                <a:srgbClr val="ffffff"/>
              </a:solidFill>
              <a:latin typeface="Times New Roman"/>
            </a:endParaRPr>
          </a:p>
        </p:txBody>
      </p:sp>
      <p:sp>
        <p:nvSpPr>
          <p:cNvPr id="118" name=""/>
          <p:cNvSpPr/>
          <p:nvPr/>
        </p:nvSpPr>
        <p:spPr>
          <a:xfrm>
            <a:off x="7440120" y="361008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19" name=""/>
          <p:cNvSpPr/>
          <p:nvPr/>
        </p:nvSpPr>
        <p:spPr>
          <a:xfrm>
            <a:off x="7440120" y="37609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ffffff"/>
              </a:solidFill>
              <a:latin typeface="Times New Roman"/>
            </a:endParaRPr>
          </a:p>
        </p:txBody>
      </p:sp>
      <p:graphicFrame>
        <p:nvGraphicFramePr>
          <p:cNvPr id="120" name=""/>
          <p:cNvGraphicFramePr/>
          <p:nvPr/>
        </p:nvGraphicFramePr>
        <p:xfrm>
          <a:off x="7404120" y="1512720"/>
          <a:ext cx="1582560" cy="3527640"/>
        </p:xfrm>
        <a:graphic>
          <a:graphicData uri="http://schemas.openxmlformats.org/presentationml/2006/ole">
            <p:oleObj r:id="rId1" spid="">
              <p:embed/>
              <p:pic>
                <p:nvPicPr>
                  <p:cNvPr id="121" name="" descr=""/>
                  <p:cNvPicPr/>
                  <p:nvPr/>
                </p:nvPicPr>
                <p:blipFill>
                  <a:blip r:embed="rId2"/>
                  <a:stretch/>
                </p:blipFill>
                <p:spPr>
                  <a:xfrm>
                    <a:off x="7404120" y="1512720"/>
                    <a:ext cx="1582560" cy="35276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838080" y="491760"/>
            <a:ext cx="792504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28" name="PlaceHolder 2"/>
          <p:cNvSpPr>
            <a:spLocks noGrp="1"/>
          </p:cNvSpPr>
          <p:nvPr>
            <p:ph/>
          </p:nvPr>
        </p:nvSpPr>
        <p:spPr>
          <a:xfrm>
            <a:off x="611280" y="2055960"/>
            <a:ext cx="6703920" cy="4114800"/>
          </a:xfrm>
          <a:prstGeom prst="rect">
            <a:avLst/>
          </a:prstGeom>
          <a:noFill/>
          <a:ln w="0">
            <a:noFill/>
          </a:ln>
        </p:spPr>
        <p:txBody>
          <a:bodyPr lIns="90360" rIns="90360" tIns="44280" bIns="442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male Reproductive Health &amp; Pregnancy</a:t>
            </a:r>
            <a:endParaRPr b="0" lang="en-US" sz="28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es fertility</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ects menstruation and menopause</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pregnancy, body absorbs blood lead more quickly (50% of inhaled/ingested lead)</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d passes through placenta to fetu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brain damage to fetus</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miscarriage or premature birth</a:t>
            </a:r>
            <a:endParaRPr b="0" lang="en-US" sz="2400" spc="-1" strike="noStrike">
              <a:solidFill>
                <a:srgbClr val="ffffff"/>
              </a:solidFill>
              <a:latin typeface="Times New Roman"/>
            </a:endParaRPr>
          </a:p>
          <a:p>
            <a:pPr lvl="1" marL="743040" indent="-285840">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be released from bones back to blood</a:t>
            </a:r>
            <a:endParaRPr b="0" lang="en-US" sz="2400" spc="-1" strike="noStrike">
              <a:solidFill>
                <a:srgbClr val="ffffff"/>
              </a:solidFill>
              <a:latin typeface="Times New Roman"/>
            </a:endParaRPr>
          </a:p>
        </p:txBody>
      </p:sp>
      <p:graphicFrame>
        <p:nvGraphicFramePr>
          <p:cNvPr id="129" name=""/>
          <p:cNvGraphicFramePr/>
          <p:nvPr/>
        </p:nvGraphicFramePr>
        <p:xfrm>
          <a:off x="7467480" y="3124080"/>
          <a:ext cx="1330560" cy="2184480"/>
        </p:xfrm>
        <a:graphic>
          <a:graphicData uri="http://schemas.openxmlformats.org/presentationml/2006/ole">
            <p:oleObj r:id="rId1" spid="">
              <p:embed/>
              <p:pic>
                <p:nvPicPr>
                  <p:cNvPr id="130" name="" descr=""/>
                  <p:cNvPicPr/>
                  <p:nvPr/>
                </p:nvPicPr>
                <p:blipFill>
                  <a:blip r:embed="rId2"/>
                  <a:stretch/>
                </p:blipFill>
                <p:spPr>
                  <a:xfrm>
                    <a:off x="7467480" y="3124080"/>
                    <a:ext cx="1330560" cy="2184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083"/>
            </a:gs>
            <a:gs pos="50000">
              <a:srgbClr val="500093"/>
            </a:gs>
            <a:gs pos="100000">
              <a:srgbClr val="470083"/>
            </a:gs>
          </a:gsLst>
          <a:lin ang="5400000"/>
        </a:gra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553080" y="624852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974520" y="490320"/>
            <a:ext cx="7924680" cy="1276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How Lead Can Harm Your Body</a:t>
            </a:r>
            <a:endParaRPr b="0" i="1" lang="en-US" sz="4400" spc="-1" strike="noStrike">
              <a:solidFill>
                <a:srgbClr val="00cccc"/>
              </a:solidFill>
              <a:latin typeface="Times New Roman"/>
            </a:endParaRPr>
          </a:p>
        </p:txBody>
      </p:sp>
      <p:sp>
        <p:nvSpPr>
          <p:cNvPr id="137" name="PlaceHolder 2"/>
          <p:cNvSpPr>
            <a:spLocks noGrp="1"/>
          </p:cNvSpPr>
          <p:nvPr>
            <p:ph/>
          </p:nvPr>
        </p:nvSpPr>
        <p:spPr>
          <a:xfrm>
            <a:off x="611280" y="2055960"/>
            <a:ext cx="7772400" cy="4114800"/>
          </a:xfrm>
          <a:prstGeom prst="rect">
            <a:avLst/>
          </a:prstGeom>
          <a:noFill/>
          <a:ln w="0">
            <a:noFill/>
          </a:ln>
        </p:spPr>
        <p:txBody>
          <a:bodyPr lIns="90360" rIns="90360" tIns="44280" bIns="442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le Reproductive System</a:t>
            </a:r>
            <a:endParaRPr b="0" lang="en-US" sz="32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libido</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ertilit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mage to sperm, decreased motility</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s spouses chance of miscarriage, premature birth, and birth defects in child</a:t>
            </a:r>
            <a:endParaRPr b="0" lang="en-US" sz="2800" spc="-1" strike="noStrike">
              <a:solidFill>
                <a:srgbClr val="ffffff"/>
              </a:solidFill>
              <a:latin typeface="Times New Roman"/>
            </a:endParaRPr>
          </a:p>
        </p:txBody>
      </p:sp>
      <p:graphicFrame>
        <p:nvGraphicFramePr>
          <p:cNvPr id="138" name=""/>
          <p:cNvGraphicFramePr/>
          <p:nvPr/>
        </p:nvGraphicFramePr>
        <p:xfrm>
          <a:off x="7248600" y="1717560"/>
          <a:ext cx="1869840" cy="4276800"/>
        </p:xfrm>
        <a:graphic>
          <a:graphicData uri="http://schemas.openxmlformats.org/presentationml/2006/ole">
            <p:oleObj r:id="rId1" spid="">
              <p:embed/>
              <p:pic>
                <p:nvPicPr>
                  <p:cNvPr id="139" name="" descr=""/>
                  <p:cNvPicPr/>
                  <p:nvPr/>
                </p:nvPicPr>
                <p:blipFill>
                  <a:blip r:embed="rId2"/>
                  <a:stretch/>
                </p:blipFill>
                <p:spPr>
                  <a:xfrm>
                    <a:off x="7248600" y="1717560"/>
                    <a:ext cx="1869840" cy="4276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2T10:33:31Z</dcterms:created>
  <dc:creator>Eliesh O'Neil Lane</dc:creator>
  <dc:description/>
  <cp:keywords/>
  <dc:language>en-US</dc:language>
  <cp:lastModifiedBy>13242</cp:lastModifiedBy>
  <cp:lastPrinted>1998-06-18T15:08:08Z</cp:lastPrinted>
  <dcterms:modified xsi:type="dcterms:W3CDTF">2004-05-24T16:08:30Z</dcterms:modified>
  <cp:revision>69</cp:revision>
  <dc:subject/>
  <dc:title>Health Effects of Le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